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DDF5-CD04-4E41-9A91-1A45C3AF8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77D0-FD71-4ED4-86A6-B757FA137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FE0D-0823-4AE8-AA54-CD0E54B6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FA88-996C-4DC3-B673-48AAA1438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D2C0-9923-4E1C-AF6D-E6794D499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B5B6-243C-45F1-A455-0498D300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0B0D-3029-4A64-95EF-00ADB94F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7366-AA0B-4678-B4F9-78372CC4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37A3-048D-4303-B55E-34669B84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A116-D977-487B-A900-7F018135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F0F8-AAFF-4F2A-A22E-72B6A8CA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3132-8B61-4F38-8570-B4B4D3B5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ADDF-1C88-4D99-9305-9D96C642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505F-5C99-4BA8-8178-9F75FD5D0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800" spc="-1" strike="noStrike">
                <a:solidFill>
                  <a:srgbClr val="000000"/>
                </a:solidFill>
                <a:latin typeface="Pigiarniq"/>
              </a:rPr>
              <a:t>ᐃᒻᒥᓂᒃ ᒪᑭᑕᔪᓐᓇᖅᑐᖅ ᓄᓇᓕ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666880" y="0"/>
            <a:ext cx="373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Pigiarniq"/>
              </a:rPr>
              <a:t>ᒪᒃᑯᒃᑐ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838080"/>
            <a:ext cx="7315200" cy="52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Pigiarniq"/>
              </a:rPr>
              <a:t>“</a:t>
            </a:r>
            <a:r>
              <a:rPr b="0" lang="id-ID" sz="2400" spc="-1" strike="noStrike">
                <a:solidFill>
                  <a:srgbClr val="333399"/>
                </a:solidFill>
                <a:latin typeface="Pigiarniq"/>
              </a:rPr>
              <a:t>ᐊᑲᐅᓂᖅᐹᖑᖅᑰᖅᑐᖅ ᐸᕐᓇᖕᓂᐊᕐᓗᓂ (ᓯᕗᓂᒃᓴᒧᑦ) ᐱᓕᒻᒪᒃᓴᖃᑦᑕᕐᓗᓂ ᐊᒻᒪ ᐱᓕᕆᑦᑎᐊᒻᒪᕆᖃᑦᑕᕐᓗᓂ</a:t>
            </a:r>
            <a:r>
              <a:rPr b="0" lang="en-US" sz="2400" spc="-1" strike="noStrike">
                <a:solidFill>
                  <a:srgbClr val="333399"/>
                </a:solidFill>
                <a:latin typeface="Pigiarniq"/>
              </a:rPr>
              <a:t>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333399"/>
                </a:solidFill>
                <a:latin typeface="Pigiarniq"/>
              </a:rPr>
              <a:t>ᐃᓄᒃ ᒪᒃᑯᒃᑐᖅ, ᕗᕋᓐ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Pigiarniq"/>
              </a:rPr>
              <a:t> </a:t>
            </a:r>
            <a:r>
              <a:rPr b="0" lang="id-ID" sz="2000" spc="-1" strike="noStrike">
                <a:solidFill>
                  <a:srgbClr val="333399"/>
                </a:solidFill>
                <a:latin typeface="Pigiarniq"/>
              </a:rPr>
              <a:t>ᑲᓇᑕᒥ ᐃᓄᐃᑦ ᒪᒃᑯᒃᑐᑦ ᑲᑎᒪᕐᔪᐊᖅᑎᓪᓗᒋᑦ</a:t>
            </a:r>
            <a:r>
              <a:rPr b="0" lang="en-US" sz="2000" spc="-1" strike="noStrike">
                <a:solidFill>
                  <a:srgbClr val="333399"/>
                </a:solidFill>
                <a:latin typeface="Pigiarniq"/>
              </a:rPr>
              <a:t>, 200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Pigiarniq"/>
              </a:rPr>
              <a:t>“</a:t>
            </a:r>
            <a:r>
              <a:rPr b="0" lang="id-ID" sz="2400" spc="-1" strike="noStrike">
                <a:solidFill>
                  <a:srgbClr val="333399"/>
                </a:solidFill>
                <a:latin typeface="Pigiarniq"/>
              </a:rPr>
              <a:t>ᐸᕐᓇᖕᓂᐊᕐᓗᓂ ᓯᕗᓂᒃᓴᒧᑦ ᖃᓄᐃᖏᑦᑎᐊᕆᐊᖃᕋᑦᑕ...ᖃᓄᐃᖏᑦᑎᐊᖅᑎᓪᓗᑕ ᐃᑲᔪᖃᑎᒌᒍᓐᓇᕋᑦᑕ, ᐱᔭᕇᕐᓯᔪᓐᓇᖅᑐᒍᑦ ᑭᓱᑐᐃᓐᓇᑦᑎᐊᒥᒃ</a:t>
            </a:r>
            <a:r>
              <a:rPr b="0" lang="en-US" sz="2400" spc="-1" strike="noStrike">
                <a:solidFill>
                  <a:srgbClr val="333399"/>
                </a:solidFill>
                <a:latin typeface="Pigiarniq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Pigiarniq"/>
              </a:rPr>
              <a:t> </a:t>
            </a:r>
            <a:r>
              <a:rPr b="0" lang="id-ID" sz="2000" spc="-1" strike="noStrike">
                <a:solidFill>
                  <a:srgbClr val="333399"/>
                </a:solidFill>
                <a:latin typeface="Pigiarniq"/>
              </a:rPr>
              <a:t>ᑲᑐᕆᓐ ᓯᐳ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333399"/>
                </a:solidFill>
                <a:latin typeface="Pigiarniq"/>
              </a:rPr>
              <a:t>ᑲᓇᑕᒥ ᐃᓄᐃᑦ ᒪᒃᑯᒃᑐᑦ ᑲᑎᒪᕐᔪᐊᖅᑎᓪᓗᒋᑦ</a:t>
            </a:r>
            <a:r>
              <a:rPr b="0" lang="en-US" sz="2000" spc="-1" strike="noStrike">
                <a:solidFill>
                  <a:srgbClr val="333399"/>
                </a:solidFill>
                <a:latin typeface="Pigiarniq"/>
              </a:rPr>
              <a:t>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057400" y="5335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Pigiarniq"/>
              </a:rPr>
              <a:t>ᐃᓕᓐᓂᐊᕐᓂᓕᕆᓂ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981080"/>
            <a:ext cx="822960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Pigiarniq"/>
              </a:rPr>
              <a:t>“</a:t>
            </a:r>
            <a:r>
              <a:rPr b="0" lang="id-ID" sz="2800" spc="-1" strike="noStrike">
                <a:solidFill>
                  <a:srgbClr val="333399"/>
                </a:solidFill>
                <a:latin typeface="Pigiarniq"/>
              </a:rPr>
              <a:t>ᖃᓪᓗᓈᑦ ᓄᓇᖓᓂᕐᒥᐅᑕᑐᐊᖑᖏᑦᑐᑦ ᓄᓇᕗᒥᒃ ᐃᓕᓐᓂᐊᓕᖅᑐᑦ, ᓄᓇᕗᒥᑕᐅᔪᑦᑕᐅᖅ ᐃᓕᓐᓂᐊᖅᑐᑦ ᑭᓇᐅᓂᕐᒥᖕᓂᒃ, ᓇᒧᓐᖓᐅᓂᕐᒥᖕᓂᒃ, ᐊᒻᒪ ᐱᓗᐊᖅᑐᒥᒃ ᒪᒃᑯᒃᑐᑦ.  ᑖᒃᑯᐊ ᓂᕆᐅᖕᓂᖃᑦᓯᐊᖅᑐᑦ ᐊᒻᒪ ᐱᓕᕆᔪᒪᓂᖃᑦᓯᐊᖅᑐᑦ ᖃᓄᐃᓕᓂᖃᕐᓂᐊᕐᒪᖔᑦ ᓄᓇᕗᑦ ᒐᕙᒪᒃᑯᖏᑦ ᐱᑕᖃᓕᖅᐸᑕ</a:t>
            </a:r>
            <a:r>
              <a:rPr b="0" lang="en-US" sz="2800" spc="-1" strike="noStrike">
                <a:solidFill>
                  <a:srgbClr val="333399"/>
                </a:solidFill>
                <a:latin typeface="Pigiarniq"/>
              </a:rPr>
              <a:t>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333399"/>
                </a:solidFill>
                <a:latin typeface="Pigiarniq"/>
              </a:rPr>
              <a:t>ᐄᕙ ᐋᕆᐊᒃ - ᐅᖃᐅᓯᓕᕆᓂᕐᒧᑦ ᑲᒥᓴᓇᐅᓚᐅᕐᓯᒪᔪᖅ ᓄᓇᕗ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9246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Pigiarniq"/>
              </a:rPr>
              <a:t>ᐊᐅᓚᔾᔭᐃᓂᖅ ᑐᕌᒐᖃᕐᓗᓂ ᐃᒻᒥᓂᒃ ᒪᑭᑕᔪᓐᓇᑦᑎᐊᖅᑐᒥᒃ ᓯᕗᓂᒃᓴᖃᕐᓂᕐᒥ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6934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Pigiarniq"/>
              </a:rPr>
              <a:t>“ </a:t>
            </a:r>
            <a:r>
              <a:rPr b="0" i="1" lang="id-ID" sz="2800" spc="-1" strike="noStrike">
                <a:solidFill>
                  <a:srgbClr val="333399"/>
                </a:solidFill>
                <a:latin typeface="Pigiarniq"/>
              </a:rPr>
              <a:t>ᕿᒫᖏᓪᓗᑎᑦ ᐊᑲᐅᓐᖏᓕᐅᕈᑎᒋᔭᕐᓂᑦ, ᓵᓪᓗᖔᕐᓗᒍ</a:t>
            </a:r>
            <a:r>
              <a:rPr b="0" i="1" lang="en-US" sz="2800" spc="-1" strike="noStrike">
                <a:solidFill>
                  <a:srgbClr val="333399"/>
                </a:solidFill>
                <a:latin typeface="Pigiarniq"/>
              </a:rPr>
              <a:t>!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Pigiarniq"/>
              </a:rPr>
              <a:t>– </a:t>
            </a:r>
            <a:r>
              <a:rPr b="0" i="1" lang="id-ID" sz="2800" spc="-1" strike="noStrike">
                <a:solidFill>
                  <a:srgbClr val="333399"/>
                </a:solidFill>
                <a:latin typeface="Pigiarniq"/>
              </a:rPr>
              <a:t>ᓘᒃᑖᖅ ᐲᑕ ᐃᕐᓂ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000" spc="-1" strike="noStrike">
                <a:solidFill>
                  <a:srgbClr val="333399"/>
                </a:solidFill>
                <a:latin typeface="Pigiarniq"/>
              </a:rPr>
              <a:t>ᑲᒥᓴᓇᐅᓚᐅᕐᓯᒪᔪᖅ ᓄᓇᕗᒧ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1066680"/>
            <a:ext cx="41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000" spc="-1" strike="noStrike">
                <a:solidFill>
                  <a:srgbClr val="000000"/>
                </a:solidFill>
                <a:latin typeface="Pigiarniq"/>
              </a:rPr>
              <a:t>ᑭᓲᕙ ᐃᓄᐃᑦ ᖃᐅᔨᒪᔭᑐᖃᖏᑦ?</a:t>
            </a: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1752480"/>
            <a:ext cx="8229600" cy="32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Pigiarniq"/>
              </a:rPr>
              <a:t>“</a:t>
            </a:r>
            <a:r>
              <a:rPr b="0" lang="id-ID" sz="2000" spc="-1" strike="noStrike">
                <a:solidFill>
                  <a:srgbClr val="333399"/>
                </a:solidFill>
                <a:latin typeface="Pigiarniq"/>
              </a:rPr>
              <a:t>ᖃᐅᔨᒪᔭᑐᖃᖏᑦ ᑕᐃᓯᕗᖅ “ᖃᓄᐃᖏᑦᑎᐊᖅᑐᓄᑦ, “ᒪᑭᒪᔪᓐᓇᖅᑐᓄᑦ ᓇᖕᒥᓂᖅ ᓄᓇᓕᐅᔪ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333399"/>
                </a:solidFill>
                <a:latin typeface="Pigiarniq"/>
              </a:rPr>
              <a:t>ᐅᑎᖅᑎᑦᑎᔪᑦ ᐱᔪᓐᓇᐅᑎᒥᖕᓂᒃ ᓂᓪᓕᐅᑎᖃᕈᓐᓇᕐᓂᕐᒧᑦ ᒪᓕᒐᓕᐅᖅᑕᐅᑎᓪᓗᒋᑦ ᐃᓅᓯᖏᑦ ᐊᑐᕐᖢᑎᒃ ᒪᓕᒐᕐᓂᒃ ᐊᒻᒪ ᐃᓄᐃᑦ ᐱᖅᑯᓯᑦᑎᐊᕙᖏᓐᓂᒃ ᐃᓚᒋᔭᐅᓪᓗᑎᒡᓗ ᑭᓇᐅᓂᖏᓐᓄᑦ ᐊᒻᒪ ᑭᓲᓂᖏᓐᓄᑦ</a:t>
            </a:r>
            <a:r>
              <a:rPr b="0" lang="en-US" sz="2000" spc="-1" strike="noStrike">
                <a:solidFill>
                  <a:srgbClr val="333399"/>
                </a:solidFill>
                <a:latin typeface="Pigiarniq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Pigiarniq"/>
              </a:rPr>
              <a:t>-- </a:t>
            </a:r>
            <a:r>
              <a:rPr b="0" lang="id-ID" sz="2000" spc="-1" strike="noStrike">
                <a:solidFill>
                  <a:srgbClr val="333399"/>
                </a:solidFill>
                <a:latin typeface="Pigiarniq"/>
              </a:rPr>
              <a:t>ᔭᐃᐱᑎ ᐊᕐᓇᒃᑲ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Pigiarniq"/>
              </a:rPr>
              <a:t>(</a:t>
            </a:r>
            <a:r>
              <a:rPr b="0" lang="id-ID" sz="2000" spc="-1" strike="noStrike">
                <a:solidFill>
                  <a:srgbClr val="333399"/>
                </a:solidFill>
                <a:latin typeface="Pigiarniq"/>
              </a:rPr>
              <a:t>ᓄᓇᕗᒥ ᐃᓅᓯᓕᕆᓂᕐᒧᑦ ᐱᕙᓪᓕᐊᑎᑦᑎᓂᕐᒧᑦ ᑲᑎᒪᔨ</a:t>
            </a:r>
            <a:r>
              <a:rPr b="0" lang="en-US" sz="2000" spc="-1" strike="noStrike">
                <a:solidFill>
                  <a:srgbClr val="333399"/>
                </a:solidFill>
                <a:latin typeface="Pigiarniq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Pigiarniq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09680" y="457200"/>
            <a:ext cx="49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Pigiarniq"/>
              </a:rPr>
              <a:t>ᐃᓐᓇᐃ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52480"/>
            <a:ext cx="845820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Pigiarniq"/>
              </a:rPr>
              <a:t>“</a:t>
            </a:r>
            <a:r>
              <a:rPr b="0" lang="id-ID" sz="2800" spc="-1" strike="noStrike">
                <a:solidFill>
                  <a:srgbClr val="333399"/>
                </a:solidFill>
                <a:latin typeface="Pigiarniq"/>
              </a:rPr>
              <a:t>ᐃᓄᐃᑦ ᐃᓕᖅᑯᓯᖏᓐᓂ ᐅᒃᐱᕆᔭᐅᔪᖅ ᑐᐊᕕᕆᐊᖃᖏᓐᓂᖏᓐᓂᒃ ᐊᓯᔾᔨᕐᓯᑎᓪᓗᒋᑦ, ᑭᓯᐊᓂᓕ ᐊᓯᔾᔨᖅᑕᐅᓂᐊᖅᑐᑦ ᐃᓱᒪᒃᓴᕐᓯᐅᕈᑕᐅᑦᑎᐊᓚᐅᕐᓗᑎᒃ, ᐸᕐᓇᒃᑕᐅᑦᑎᐊᓚᐅᕐᓗᑐᒃ ᐊᒻᒪ ᐃᖅᑲᒋᓗᒋᑦ ᑕᐃᒃᑯᐊ ᐱᔨᑦᓯᖅᑕᑎᑦ. ᐊᐱᕆᕙᒃᑕᕗᑦ ᐃᓐᓇᐅᔪᑦ ᖃᐅᔨᒪᓂᖅᓴᐅᓂᖏᓐᓄᑦ ᐅᕙᑦᑎᓐᓂᑦ</a:t>
            </a:r>
            <a:r>
              <a:rPr b="0" lang="en-US" sz="2800" spc="-1" strike="noStrike">
                <a:solidFill>
                  <a:srgbClr val="333399"/>
                </a:solidFill>
                <a:latin typeface="Pigiarniq"/>
              </a:rPr>
              <a:t>.”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Pigiarniq"/>
              </a:rPr>
              <a:t>-- </a:t>
            </a:r>
            <a:r>
              <a:rPr b="0" lang="id-ID" sz="2400" spc="-1" strike="noStrike">
                <a:solidFill>
                  <a:srgbClr val="333399"/>
                </a:solidFill>
                <a:latin typeface="Pigiarniq"/>
              </a:rPr>
              <a:t>ᐄᕙ ᐋᕆᐊᒃ</a:t>
            </a:r>
            <a:r>
              <a:rPr b="0" lang="en-US" sz="2400" spc="-1" strike="noStrike">
                <a:solidFill>
                  <a:srgbClr val="333399"/>
                </a:solidFill>
                <a:latin typeface="Pigiarniq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Pigiarniq"/>
              </a:rPr>
              <a:t> </a:t>
            </a:r>
            <a:r>
              <a:rPr b="0" lang="id-ID" sz="2400" spc="-1" strike="noStrike">
                <a:solidFill>
                  <a:srgbClr val="333399"/>
                </a:solidFill>
                <a:latin typeface="Pigiarniq"/>
              </a:rPr>
              <a:t>ᐅᖃᐅᓯᓕᕆᓂᕐᒧᑦ ᓄᓇᕗᒥ ᑲᒥᓴᓇᐅᓚᐅᕐᓯᒪᔪᖅ</a:t>
            </a:r>
            <a:r>
              <a:rPr b="0" lang="en-US" sz="2400" spc="-1" strike="noStrike">
                <a:solidFill>
                  <a:srgbClr val="333399"/>
                </a:solidFill>
                <a:latin typeface="Pigiarniq"/>
              </a:rPr>
              <a:t> @ 5  </a:t>
            </a:r>
            <a:r>
              <a:rPr b="0" lang="id-ID" sz="2400" spc="-1" strike="noStrike">
                <a:solidFill>
                  <a:srgbClr val="333399"/>
                </a:solidFill>
                <a:latin typeface="Pigiarniq"/>
              </a:rPr>
              <a:t>ᑲᑎᒪᕐᔪᐊᖅᑎᓪᓗᒋ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333399"/>
                </a:solidFill>
                <a:latin typeface="Pigiarniq"/>
              </a:rPr>
              <a:t>ᐊᑲᐃᑎᐊ ᓯᓚᑦᑐᓴᕐᕕᒡᔪᐊᖓ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133720" y="6094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Pigiarniq"/>
              </a:rPr>
              <a:t>ᐃᓐᓇᐃ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1905120"/>
            <a:ext cx="7696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Pigiarniq"/>
              </a:rPr>
              <a:t>“</a:t>
            </a:r>
            <a:r>
              <a:rPr b="0" lang="id-ID" sz="2400" spc="-1" strike="noStrike">
                <a:solidFill>
                  <a:srgbClr val="333399"/>
                </a:solidFill>
                <a:latin typeface="Pigiarniq"/>
              </a:rPr>
              <a:t>ᐃᓐᓇᑐᖃᐃᑦ ᐃᓄᐃᑦ ᖃᐅᔨᒪᓂᕐᒥᖕᓂᒃ ᑐᓂᓯᔭᕆᐊᖃᖅᐳᑦ; ᐊᑕᐅᑦᑎᒃᑯᓪᓗ, ᑖᒃᑯᐊ ᓄᖃᕐᖠᐅᔪᑦ ᕿᓂᖅᑎᓪᓗᒋᑦ ᓇᑭᓐᖓᔭᐅᖕᒪᖔᑕ ᑕᐃᑦᓱᒪᓂᑐᖄᓗᒃ ᐃᓕᖅᑯᓯᑐᖃᕆᔭᖏᑦ</a:t>
            </a:r>
            <a:r>
              <a:rPr b="0" lang="en-US" sz="2400" spc="-1" strike="noStrike">
                <a:solidFill>
                  <a:srgbClr val="333399"/>
                </a:solidFill>
                <a:latin typeface="Pigiarniq"/>
              </a:rPr>
              <a:t>.”</a:t>
            </a:r>
            <a:r>
              <a:rPr b="0" lang="en-US" sz="1800" spc="-1" strike="noStrike">
                <a:solidFill>
                  <a:srgbClr val="000000"/>
                </a:solidFill>
                <a:latin typeface="Pigiarniq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333399"/>
                </a:solidFill>
                <a:latin typeface="Pigiarniq"/>
              </a:rPr>
              <a:t>ᑕᕐᕆᔭᓕᐅᖅᑎᑦ ᑕᓕᕕᐅᒻ ᑲᓇᑕ</a:t>
            </a:r>
            <a:r>
              <a:rPr b="0" lang="en-US" sz="1800" spc="-1" strike="noStrike">
                <a:solidFill>
                  <a:srgbClr val="333399"/>
                </a:solidFill>
                <a:latin typeface="Pigiarniq"/>
              </a:rPr>
              <a:t> – </a:t>
            </a:r>
            <a:r>
              <a:rPr b="0" lang="id-ID" sz="1800" spc="-1" strike="noStrike">
                <a:solidFill>
                  <a:srgbClr val="333399"/>
                </a:solidFill>
                <a:latin typeface="Pigiarniq"/>
              </a:rPr>
              <a:t>ᓄᓇᕗᒥ ᐃᓐᓇᐃᑦ ᑕᕐᕆᔭᓕᐅᖅᑕᐅᑎᓪᓗᒋ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Pigiarniq"/>
              </a:rPr>
              <a:t>ᐃᓚᒌᑦ ᐊᒻᒪ ᐃᖅᑲᒍᓱᖕᓂ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333399"/>
                </a:solidFill>
                <a:latin typeface="Pigiarniq"/>
              </a:rPr>
              <a:t>ᐊᒃᑐᐊᖃᑎᒌᖕᓂᕐᒧᑦ ᐱᐅᓯᑦᑎᐊᕙᐅᔪ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333399"/>
                </a:solidFill>
                <a:latin typeface="Pigiarniq"/>
              </a:rPr>
              <a:t>ᐊᒥᖅᑳᕐᓂ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333399"/>
                </a:solidFill>
                <a:latin typeface="Pigiarniq"/>
              </a:rPr>
              <a:t>ᐃᖅᑲᒍᓱᖕᓂ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333399"/>
                </a:solidFill>
                <a:latin typeface="Pigiarniq"/>
              </a:rPr>
              <a:t>ᐃᓚᒌ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333399"/>
                </a:solidFill>
                <a:latin typeface="Pigiarniq"/>
              </a:rPr>
              <a:t>ᐅᐱᒍᓱᖕᓂ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333399"/>
                </a:solidFill>
                <a:latin typeface="Pigiarniq"/>
              </a:rPr>
              <a:t>ᓇᒡᓗᒍᓱᖕᓂ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333399"/>
                </a:solidFill>
                <a:latin typeface="Pigiarniq"/>
              </a:rPr>
              <a:t>ᓈᓚᖕᓂ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333399"/>
                </a:solidFill>
                <a:latin typeface="Pigiarniq"/>
              </a:rPr>
              <a:t>ᐊᔾᔨᒌᒃᑎᑦᑎᓂ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333399"/>
                </a:solidFill>
                <a:latin typeface="Pigiarniq"/>
              </a:rPr>
              <a:t>ᐱᒻᒪᕆᐅᑎᑦᑎᓂ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333399"/>
                </a:solidFill>
                <a:latin typeface="Pigiarniq"/>
              </a:rPr>
              <a:t>ᐅᒃᐱᕆᔭᖃᕐᓂ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Pigiarniq"/>
              </a:rPr>
              <a:t>(2005 </a:t>
            </a:r>
            <a:r>
              <a:rPr b="0" lang="id-ID" sz="2000" spc="-1" strike="noStrike">
                <a:solidFill>
                  <a:srgbClr val="333399"/>
                </a:solidFill>
                <a:latin typeface="Pigiarniq"/>
              </a:rPr>
              <a:t>ᐱᓕᕆᕕᖓᑦ ᐃᖅᑲᓇᐃᔭᖅᑐᓕᕆᔨᒃᑯᑦ, ᓄᓇᕗᑦ ᒐᕙᒪᒃᑯᖏᑦ</a:t>
            </a:r>
            <a:r>
              <a:rPr b="0" lang="en-US" sz="2000" spc="-1" strike="noStrike">
                <a:solidFill>
                  <a:srgbClr val="333399"/>
                </a:solidFill>
                <a:latin typeface="Pigiarniq"/>
              </a:rPr>
              <a:t>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Pigiarniq"/>
              </a:rPr>
              <a:t>ᓄᓇᓕ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igiarniq"/>
              </a:rPr>
              <a:t>“</a:t>
            </a:r>
            <a:r>
              <a:rPr b="0" lang="id-ID" sz="3200" spc="-1" strike="noStrike">
                <a:solidFill>
                  <a:srgbClr val="000000"/>
                </a:solidFill>
                <a:latin typeface="Pigiarniq"/>
              </a:rPr>
              <a:t>ᐃᓕᓐᓂᐊᖅᑎᑕᐅᓚᐅᕐᓯᒪᕗᒍᑦ ᐱᑦᑎᐊᖃᑦᑕᖁᔭᐅᓪᓗᑕ ᐊᓯᑦᑎᓐᓄᑦ ᐊᒻᒪ ᐃᑲᔪᖃᑦᑕᖁᔭᐅᓪᓗᑕ ᐃᒻᒥᖕᓂᒃ ᓴᐳᑎᔪᓐᓇᖏᑦᑐᓂᒃ</a:t>
            </a:r>
            <a:r>
              <a:rPr b="0" lang="en-US" sz="3200" spc="-1" strike="noStrike">
                <a:solidFill>
                  <a:srgbClr val="000000"/>
                </a:solidFill>
                <a:latin typeface="Pigiarniq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Pigiarniq"/>
              </a:rPr>
              <a:t>ᒥᐊᕆᐊᒻ ᐊᒡᓘᒃᑲ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ᖃᐃᖅᑯᔭᐅᓯᒪᔪᖅ ᐃᓐᓇᖅ</a:t>
            </a:r>
            <a:r>
              <a:rPr b="0" lang="en-US" sz="2000" spc="-1" strike="noStrike">
                <a:solidFill>
                  <a:srgbClr val="000000"/>
                </a:solidFill>
                <a:latin typeface="Pigiarniq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ᓄᓇᕗᒥ ᑕᓪᓕᒪᒋᓕᖅᑕᖓᓐᓂ ᑲᑎᒪᕐᔪᐊᖅᑐ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igiarniq"/>
              </a:rPr>
              <a:t>Acadia University</a:t>
            </a: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 ᓯᓚᑦᑐᓴᕐᕕᒡᔪᐊ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Pigiarniq"/>
              </a:rPr>
              <a:t>ᐊᕙᑎᒧᑦ ᐊᒃᑐᐊᓂ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752480"/>
            <a:ext cx="8458200" cy="36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Pigiarniq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Pigiarniq"/>
              </a:rPr>
              <a:t>[</a:t>
            </a:r>
            <a:r>
              <a:rPr b="0" lang="id-ID" sz="2800" spc="-1" strike="noStrike">
                <a:solidFill>
                  <a:srgbClr val="333399"/>
                </a:solidFill>
                <a:latin typeface="Pigiarniq"/>
              </a:rPr>
              <a:t>ᑮᓇᐅᔭᓕᐅᕈᑎᖃᕋᓱᐊᕐᓂᒧᑦ ᐱᕙᓪᓕᐊᑎᑦᑎᓂᖅ ᐊᒻᒪ ᐊᕙᑎᒧᑦ ᒪᑭᒪᔾᔪᑎᖃᕐᓂᖅ</a:t>
            </a:r>
            <a:r>
              <a:rPr b="0" lang="en-US" sz="2800" spc="-1" strike="noStrike">
                <a:solidFill>
                  <a:srgbClr val="333399"/>
                </a:solidFill>
                <a:latin typeface="Pigiarniq"/>
              </a:rPr>
              <a:t>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333399"/>
                </a:solidFill>
                <a:latin typeface="Pigiarniq"/>
              </a:rPr>
              <a:t>ᐱᔭᕆᐊᖃᖏᑦᑐᑦ ᓇᓕᐊᖕᓄᑐᐃᓐᓇᖅ ᐊᑭᓴᖅᑐᐃᓗᓂ</a:t>
            </a:r>
            <a:r>
              <a:rPr b="0" lang="en-US" sz="2800" spc="-1" strike="noStrike">
                <a:solidFill>
                  <a:srgbClr val="333399"/>
                </a:solidFill>
                <a:latin typeface="Pigiarniq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333399"/>
                </a:solidFill>
                <a:latin typeface="Pigiarniq"/>
              </a:rPr>
              <a:t>ᕕᒃᑐ ᑐ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333399"/>
                </a:solidFill>
                <a:latin typeface="Pigiarniq"/>
              </a:rPr>
              <a:t>ᒥᓂᔅᑕᐅᑉ ᑐᖏᓕᖓᑕ ᐃᑲᔪᖅᑎᒋᓚᐅᕐᓯᒪᔭᖓ ᐋᓐᓂᐊᖃᕐᓇᖏᑦᑐᓕᕆᓂᕐᒧᑦ ᐊᒻᒪ ᐃᓄᓕᕆᓂᕐᒧ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333399"/>
                </a:solidFill>
                <a:latin typeface="Pigiarniq"/>
              </a:rPr>
              <a:t>ᓄᓇᕗᑦ ᑕᓪᓕᒪᖓᓐᓂ ᑲᑎᒪᕐᔪᐊᖅᑎᓪᓗᒋ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Pigiarniq"/>
              </a:rPr>
              <a:t>Acadia University</a:t>
            </a:r>
            <a:r>
              <a:rPr b="0" lang="id-ID" sz="2000" spc="-1" strike="noStrike">
                <a:solidFill>
                  <a:srgbClr val="333399"/>
                </a:solidFill>
                <a:latin typeface="Pigiarniq"/>
              </a:rPr>
              <a:t> ᓯᓚᑦᑐᓴᕐᕕᒡᔪᐊ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133720" y="53352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000000"/>
                </a:solidFill>
                <a:latin typeface="Pigiarniq"/>
              </a:rPr>
              <a:t>ᐅᐊᔭᒨᖅᑐᑦ ᐱᓕᕆᔾᔪᑎ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1371600"/>
            <a:ext cx="7239240" cy="32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Pigiarniq"/>
              </a:rPr>
              <a:t>"</a:t>
            </a:r>
            <a:r>
              <a:rPr b="0" lang="id-ID" sz="2800" spc="-1" strike="noStrike">
                <a:solidFill>
                  <a:srgbClr val="333399"/>
                </a:solidFill>
                <a:latin typeface="Pigiarniq"/>
              </a:rPr>
              <a:t>ᕿᑐᕐᖓᒃᑲ ᐃᕐᖑᑕᒃᑲᓗ ᖃᐅᔨᒪᖁᓇᔭᖅᑕᒃᑲ </a:t>
            </a:r>
            <a:r>
              <a:rPr b="0" i="1" lang="id-ID" sz="2800" spc="-1" strike="noStrike">
                <a:solidFill>
                  <a:srgbClr val="333399"/>
                </a:solidFill>
                <a:latin typeface="Pigiarniq"/>
              </a:rPr>
              <a:t>ᐃᓄᒻᒪᕇᑦ</a:t>
            </a:r>
            <a:r>
              <a:rPr b="0" lang="id-ID" sz="2800" spc="-1" strike="noStrike">
                <a:solidFill>
                  <a:srgbClr val="333399"/>
                </a:solidFill>
                <a:latin typeface="Pigiarniq"/>
              </a:rPr>
              <a:t> ᐱᐅᓯᖏᓐᓂᒃ, ᑭᓯᐊᓂᑦᑕᐅᖅ ᓯᕗᒧᐊᑦᑎᐊᖁᒐᔭᖅᑕᒃᑲ ᐅᓪᓗᒥᓯᐅᑎᓂᒃ ᐃᓕᓐᓂᐊᕈᑎᓂᒃ, ᓴᓇᕝᕕᒃᓴᖃᑦᑎᐊᓛᕐᒪᑕ, ᐊᒻᒪ ᐊᑐᕈᓐᓇᑦᑎᐊᕐᓗᑎᒃ ᖃᕆᑕᐅᓴᓂᒃ</a:t>
            </a:r>
            <a:r>
              <a:rPr b="0" lang="en-US" sz="2800" spc="-1" strike="noStrike">
                <a:solidFill>
                  <a:srgbClr val="333399"/>
                </a:solidFill>
                <a:latin typeface="Pigiarniq"/>
              </a:rPr>
              <a:t>."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Pigiarniq"/>
              </a:rPr>
              <a:t>-</a:t>
            </a:r>
            <a:r>
              <a:rPr b="0" lang="id-ID" sz="2800" spc="-1" strike="noStrike">
                <a:solidFill>
                  <a:srgbClr val="333399"/>
                </a:solidFill>
                <a:latin typeface="Pigiarniq"/>
              </a:rPr>
              <a:t>ᔮᓐ ᖃᐅᓐᓇ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Pigiarniq"/>
              </a:rPr>
              <a:t>(</a:t>
            </a:r>
            <a:r>
              <a:rPr b="0" lang="id-ID" sz="2400" spc="-1" strike="noStrike">
                <a:solidFill>
                  <a:srgbClr val="333399"/>
                </a:solidFill>
                <a:latin typeface="Pigiarniq"/>
              </a:rPr>
              <a:t>ᓇᐅᔮᕐᒥᐅᑕᖅ, ᓄᓇᕗᒥ</a:t>
            </a:r>
            <a:r>
              <a:rPr b="0" lang="en-US" sz="2400" spc="-1" strike="noStrike">
                <a:solidFill>
                  <a:srgbClr val="333399"/>
                </a:solidFill>
                <a:latin typeface="Pigiarniq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14:11:05Z</dcterms:created>
  <dc:creator>077399w</dc:creator>
  <dc:description/>
  <dc:language>en-US</dc:language>
  <cp:lastModifiedBy> </cp:lastModifiedBy>
  <dcterms:modified xsi:type="dcterms:W3CDTF">2007-02-22T18:11:48Z</dcterms:modified>
  <cp:revision>54</cp:revision>
  <dc:subject/>
  <dc:title>Sustainable Community</dc:title>
</cp:coreProperties>
</file>