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192E6-65CA-448F-8CE8-CAEEF67C93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ED98A-4E66-4DB8-AE23-384A2C34D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6EC546-0D79-4CDF-9082-DBDC4C2340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9EBCE-470F-4F3E-9AD7-2A3DBAE94B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AE9A8-67D4-4CB2-8DD2-4701F2018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FAF98-A18B-4AFE-95D4-77E771CDE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F6E60-E870-4DB0-9434-5CDFD4F76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0A9F6-FE6B-4BAF-BAF5-3F46C9A7D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5C978-92C7-41FF-80DB-4C7D83CD3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01E0B-9367-4EB9-A267-1520F3A1E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C60C7-A5AA-40FF-A86F-F67510B81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821AF-7807-479B-B0F1-A624580C37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7FDD8-7A53-4260-B3E2-EAAC923B7B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828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4000" spc="-1" strike="noStrike">
                <a:solidFill>
                  <a:srgbClr val="000000"/>
                </a:solidFill>
                <a:latin typeface="Pigiarniq"/>
              </a:rPr>
              <a:t>ᐃᓕᓐᓂᐊᕐᓂᖅ ᐱᓕᕆᓂᒃᑯᑦ</a:t>
            </a:r>
            <a:endParaRPr b="0" lang="en-US" sz="4000" spc="-1" strike="noStrike">
              <a:solidFill>
                <a:srgbClr val="000000"/>
              </a:solidFill>
              <a:latin typeface="Arial"/>
            </a:endParaRPr>
          </a:p>
        </p:txBody>
      </p:sp>
      <p:sp>
        <p:nvSpPr>
          <p:cNvPr id="42" name=""/>
          <p:cNvSpPr/>
          <p:nvPr/>
        </p:nvSpPr>
        <p:spPr>
          <a:xfrm>
            <a:off x="2209680" y="3581280"/>
            <a:ext cx="487692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Pigiarniq"/>
              </a:rPr>
              <a:t>ᐃᓕᓐᓂᐊᕐᓂᖅ ᐱᓕᕆᓂᒃᑯᑦ</a:t>
            </a:r>
            <a:r>
              <a:rPr b="0" lang="en-US" sz="3600" spc="-1" strike="noStrike">
                <a:solidFill>
                  <a:srgbClr val="000000"/>
                </a:solidFill>
                <a:latin typeface="Arial"/>
              </a:rPr>
              <a:t> </a:t>
            </a:r>
            <a:r>
              <a:rPr b="0" lang="en-US" sz="4000" spc="-1" strike="noStrike">
                <a:solidFill>
                  <a:srgbClr val="000000"/>
                </a:solidFill>
                <a:latin typeface="Arial"/>
              </a:rPr>
              <a:t>:</a:t>
            </a:r>
            <a:br>
              <a:rPr sz="4000"/>
            </a:br>
            <a:r>
              <a:rPr b="0" i="1" lang="id-ID" sz="4000" spc="-1" strike="noStrike">
                <a:solidFill>
                  <a:srgbClr val="000000"/>
                </a:solidFill>
                <a:latin typeface="Pigiarniq"/>
              </a:rPr>
              <a:t>ᐆᒃᑐᕋᐃᓐᓇᖃᑦᑕᕐᓂᒃᑯᑦ</a:t>
            </a:r>
            <a:endParaRPr b="0" lang="en-US" sz="4000" spc="-1" strike="noStrike">
              <a:solidFill>
                <a:srgbClr val="000000"/>
              </a:solidFill>
              <a:latin typeface="Arial"/>
            </a:endParaRPr>
          </a:p>
        </p:txBody>
      </p:sp>
      <p:sp>
        <p:nvSpPr>
          <p:cNvPr id="58" name="PlaceHolder 2"/>
          <p:cNvSpPr>
            <a:spLocks noGrp="1"/>
          </p:cNvSpPr>
          <p:nvPr>
            <p:ph/>
          </p:nvPr>
        </p:nvSpPr>
        <p:spPr>
          <a:xfrm>
            <a:off x="304920" y="1600200"/>
            <a:ext cx="4114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499"/>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ᓄᑕᖅᑲᑦ ᐱᓕᒻᒪᒃᓴᖅᐸᒃᑐᑦ ᐆᒃᑐᕋᖅᐸᒡᖢᑎᒃ ᑕᑯᔭᒥᖕᓂᒃ</a:t>
            </a:r>
            <a:endParaRPr b="0" lang="en-US" sz="2000" spc="-1" strike="noStrike">
              <a:solidFill>
                <a:srgbClr val="000000"/>
              </a:solidFill>
              <a:latin typeface="Arial"/>
            </a:endParaRPr>
          </a:p>
          <a:p>
            <a:pPr lvl="2" marL="1143000" indent="-228600">
              <a:lnSpc>
                <a:spcPct val="100000"/>
              </a:lnSpc>
              <a:spcBef>
                <a:spcPts val="451"/>
              </a:spcBef>
              <a:buClr>
                <a:srgbClr val="000000"/>
              </a:buClr>
              <a:buFont typeface="Pigiarniq"/>
              <a:buChar char="•"/>
              <a:tabLst>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Pigiarniq"/>
              </a:rPr>
              <a:t>ᒪᓕᒡᖢᑎᒃ ᐊᖓᔪᖅᑳᒥᖕᓂᒃ, ᐃᓐᓇᕐᓂᒃ, ᓄᓇᖅᑲᑎᖏᓐᓂᒡᓗ</a:t>
            </a:r>
            <a:endParaRPr b="0" lang="en-US" sz="1800" spc="-1" strike="noStrike">
              <a:solidFill>
                <a:srgbClr val="000000"/>
              </a:solidFill>
              <a:latin typeface="Arial"/>
            </a:endParaRPr>
          </a:p>
          <a:p>
            <a:pPr lvl="1" marL="743040" indent="-285840">
              <a:lnSpc>
                <a:spcPct val="100000"/>
              </a:lnSpc>
              <a:spcBef>
                <a:spcPts val="499"/>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ᐱᓕᒻᒪᒃᓴᒃᑲᓐᓂᖅᐸᒃᑎᓪᓗᒋᑦ ᐃᒪᐃᓕᐅᖅᐳᑦ:</a:t>
            </a:r>
            <a:endParaRPr b="0" lang="en-US" sz="2000" spc="-1" strike="noStrike">
              <a:solidFill>
                <a:srgbClr val="000000"/>
              </a:solidFill>
              <a:latin typeface="Arial"/>
            </a:endParaRPr>
          </a:p>
          <a:p>
            <a:pPr lvl="2" marL="1143000" indent="-228600">
              <a:lnSpc>
                <a:spcPct val="100000"/>
              </a:lnSpc>
              <a:spcBef>
                <a:spcPts val="451"/>
              </a:spcBef>
              <a:buClr>
                <a:srgbClr val="000000"/>
              </a:buClr>
              <a:buFont typeface="Pigiarniq"/>
              <a:buChar char="•"/>
              <a:tabLst>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Pigiarniq"/>
              </a:rPr>
              <a:t>ᐃᓕᑉᐸᒃᐳᑦ ᓄᑖᓂᒃ </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Pigiarniq"/>
              <a:buChar char="•"/>
              <a:tabLst>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Pigiarniq"/>
              </a:rPr>
              <a:t>ᐱᓕᕆᔾᔪᓯᖏᑦ ᐱᐅᓯᒋᐊᕐᖢᒋᑦ ᓄᓇᓕᖕᓂ ᐃᓚᐅᔪᓐᓇᕐᓯᓂᐊᕐᒪᑦ ᐱᓕᕆᖃᑕᐅᓗᓂ.</a:t>
            </a:r>
            <a:r>
              <a:rPr b="0" lang="en-US" sz="1800" spc="-1" strike="noStrike">
                <a:solidFill>
                  <a:srgbClr val="000000"/>
                </a:solidFill>
                <a:latin typeface="Pigiarniq"/>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Pigiarniq"/>
              </a:rPr>
              <a:t>ᐃᓕᓐᓂᐊᕐᓂᖅ ᐱᓕᕆᓂᒃᑯᑦ</a:t>
            </a:r>
            <a:r>
              <a:rPr b="0" lang="en-US" sz="3600" spc="-1" strike="noStrike">
                <a:solidFill>
                  <a:srgbClr val="000000"/>
                </a:solidFill>
                <a:latin typeface="Arial"/>
              </a:rPr>
              <a:t> </a:t>
            </a:r>
            <a:r>
              <a:rPr b="0" lang="en-US" sz="4000" spc="-1" strike="noStrike">
                <a:solidFill>
                  <a:srgbClr val="000000"/>
                </a:solidFill>
                <a:latin typeface="Arial"/>
              </a:rPr>
              <a:t>:</a:t>
            </a:r>
            <a:br>
              <a:rPr sz="4000"/>
            </a:br>
            <a:r>
              <a:rPr b="0" i="1" lang="id-ID" sz="4000" spc="-1" strike="noStrike">
                <a:solidFill>
                  <a:srgbClr val="000000"/>
                </a:solidFill>
                <a:latin typeface="Pigiarniq"/>
              </a:rPr>
              <a:t>ᑐᑭᓯᓂᖅ</a:t>
            </a:r>
            <a:endParaRPr b="0" lang="en-US" sz="4000" spc="-1" strike="noStrike">
              <a:solidFill>
                <a:srgbClr val="000000"/>
              </a:solidFill>
              <a:latin typeface="Arial"/>
            </a:endParaRPr>
          </a:p>
        </p:txBody>
      </p:sp>
      <p:sp>
        <p:nvSpPr>
          <p:cNvPr id="60"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Pigiarniq"/>
              </a:rPr>
              <a:t>ᐃᓕᖅᑯᓯᐅᑉ ᐱᐅᓯᖏᑦ</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Pigiarniq"/>
              <a:buChar char="•"/>
              <a:tabLst>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Pigiarniq"/>
              </a:rPr>
              <a:t>ᐃᓕᓐᓂᐊᕐᓂᖅ ᐃᓐᓇᕐᓂᑦ/ᐅᓂᒃᑳᖅᑐᐊᓂᑦ/ᐃᓚᒌᓂᑦ</a:t>
            </a: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Pigiarniq"/>
              </a:rPr>
              <a:t>ᐱᓕᕆᖃᑎᒌᖕᓂᖅ</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Pigiarniq"/>
              <a:buChar char="•"/>
              <a:tabLst>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Pigiarniq"/>
              </a:rPr>
              <a:t>ᐃᓕᑉᐸᓪᓕᐊᖃᑎᒌᖃᑦᑕᕐᓗᑎᒃ ᐊᓯᒥᑦ/ᓄᓇᓕᖕᓂᓗ ᐃᓅᓂᖅ</a:t>
            </a: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Pigiarniq"/>
              </a:rPr>
              <a:t>ᓄᓇ</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Pigiarniq"/>
              <a:buChar char="•"/>
              <a:tabLst>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Pigiarniq"/>
              </a:rPr>
              <a:t>ᓄᓇᒥ ᐊᐅᓪᓚᕐᓯᒪᖃᑦᑕᕐᓂᖅ ᐊᒻᒪ ᓯᓚᒧᑦ ᓱᖏᐅᓴᓂᖅ</a:t>
            </a: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Pigiarniq"/>
              </a:rPr>
              <a:t>ᐃᓗᓕᖏᑦ ᐃᓕᓐᓂᐊᕐᓂᖅ ᐱᓕᕆᓂᒃᑯᑦ</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62"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fontScale="96000"/>
          </a:bodyPr>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Pigiarniq"/>
              </a:rPr>
              <a:t>ᐃᓐᓇᐃᑦ</a:t>
            </a:r>
            <a:r>
              <a:rPr b="0" lang="en-US" sz="3600" spc="-1" strike="noStrike">
                <a:solidFill>
                  <a:srgbClr val="000000"/>
                </a:solidFill>
                <a:latin typeface="Pigiarniq"/>
              </a:rPr>
              <a:t>: </a:t>
            </a:r>
            <a:endParaRPr b="0" lang="en-US" sz="3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igiarniq"/>
              </a:rPr>
              <a:t>	</a:t>
            </a:r>
            <a:r>
              <a:rPr b="0" lang="en-US" sz="2400" spc="-1" strike="noStrike">
                <a:solidFill>
                  <a:srgbClr val="000000"/>
                </a:solidFill>
                <a:latin typeface="Pigiarniq"/>
              </a:rPr>
              <a:t>	</a:t>
            </a:r>
            <a:r>
              <a:rPr b="0" lang="en-US" sz="2400" spc="-1" strike="noStrike">
                <a:solidFill>
                  <a:srgbClr val="000000"/>
                </a:solidFill>
                <a:latin typeface="Pigiarniq"/>
              </a:rPr>
              <a:t>“</a:t>
            </a:r>
            <a:r>
              <a:rPr b="0" lang="id-ID" sz="2400" spc="-1" strike="noStrike">
                <a:solidFill>
                  <a:srgbClr val="000000"/>
                </a:solidFill>
                <a:latin typeface="Pigiarniq"/>
              </a:rPr>
              <a:t>ᐅᐸᒍᑎᔭᒃᑲᑦᑎᒍ, ᖃᐅᔨᒪᓂᖏᓐᓄᑐᐊᖑᖏᑦᑐᖅ, ᐱᔾᔪᑎᒋᓪᓗᒍ ᖃᐅᔨᒪᓂᕐᒥᖕᓂᒃ ᐅᖃᐅᓯᖃᖃᑦᑕᕐᒪᑕ ᓄᓇᓕᖕᓄᑦ</a:t>
            </a:r>
            <a:r>
              <a:rPr b="0" lang="en-US" sz="2400" spc="-1" strike="noStrike">
                <a:solidFill>
                  <a:srgbClr val="000000"/>
                </a:solidFill>
                <a:latin typeface="Pigiarniq"/>
              </a:rPr>
              <a:t>.” </a:t>
            </a:r>
            <a:r>
              <a:rPr b="0" lang="en-US" sz="2400" spc="-1" strike="noStrike">
                <a:solidFill>
                  <a:srgbClr val="000000"/>
                </a:solidFill>
                <a:latin typeface="Pigiarniq"/>
              </a:rPr>
              <a:t>	</a:t>
            </a:r>
            <a:r>
              <a:rPr b="0" lang="en-US" sz="2400" spc="-1" strike="noStrike">
                <a:solidFill>
                  <a:srgbClr val="000000"/>
                </a:solidFill>
                <a:latin typeface="Pigiarniq"/>
              </a:rPr>
              <a:t>	</a:t>
            </a:r>
            <a:r>
              <a:rPr b="0" lang="en-US" sz="1600" spc="-1" strike="noStrike">
                <a:solidFill>
                  <a:srgbClr val="000000"/>
                </a:solidFill>
                <a:latin typeface="Pigiarniq"/>
              </a:rPr>
              <a:t>	</a:t>
            </a:r>
            <a:r>
              <a:rPr b="0" lang="id-ID" sz="1600" spc="-1" strike="noStrike">
                <a:solidFill>
                  <a:srgbClr val="000000"/>
                </a:solidFill>
                <a:latin typeface="Pigiarniq"/>
              </a:rPr>
              <a:t>-</a:t>
            </a:r>
            <a:r>
              <a:rPr b="0" i="1" lang="id-ID" sz="1600" spc="-1" strike="noStrike">
                <a:solidFill>
                  <a:srgbClr val="000000"/>
                </a:solidFill>
                <a:latin typeface="Pigiarniq"/>
              </a:rPr>
              <a:t>ᓯᓚᑦᑐᓴᕐᕕᒡᔪᐊᒥ ᐃᓕᓴᐃᔨ, ᔭᓐ ᑲᐅᓪᑕᓐ</a:t>
            </a:r>
            <a:r>
              <a:rPr b="0" i="1" lang="en-US" sz="1600" spc="-1" strike="noStrike">
                <a:solidFill>
                  <a:srgbClr val="000000"/>
                </a:solidFill>
                <a:latin typeface="Pigiarniq"/>
              </a:rPr>
              <a:t>, </a:t>
            </a:r>
            <a:endParaRPr b="0" lang="en-US" sz="1600" spc="-1" strike="noStrike">
              <a:solidFill>
                <a:srgbClr val="000000"/>
              </a:solidFill>
              <a:latin typeface="Arial"/>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600" spc="-1" strike="noStrike">
                <a:solidFill>
                  <a:srgbClr val="000000"/>
                </a:solidFill>
                <a:latin typeface="Pigiarniq"/>
              </a:rPr>
              <a:t>	</a:t>
            </a:r>
            <a:r>
              <a:rPr b="0" i="1" lang="id-ID" sz="1600" spc="-1" strike="noStrike">
                <a:solidFill>
                  <a:srgbClr val="000000"/>
                </a:solidFill>
                <a:latin typeface="Pigiarniq"/>
              </a:rPr>
              <a:t>	</a:t>
            </a:r>
            <a:r>
              <a:rPr b="0" i="1" lang="id-ID" sz="1600" spc="-1" strike="noStrike">
                <a:solidFill>
                  <a:srgbClr val="000000"/>
                </a:solidFill>
                <a:latin typeface="Pigiarniq"/>
              </a:rPr>
              <a:t>	</a:t>
            </a:r>
            <a:r>
              <a:rPr b="0" i="1" lang="id-ID" sz="1600" spc="-1" strike="noStrike">
                <a:solidFill>
                  <a:srgbClr val="000000"/>
                </a:solidFill>
                <a:latin typeface="Pigiarniq"/>
              </a:rPr>
              <a:t>	</a:t>
            </a:r>
            <a:r>
              <a:rPr b="0" i="1" lang="id-ID" sz="1600" spc="-1" strike="noStrike">
                <a:solidFill>
                  <a:srgbClr val="000000"/>
                </a:solidFill>
                <a:latin typeface="Pigiarniq"/>
              </a:rPr>
              <a:t>	</a:t>
            </a:r>
            <a:r>
              <a:rPr b="0" i="1" lang="id-ID" sz="1600" spc="-1" strike="noStrike">
                <a:solidFill>
                  <a:srgbClr val="000000"/>
                </a:solidFill>
                <a:latin typeface="Pigiarniq"/>
              </a:rPr>
              <a:t>	</a:t>
            </a:r>
            <a:r>
              <a:rPr b="0" i="1" lang="en-US" sz="1600" spc="-1" strike="noStrike">
                <a:solidFill>
                  <a:srgbClr val="000000"/>
                </a:solidFill>
                <a:latin typeface="Pigiarniq"/>
              </a:rPr>
              <a:t>Acadia University</a:t>
            </a:r>
            <a:r>
              <a:rPr b="0" i="1" lang="id-ID" sz="1600" spc="-1" strike="noStrike">
                <a:solidFill>
                  <a:srgbClr val="000000"/>
                </a:solidFill>
                <a:latin typeface="Pigiarniq"/>
              </a:rPr>
              <a:t> ᓯᓚᑦᑐᓴᕐᕕᒡᔪᐊᖓ</a:t>
            </a:r>
            <a:endParaRPr b="0" lang="en-US" sz="1600" spc="-1" strike="noStrike">
              <a:solidFill>
                <a:srgbClr val="000000"/>
              </a:solidFill>
              <a:latin typeface="Arial"/>
            </a:endParaRPr>
          </a:p>
          <a:p>
            <a:pPr marL="329040" indent="-329040">
              <a:lnSpc>
                <a:spcPct val="90000"/>
              </a:lnSpc>
              <a:spcBef>
                <a:spcPts val="601"/>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Pigiarniq"/>
              </a:rPr>
              <a:t>ᓯᕗᓕᖅᑎᐅᓂᖅ: ᒪᓕᒐᖏᑦ ᐃᓅᓂᐊᕐᓗᓂ ᓄᓇᒥ</a:t>
            </a:r>
            <a:endParaRPr b="0" lang="en-US" sz="2400" spc="-1" strike="noStrike">
              <a:solidFill>
                <a:srgbClr val="000000"/>
              </a:solidFill>
              <a:latin typeface="Arial"/>
            </a:endParaRPr>
          </a:p>
          <a:p>
            <a:pPr marL="329040" indent="-329040">
              <a:lnSpc>
                <a:spcPct val="90000"/>
              </a:lnSpc>
              <a:spcBef>
                <a:spcPts val="601"/>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Pigiarniq"/>
              </a:rPr>
              <a:t>ᓄᓇᓕᖕᓄᑦ ᐊᔭᐅᖅᑕᐅᓂᖅ</a:t>
            </a:r>
            <a:endParaRPr b="0" lang="en-US" sz="2400" spc="-1" strike="noStrike">
              <a:solidFill>
                <a:srgbClr val="000000"/>
              </a:solidFill>
              <a:latin typeface="Arial"/>
            </a:endParaRPr>
          </a:p>
          <a:p>
            <a:pPr lvl="2" marL="1097280" indent="-219240">
              <a:lnSpc>
                <a:spcPct val="90000"/>
              </a:lnSpc>
              <a:spcBef>
                <a:spcPts val="601"/>
              </a:spcBef>
              <a:buClr>
                <a:srgbClr val="000000"/>
              </a:buClr>
              <a:buFont typeface="Pigiarniq"/>
              <a:buChar char="•"/>
              <a:tabLst>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Pigiarniq"/>
              </a:rPr>
              <a:t>ᖃᐅᔨᒪᓂᖃᖅᑐᑦ, ᐅᖃᐅᔾᔨᒋᐊᖅᑎᑦ, ᑭᖑᓂᑦᑎᓐᓂ ᐊᑐᕐᓂᑯᑦ</a:t>
            </a:r>
            <a:endParaRPr b="0" lang="en-US" sz="2400" spc="-1" strike="noStrike">
              <a:solidFill>
                <a:srgbClr val="000000"/>
              </a:solidFill>
              <a:latin typeface="Arial"/>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Pigiarniq"/>
              </a:rPr>
              <a:t>ᓴᓇᔾᔪᓯᕆᔭᑦ</a:t>
            </a:r>
            <a:endParaRPr b="0" lang="en-US" sz="3600" spc="-1" strike="noStrike">
              <a:solidFill>
                <a:srgbClr val="000000"/>
              </a:solidFill>
              <a:latin typeface="Arial"/>
            </a:endParaRPr>
          </a:p>
          <a:p>
            <a:pPr marL="329040" indent="-329040">
              <a:lnSpc>
                <a:spcPct val="90000"/>
              </a:lnSpc>
              <a:spcBef>
                <a:spcPts val="601"/>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Pigiarniq"/>
              </a:rPr>
              <a:t>ᐊᒃᓱᕈᖅᑐᐃᓐᓇᐅᓪᓗᑎᒃ ᐃᓘᓐᓇᖏᑦ ᓄᓇᓕᐅᔪᑦ ᐆᒪᖁᓪᓗᒋᑦ ᐊᓐᓇᐅᒪᖁᓪᓗᒋᑦ</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Pigiarniq"/>
              </a:rPr>
              <a:t>ᐃᓄᐃᑦ ᖃᐅᔨᒪᔭᑐᖃᖏᑦ ᐃᓕᓐᓂᐊᕐᕕᐅᑉ ᐃᒡᓗᕈᓯᖓᓂ</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4" name="PlaceHolder 2"/>
          <p:cNvSpPr>
            <a:spLocks noGrp="1"/>
          </p:cNvSpPr>
          <p:nvPr>
            <p:ph/>
          </p:nvPr>
        </p:nvSpPr>
        <p:spPr>
          <a:xfrm>
            <a:off x="533520" y="175248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Pigiarniq"/>
              </a:rPr>
              <a:t>ᑲᑎᑕᐅᓂᖏᑦ ᐱᑐᖃᐃᑦ ᐊᒻᒪ ᓄᑖᑦ</a:t>
            </a:r>
            <a:r>
              <a:rPr b="0" lang="en-US" sz="2800" spc="-1" strike="noStrike">
                <a:solidFill>
                  <a:srgbClr val="000000"/>
                </a:solidFill>
                <a:latin typeface="Pigiarniq"/>
              </a:rPr>
              <a:t>	</a:t>
            </a:r>
            <a:endParaRPr b="0" lang="en-US" sz="2800" spc="-1" strike="noStrike">
              <a:solidFill>
                <a:srgbClr val="000000"/>
              </a:solidFill>
              <a:latin typeface="Arial"/>
            </a:endParaRPr>
          </a:p>
          <a:p>
            <a:pPr lvl="1" marL="743040" indent="-285840">
              <a:lnSpc>
                <a:spcPct val="100000"/>
              </a:lnSpc>
              <a:spcBef>
                <a:spcPts val="499"/>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ᐱᖃᓯᐅᑎᖁᓪᓗᒋᑦ ᐱᐅᓯᑐᖃᐅᔪᑦ “ᐃᓕᓐᓂᐊᕐᓂᖅ ᐱᓕᕆᐊᖃᕐᓂᒃᑯᑦ”</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ᑎᓕᐅᕆᓂᖅ ᐃᓄᐃᑦ ᐃᓕᖅᑯᓯᖓᓐᓂᒃ ᐊᒻᒪ ᐅᖃᐅᓯᖓᓐᓂᒃ</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ᐸᕐᓇᐃᓂᖅ ᐃᓕᓐᓂᐊᖅᑎᓂᒃ ᖁᕝᕙᓯᖕᓂᖅᓴᒧᑦ ᐃᓕᓴᕐᓂᕐᒧᑦ</a:t>
            </a:r>
            <a:endParaRPr b="0" lang="en-US" sz="20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700"/>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Pigiarniq"/>
              </a:rPr>
              <a:t>“</a:t>
            </a:r>
            <a:r>
              <a:rPr b="0" lang="en-CA" sz="2800" spc="-1" strike="noStrike">
                <a:solidFill>
                  <a:srgbClr val="000000"/>
                </a:solidFill>
                <a:latin typeface="Pigiarniq"/>
              </a:rPr>
              <a:t>ᐱᔨᑦᓯᕐᓂᖅ” (ᐱᔨᑦᑎᕋᕐᓂᖅ) </a:t>
            </a:r>
            <a:endParaRPr b="0" lang="en-US" sz="2800" spc="-1" strike="noStrike">
              <a:solidFill>
                <a:srgbClr val="000000"/>
              </a:solidFill>
              <a:latin typeface="Arial"/>
            </a:endParaRPr>
          </a:p>
          <a:p>
            <a:pPr lvl="1" marL="743040" indent="-285840">
              <a:lnSpc>
                <a:spcPct val="100000"/>
              </a:lnSpc>
              <a:spcBef>
                <a:spcPts val="499"/>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Pigiarniq"/>
              </a:rPr>
              <a:t> “</a:t>
            </a:r>
            <a:r>
              <a:rPr b="0" lang="en-CA" sz="2000" spc="-1" strike="noStrike">
                <a:solidFill>
                  <a:srgbClr val="000000"/>
                </a:solidFill>
                <a:latin typeface="Pigiarniq"/>
              </a:rPr>
              <a:t>ᐃᓕᓐᓂᐊᖅᑐᓕᕆᓂᕐᒧᑦ ᐊᐅᓚᓂᐅᔪᑦ ᐱᔨᑦᓯᕆᐊᖃᖅᑐᑦ ᓄᓇᓕᖕᓂᒃ, ᐃᒡᓗᐊᓂᖔᐊᓄᖏᑦᑐᖅ”*</a:t>
            </a:r>
            <a:endParaRPr b="0" lang="en-US" sz="2000" spc="-1" strike="noStrike">
              <a:solidFill>
                <a:srgbClr val="000000"/>
              </a:solidFill>
              <a:latin typeface="Arial"/>
            </a:endParaRPr>
          </a:p>
        </p:txBody>
      </p:sp>
      <p:sp>
        <p:nvSpPr>
          <p:cNvPr id="65" name=""/>
          <p:cNvSpPr/>
          <p:nvPr/>
        </p:nvSpPr>
        <p:spPr>
          <a:xfrm>
            <a:off x="685800" y="6248520"/>
            <a:ext cx="6248520" cy="713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t>
            </a:r>
            <a:r>
              <a:rPr b="0" lang="en-CA" sz="900" spc="-1" strike="noStrike">
                <a:solidFill>
                  <a:srgbClr val="000000"/>
                </a:solidFill>
                <a:latin typeface="Pigiarniq"/>
              </a:rPr>
              <a:t>ᐱᔭᐅᔪᖅ: ᓯᐊᔭ ᒪᓄᒋ” ᐃᖃᓗᐃᑦ ᐃᓕᓐᓂᐊᖅᑐᓕᕆᔨᒃᑯᖏᑦ ᓇᒻᒪᒃᓴᓐᖏᓚᑦ ᐃᓕᓐᓂᐊᖅᑐᓕᕆᔨᒃᑯᑦ ᐱᖁᔭᕐᔪᐊᖓᓂ ᑭᑭᑕᐅᔪᓂ” ᓄᓇᑦᓯᐊᖅ ᓂᐅᔅ ᔭᓐᓄᐊᕆ </a:t>
            </a:r>
            <a:r>
              <a:rPr b="0" lang="en-CA" sz="900" spc="-1" strike="noStrike">
                <a:solidFill>
                  <a:srgbClr val="000000"/>
                </a:solidFill>
                <a:latin typeface="Arial"/>
              </a:rPr>
              <a:t> 2006</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Pigiarniq"/>
              </a:rPr>
              <a:t>ᐃᓄᐃᑦ ᖃᐅᔨᒪᔭᑐᖃᖏᑦ ᐃᓕᓐᓂᐊᕐᕕᐅᑉ ᐃᒡᓗᕈᓯᖓᓂ</a:t>
            </a:r>
            <a:endParaRPr b="0" lang="en-US" sz="2400" spc="-1" strike="noStrike">
              <a:solidFill>
                <a:srgbClr val="000000"/>
              </a:solidFill>
              <a:latin typeface="Arial"/>
            </a:endParaRPr>
          </a:p>
        </p:txBody>
      </p:sp>
      <p:sp>
        <p:nvSpPr>
          <p:cNvPr id="67" name="PlaceHolder 2"/>
          <p:cNvSpPr>
            <a:spLocks noGrp="1"/>
          </p:cNvSpPr>
          <p:nvPr>
            <p:ph/>
          </p:nvPr>
        </p:nvSpPr>
        <p:spPr>
          <a:xfrm>
            <a:off x="456840" y="1599840"/>
            <a:ext cx="3962520" cy="3809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Pigiarniq"/>
              </a:rPr>
              <a:t>ᐃᓕᓐᓂᐊᕈᑎᑦ ᓴᓇᔭᐅᓯᒪᔪᑦ ᖃᐅᑕᒫᑦ ᐊᑐᖅᑕᐅᕙᒃᑐᓂᑦ ᐊᒻᒪ ᐱᓕᕆᔾᔪᑎᒃᓴᑦ</a:t>
            </a:r>
            <a:endParaRPr b="0" lang="en-US" sz="2800" spc="-1" strike="noStrike">
              <a:solidFill>
                <a:srgbClr val="000000"/>
              </a:solidFill>
              <a:latin typeface="Arial"/>
            </a:endParaRPr>
          </a:p>
          <a:p>
            <a:pPr lvl="1" marL="727920" indent="-280080">
              <a:lnSpc>
                <a:spcPct val="90000"/>
              </a:lnSpc>
              <a:spcBef>
                <a:spcPts val="499"/>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ᖃᒧᑎᒃ ᐱᒻᒪᕆᐅᔪᓐᓇᖅᑐᖅ ᐃᓕᓐᓂᐊᕐᕕᐅᑉ ᐃᒡᓗᕈᓯᖓᓂ ᓴᓇᕐᕈᑕᐅᓗᓂ: ᐊᑐᖅᑕᐅᔪᓐᓇᖅᑐᖅ ᐃᓕᓐᓂᐊᖅᑎᑦᑎᔾᔪᑕᐅᓗᓂ ᑭᖑᓂᑦᑎᓐᓂ ᐊᑐᖅᑕᐅᔪᕕᓂᕐᓂᒃ, ᐊᒻᒪ ᓇᓴᐅᓯᕆᔾᔪᑕᐅᓗᓂ</a:t>
            </a:r>
            <a:r>
              <a:rPr b="0" lang="en-US" sz="2000" spc="-1" strike="noStrike">
                <a:solidFill>
                  <a:srgbClr val="000000"/>
                </a:solidFill>
                <a:latin typeface="Pigiarniq"/>
              </a:rPr>
              <a:t>.* </a:t>
            </a:r>
            <a:endParaRPr b="0" lang="en-US" sz="2000" spc="-1" strike="noStrike">
              <a:solidFill>
                <a:srgbClr val="000000"/>
              </a:solidFill>
              <a:latin typeface="Arial"/>
            </a:endParaRPr>
          </a:p>
        </p:txBody>
      </p:sp>
      <p:sp>
        <p:nvSpPr>
          <p:cNvPr id="68" name=""/>
          <p:cNvSpPr/>
          <p:nvPr/>
        </p:nvSpPr>
        <p:spPr>
          <a:xfrm>
            <a:off x="838080" y="6019920"/>
            <a:ext cx="6172200" cy="6220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900" spc="-1" strike="noStrike">
                <a:solidFill>
                  <a:srgbClr val="000000"/>
                </a:solidFill>
                <a:latin typeface="Arial"/>
              </a:rPr>
              <a:t> </a:t>
            </a:r>
            <a:r>
              <a:rPr b="0" lang="id-ID" sz="900" spc="-1" strike="noStrike">
                <a:solidFill>
                  <a:srgbClr val="000000"/>
                </a:solidFill>
                <a:latin typeface="Pigiarniq"/>
              </a:rPr>
              <a:t>ᐱᔭᐅᔪᑦ: ᓄᓇᕗᒥ ᐃᓕᓐᓂᐊᕈᑎᒃᓴᓕᐅᖅᑎᑦ</a:t>
            </a:r>
            <a:r>
              <a:rPr b="0" lang="en-US" sz="900" spc="-1" strike="noStrike">
                <a:solidFill>
                  <a:srgbClr val="000000"/>
                </a:solidFill>
                <a:latin typeface="Pigiarniq"/>
              </a:rPr>
              <a:t> - </a:t>
            </a:r>
            <a:r>
              <a:rPr b="0" lang="en-US" sz="900" spc="-1" strike="noStrike" u="sng">
                <a:solidFill>
                  <a:srgbClr val="000000"/>
                </a:solidFill>
                <a:uFillTx/>
                <a:latin typeface="Pigiarniq"/>
              </a:rPr>
              <a:t>http://142.206.72.67/02/02c/02c_supp/02c_supp_001_e.htm</a:t>
            </a:r>
            <a:r>
              <a:rPr b="0" lang="en-US" sz="900" spc="-1" strike="noStrike">
                <a:solidFill>
                  <a:srgbClr val="000000"/>
                </a:solidFill>
                <a:latin typeface="Pigiarniq"/>
              </a:rPr>
              <a:t> - </a:t>
            </a:r>
            <a:r>
              <a:rPr b="0" lang="id-ID" sz="900" spc="-1" strike="noStrike">
                <a:solidFill>
                  <a:srgbClr val="000000"/>
                </a:solidFill>
                <a:latin typeface="Pigiarniq"/>
              </a:rPr>
              <a:t>ᕖᕝᕗᐊᕆ</a:t>
            </a:r>
            <a:r>
              <a:rPr b="0" lang="en-US" sz="900" spc="-1" strike="noStrike">
                <a:solidFill>
                  <a:srgbClr val="000000"/>
                </a:solidFill>
                <a:latin typeface="Pigiarniq"/>
              </a:rPr>
              <a:t>. 14th/07</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762120" y="1143000"/>
            <a:ext cx="7543800" cy="573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3200" spc="-1" strike="noStrike">
                <a:solidFill>
                  <a:srgbClr val="000000"/>
                </a:solidFill>
                <a:latin typeface="Pigiarniq"/>
              </a:rPr>
              <a:t>ᖃᐅᔨᒪᓃᑦ ᐊᒻᒪ ᒪᓕᒐᐅᔪᑦ ᑐᓐᖓᕕᐅᔪᑦ ᓴᖅᑭᓯᒪᔪᑦ ᓄᓇᓕᖕᓂ ᐊᕐᕌᒍᒐᓴᐃᑦ ᐊᓂᒍᕐᓯᒪᓕᖅᑐᑦ ᐊᑐᖅᑕᐅᔭᕆᐊᖃᖅᐳᑦ ᐃᓕᓐᓂᐊᖅᑎᑦᓯᓂᕐᒧᑦ.</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Pigiarniq"/>
              </a:rPr>
              <a:t> </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3200" spc="-1" strike="noStrike">
                <a:solidFill>
                  <a:srgbClr val="000000"/>
                </a:solidFill>
                <a:latin typeface="Pigiarniq"/>
              </a:rPr>
              <a:t>ᑭᓯᐊᓂ ᑕᐃᒪᐃᓕᕈᑦᑕ ᐅᐱᒍᓱᑦᑎᐊᓕᕈᓐᓇᖅᑐᒍᑦ ᐱᖅᑯᓯᑐᖃᕐᓂᖅ ᐊᑐᖅᑕᐅᕙᒃᑐᑐᖃᕐᓂᒃ ᐊᒻᒪ ᐃᓕᖅᑯᓯᕐᓂᒃ.</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914040" y="1066680"/>
            <a:ext cx="7162920" cy="5639040"/>
          </a:xfrm>
          <a:prstGeom prst="rect">
            <a:avLst/>
          </a:prstGeom>
          <a:noFill/>
          <a:ln w="0">
            <a:noFill/>
          </a:ln>
        </p:spPr>
        <p:txBody>
          <a:bodyPr lIns="90000" rIns="90000" tIns="46800" bIns="46800" anchor="t">
            <a:normAutofit fontScale="97000"/>
          </a:bodyPr>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id-ID" sz="3200" spc="-1" strike="noStrike">
                <a:solidFill>
                  <a:srgbClr val="000000"/>
                </a:solidFill>
                <a:latin typeface="Pigiarniq"/>
              </a:rPr>
              <a:t>ᐃᓕᓐᓂᐊᕐᓂᖅ</a:t>
            </a:r>
            <a:endParaRPr b="0" lang="en-US" sz="32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Pigiarniq"/>
              </a:rPr>
              <a:t>	</a:t>
            </a:r>
            <a:r>
              <a:rPr b="1" i="1" lang="en-US" sz="3200" spc="-1" strike="noStrike">
                <a:solidFill>
                  <a:srgbClr val="000000"/>
                </a:solidFill>
                <a:latin typeface="Pigiarniq"/>
              </a:rPr>
              <a:t>	</a:t>
            </a:r>
            <a:r>
              <a:rPr b="1" i="1" lang="en-US" sz="3200" spc="-1" strike="noStrike">
                <a:solidFill>
                  <a:srgbClr val="000000"/>
                </a:solidFill>
                <a:latin typeface="Pigiarniq"/>
              </a:rPr>
              <a:t>     </a:t>
            </a:r>
            <a:r>
              <a:rPr b="1" i="1" lang="id-ID" sz="4000" spc="-1" strike="noStrike">
                <a:solidFill>
                  <a:srgbClr val="000000"/>
                </a:solidFill>
                <a:latin typeface="Pigiarniq"/>
              </a:rPr>
              <a:t>ᐃᓄᒍᒡᓴᓂᕐᒥᒃ,</a:t>
            </a:r>
            <a:endParaRPr b="0" lang="en-US" sz="4000" spc="-1" strike="noStrike">
              <a:solidFill>
                <a:srgbClr val="000000"/>
              </a:solidFill>
              <a:latin typeface="Arial"/>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Pigiarniq"/>
              </a:rPr>
              <a:t> </a:t>
            </a:r>
            <a:r>
              <a:rPr b="1" i="1" lang="en-US" sz="4000" spc="-1" strike="noStrike">
                <a:solidFill>
                  <a:srgbClr val="000000"/>
                </a:solidFill>
                <a:latin typeface="Pigiarniq"/>
              </a:rPr>
              <a:t>	</a:t>
            </a:r>
            <a:r>
              <a:rPr b="1" i="1" lang="en-US" sz="4000" spc="-1" strike="noStrike">
                <a:solidFill>
                  <a:srgbClr val="000000"/>
                </a:solidFill>
                <a:latin typeface="Pigiarniq"/>
              </a:rPr>
              <a:t>  </a:t>
            </a:r>
            <a:r>
              <a:rPr b="1" i="1" lang="en-US" sz="4000" spc="-1" strike="noStrike">
                <a:solidFill>
                  <a:srgbClr val="000000"/>
                </a:solidFill>
                <a:latin typeface="Pigiarniq"/>
              </a:rPr>
              <a:t>	</a:t>
            </a:r>
            <a:r>
              <a:rPr b="1" i="1" lang="en-US" sz="4000" spc="-1" strike="noStrike">
                <a:solidFill>
                  <a:srgbClr val="000000"/>
                </a:solidFill>
                <a:latin typeface="Pigiarniq"/>
              </a:rPr>
              <a:t>	</a:t>
            </a:r>
            <a:r>
              <a:rPr b="0" lang="en-US" sz="3200" spc="-1" strike="noStrike">
                <a:solidFill>
                  <a:srgbClr val="000000"/>
                </a:solidFill>
                <a:latin typeface="Pigiarniq"/>
              </a:rPr>
              <a:t> </a:t>
            </a:r>
            <a:endParaRPr b="0" lang="en-US" sz="3200" spc="-1" strike="noStrike">
              <a:solidFill>
                <a:srgbClr val="000000"/>
              </a:solidFill>
              <a:latin typeface="Arial"/>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igiarniq"/>
              </a:rPr>
              <a:t>    </a:t>
            </a:r>
            <a:r>
              <a:rPr b="0" lang="id-ID" sz="3200" spc="-1" strike="noStrike">
                <a:solidFill>
                  <a:srgbClr val="000000"/>
                </a:solidFill>
                <a:latin typeface="Pigiarniq"/>
              </a:rPr>
              <a:t>ᑖᓐᓇ ᐱᔾᔪᑎᒋᓪᓗᒍ ᖃᐃᓚᐅᖅᐳᑦ.</a:t>
            </a:r>
            <a:endParaRPr b="0" lang="en-US" sz="32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igiarniq"/>
              </a:rPr>
              <a:t>	</a:t>
            </a:r>
            <a:r>
              <a:rPr b="0" lang="en-US" sz="3200" spc="-1" strike="noStrike">
                <a:solidFill>
                  <a:srgbClr val="000000"/>
                </a:solidFill>
                <a:latin typeface="Pigiarniq"/>
              </a:rPr>
              <a:t>	</a:t>
            </a:r>
            <a:r>
              <a:rPr b="0" lang="en-US" sz="3200" spc="-1" strike="noStrike">
                <a:solidFill>
                  <a:srgbClr val="000000"/>
                </a:solidFill>
                <a:latin typeface="Pigiarniq"/>
              </a:rPr>
              <a:t>	</a:t>
            </a:r>
            <a:r>
              <a:rPr b="0" lang="en-US" sz="3200" spc="-1" strike="noStrike">
                <a:solidFill>
                  <a:srgbClr val="000000"/>
                </a:solidFill>
                <a:latin typeface="Pigiarniq"/>
              </a:rPr>
              <a:t>	</a:t>
            </a:r>
            <a:r>
              <a:rPr b="0" i="1" lang="en-US" sz="2000" spc="-1" strike="noStrike">
                <a:solidFill>
                  <a:srgbClr val="000000"/>
                </a:solidFill>
                <a:latin typeface="Pigiarniq"/>
              </a:rPr>
              <a:t>- </a:t>
            </a:r>
            <a:r>
              <a:rPr b="0" i="1" lang="id-ID" sz="2000" spc="-1" strike="noStrike">
                <a:solidFill>
                  <a:srgbClr val="000000"/>
                </a:solidFill>
                <a:latin typeface="Pigiarniq"/>
              </a:rPr>
              <a:t>ᐋᓰᓐ ᐃᕙᓗ</a:t>
            </a:r>
            <a:r>
              <a:rPr b="0" i="1" lang="en-US" sz="2000" spc="-1" strike="noStrike">
                <a:solidFill>
                  <a:srgbClr val="000000"/>
                </a:solidFill>
                <a:latin typeface="Pigiarniq"/>
              </a:rPr>
              <a:t>, 1996</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igiarniq"/>
              </a:rPr>
              <a:t>	</a:t>
            </a:r>
            <a:r>
              <a:rPr b="0" i="1" lang="en-US" sz="2000" spc="-1" strike="noStrike">
                <a:solidFill>
                  <a:srgbClr val="000000"/>
                </a:solidFill>
                <a:latin typeface="Pigiarniq"/>
              </a:rPr>
              <a:t>	</a:t>
            </a:r>
            <a:r>
              <a:rPr b="0" i="1" lang="en-US" sz="2000" spc="-1" strike="noStrike">
                <a:solidFill>
                  <a:srgbClr val="000000"/>
                </a:solidFill>
                <a:latin typeface="Pigiarniq"/>
              </a:rPr>
              <a:t>	</a:t>
            </a:r>
            <a:r>
              <a:rPr b="0" i="1" lang="id-ID" sz="2000" spc="-1" strike="noStrike">
                <a:solidFill>
                  <a:srgbClr val="000000"/>
                </a:solidFill>
                <a:latin typeface="Pigiarniq"/>
              </a:rPr>
              <a:t>ᐊᐅᔭᒃᑯᑦ ᓄᓇᒥ ᐊᐅᓪᓚᕐᓯᒪᓂᕐᒥ ᐃᓕᓐᓂᐊᕐᓂᖅ</a:t>
            </a:r>
            <a:r>
              <a:rPr b="0" i="1" lang="en-US" sz="2000" spc="-1" strike="noStrike">
                <a:solidFill>
                  <a:srgbClr val="000000"/>
                </a:solidFill>
                <a:latin typeface="Pigiarniq"/>
              </a:rPr>
              <a:t>*</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Pigiarniq"/>
              </a:rPr>
              <a:t>*ᐱᔭᐅᔪᑦ: ᐃᓄᓪᓚᕆᑦ ᑲᑐᔾᔨᖃᑎᒌᖏᑕ ᑎᑎᕋᕐᒪᔭᖏᓐᓂᑦ, 1993-1997. ᐅᖃᐅᑎᕕᓂᑦ ᑎᑎᕋᖅᑕᐅᔪᑦ ᖃᐅᔨᓴᖅᑕᐅᑎᓪᓗᒋᑦ.  ᐃᑦ ᐸᒥᓚ ᓯᑐᓐ ᐊᒻᒪ ᓕᓴ ᓯᑎᕕᓐᓴᓐ (Lincoln</a:t>
            </a:r>
            <a:r>
              <a:rPr b="0" lang="en-US" sz="1000" spc="-1" strike="noStrike">
                <a:solidFill>
                  <a:srgbClr val="000000"/>
                </a:solidFill>
                <a:latin typeface="Pigiarniq"/>
              </a:rPr>
              <a:t>:</a:t>
            </a:r>
            <a:r>
              <a:rPr b="0" lang="es-ES_tradnl" sz="1000" spc="-1" strike="noStrike">
                <a:solidFill>
                  <a:srgbClr val="000000"/>
                </a:solidFill>
                <a:latin typeface="Pigiarniq"/>
              </a:rPr>
              <a:t> University of Nebraska Press, 2006) 141.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Pigiarniq"/>
              </a:rPr>
              <a:t>ᐃᓕᑉᐸᓪᓕᐊᓂᖅ</a:t>
            </a:r>
            <a:endParaRPr b="0" lang="en-US" sz="4400" spc="-1" strike="noStrike">
              <a:solidFill>
                <a:srgbClr val="000000"/>
              </a:solidFill>
              <a:latin typeface="Arial"/>
            </a:endParaRPr>
          </a:p>
        </p:txBody>
      </p:sp>
      <p:sp>
        <p:nvSpPr>
          <p:cNvPr id="4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800" spc="-1" strike="noStrike">
                <a:solidFill>
                  <a:srgbClr val="000000"/>
                </a:solidFill>
                <a:latin typeface="Pigiarniq"/>
              </a:rPr>
              <a:t>ᐃᓄᐃᑦ ᖃᐅᔨᒪᓂᖓᑕ ᐊᐅᓚᓂᖓ ᑕᐃᔭᐅᕗᖅ ᐃᓄᐃᑦ ᖃᐅᔨᒪᔭᑐᖃᖏᓐᓂᒃ</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800" spc="-1" strike="noStrike">
                <a:solidFill>
                  <a:srgbClr val="000000"/>
                </a:solidFill>
                <a:latin typeface="Pigiarniq"/>
              </a:rPr>
              <a:t>ᐃᓄᐃᑦ ᖃᐅᔨᒪᔭᑐᖃᖏᑦ ᑐᑭᖃᖅᑐᖅ “ᐊᑯᓂ ᖃᐅᔨᒪᔭᐅᓕᖅᑐᑦ ᐃᓄᖕᓄ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09480" y="762120"/>
            <a:ext cx="7772400" cy="54864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ᐃᓄᐃᑦ ᖃᐅᔨᒪᔭᑐᖃᖏᑦ ᐃᓗᓕᖃᖅᑐᖅ ᐅᓄᖅᑐᓂᒃ:</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ᐱᓕᕆᔾᔪᓯᑐᖃᖅ ᐱᓕᒻᒪᒃᓴᕐᖢᒍ ᐃᓕᓐᓂᐊᖅᑕᐅᓪᓗᓂ:</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Pigiarniq"/>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ᐱᓕᒻᒪᒃᓴᕐᖢᑎᒃ ᐊᔪᕈᓐᓃᕐᓴᕐᖢᑎᒃ, ᐱᓕᕆᓇᓱᖕᓂᒃᑯᑦ ᐊᒻᒪ ᐊᐅᓚᓂᒃᑯᑦ</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ᐊᑲᐅᓐᖏᓕᐅᕈᑎᓂ ᐃᓅᓯᓪᓚᕆᖕᒥ ᐋᖅᑭᒡᓱᐃᓂᖅ</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ᐃᓄᐃᑦ ᐅᒃᐱᕆᔭᖏᑦ</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Pigiarniq"/>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ᐊᒃᑐᐊᓂᖃᕐᓂᖏᑦ ᓄᓇᒧᑦ ᑲᔪᓯᑎᑕᐅᓗᓂ</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Pigiarniq"/>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ᐃᓱᒪᒋᔭᐅᔪᑦ ᑕᒪᕐᒥᒃ ᑕᑎᒌᖃᑦᑕᐅᑎᓂᖏᓐᓂᒃ ᐃᓄᐃᑦ ᐊᒻᒪ ᓯᓚ</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ᐊᑯᓂᐊᓗᒃ ᐱᐅᓯᕐᒧᑦ ᒪᓕᒐᕆᔭᐅᔪᑦ ᑐᓐᖓᕕᒋᔭᐅᓪᓗᑎᒃ ᐃᓄᐃᑦ ᐃᓕᖅᑯᓯᖏᓐᓄᑦ ᐊᒻᒪ ᐱᓕᕆᔾᔪᓯᖏᓐᓄᑦ</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Pigiarniq"/>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ᑐᓴᖅᑎᑦᑎᕙᓚᐅᖅᑐᑦ ᒪᒃᑯᒃᑐᓂᒃ ᐃᓐᖏᐅᓯᖅᑎᒍᑦ, ᐅᓂᒃᑳᑎᒍᑦ, ᐅᓂᒃᑳᖅᑐᐊᑎᒍᑦ, ᐊᒻᒪ ᑕᑯᒃᓴᐅᑎᑦᑎᕕᐅᓪᓗᑎᒃ ᐱᐅᓯᑦᑎᐊᕙᖕᒥᒃ</a:t>
            </a:r>
            <a:endParaRPr b="0" lang="en-US" sz="2000" spc="-1" strike="noStrike">
              <a:solidFill>
                <a:srgbClr val="00000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Pigiarniq"/>
              </a:rPr>
              <a:t>ᐃᒻᒥᖕᓄᑦ ᑕᑎᒌᖃᑦᑕᐅᑎᓂᖏᑦ</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000000"/>
                </a:solidFill>
                <a:latin typeface="Pigiarniq"/>
              </a:rPr>
              <a:t>ᐊᒥᖅᑳᕐᓂᖅ</a:t>
            </a:r>
            <a:r>
              <a:rPr b="0" lang="en-US" sz="2400" spc="-1" strike="noStrike">
                <a:solidFill>
                  <a:srgbClr val="000000"/>
                </a:solidFill>
                <a:latin typeface="Pigiarniq"/>
              </a:rPr>
              <a:t> </a:t>
            </a:r>
            <a:r>
              <a:rPr b="0" lang="id-ID" sz="2400" spc="-1" strike="noStrike">
                <a:solidFill>
                  <a:srgbClr val="000000"/>
                </a:solidFill>
                <a:latin typeface="Pigiarniq"/>
              </a:rPr>
              <a:t>ᐊᑐᖅᑕᐅᔭᕆᐊᖃᖅᑐᖅ ᓄᓇᓕᐅᔪᒧᑦ ᐱᐅᓯᖓᓄᑦ ᐊᒻᒪ ᐃᓅᓯᖏᓐᓄᑦ</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Pigiarniq"/>
              </a:rPr>
              <a:t>ᐅᐱᒍᓱᖕᓂᖅ ᐊᓯᖓᑕ ᐱᓕᕆᔪᓐᓇᖅᑕᖏᓐᓂᒃ</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Pigiarniq"/>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ᐊᕐᓇᐃᑦ ᑐᐱᓕᐅᖅᑎᐅᓪᓗᑎᒃ/ ᐊᖑᑎᑦ ᓴᓇᕐᕈᑎᓕᐅᖅᑎᐅᓪᓗᑎᒃ</a:t>
            </a:r>
            <a:endParaRPr b="0" lang="en-US" sz="2000" spc="-1" strike="noStrike">
              <a:solidFill>
                <a:srgbClr val="000000"/>
              </a:solidFill>
              <a:latin typeface="Arial"/>
            </a:endParaRPr>
          </a:p>
          <a:p>
            <a:pPr lvl="3" marL="1600200" indent="-228600">
              <a:lnSpc>
                <a:spcPct val="100000"/>
              </a:lnSpc>
              <a:spcBef>
                <a:spcPts val="451"/>
              </a:spcBef>
              <a:buClr>
                <a:srgbClr val="000000"/>
              </a:buClr>
              <a:buFont typeface="Pigiarniq"/>
              <a:buChar char="–"/>
              <a:tabLst>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Pigiarniq"/>
              </a:rPr>
              <a:t>ᑭᓯᐊᓂᓕ: ᐱᓕᕆᔭᐅᔪᓐᓇᕐᓂᐅᔪᑦ ᐊᖑᑎᖃᖏᑦᑐᑦ ᐊᕐᓇᖃᕋᑎᒡᓗ, ᐅᓄᖅᑐᑦ ᐊᖑᑎᑦ ᐊᓐᓄᕌᓕᐅᕈᓐᓇᖅᑐᑦ,ᐊᒻᒪ ᐅᓄᖅᑐᑦ ᐊᕐᓇᑦ ᐊᖑᓇᓱᒃᐸᒃᑐ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294920"/>
            <a:ext cx="7772400" cy="4343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Pigiarniq"/>
              </a:rPr>
              <a:t> </a:t>
            </a:r>
            <a:r>
              <a:rPr b="0" lang="id-ID" sz="2400" spc="-1" strike="noStrike">
                <a:solidFill>
                  <a:srgbClr val="000000"/>
                </a:solidFill>
                <a:latin typeface="Pigiarniq"/>
              </a:rPr>
              <a:t>“</a:t>
            </a:r>
            <a:r>
              <a:rPr b="0" lang="id-ID" sz="2400" spc="-1" strike="noStrike">
                <a:solidFill>
                  <a:srgbClr val="000000"/>
                </a:solidFill>
                <a:latin typeface="Pigiarniq"/>
              </a:rPr>
              <a:t>ᐱᕐᔪᐊᖃᖅᐸᓚᐅᕐᓯᒪᒐᑦᑕ ᑕᐃᔭᐅᔪᒥᒃ </a:t>
            </a:r>
            <a:r>
              <a:rPr b="0" i="1" lang="id-ID" sz="2400" spc="-1" strike="noStrike">
                <a:solidFill>
                  <a:srgbClr val="000000"/>
                </a:solidFill>
                <a:latin typeface="Pigiarniq"/>
              </a:rPr>
              <a:t>ᓇᐃᑦᑐᕐᖠᖅᑐᖅ </a:t>
            </a:r>
            <a:r>
              <a:rPr b="0" lang="id-ID" sz="2400" spc="-1" strike="noStrike">
                <a:solidFill>
                  <a:srgbClr val="000000"/>
                </a:solidFill>
                <a:latin typeface="Pigiarniq"/>
              </a:rPr>
              <a:t>ᐊᐅᔭᖅ ᐃᓱᓕᑦᑕᕌᖓᑦ ᐃᓄᐃᑦ ᑲᑎᓪᖢᑎᒃ ᓂᕈᐊᖃᑦᑕᕐᖢᑎᒃ ᑐᒃᑑᑦ ᐊᒥᖏᓐᓂᒃ ᐅᑭᐅᒧᑦ ᐊᑐᕐᓂᐊᖅᑕᒥᖕᓂᒃ ᖁᓕᒃᑕᒃᓴᓂᒃ ᐊᒻᒪ ᖁᕕᐊᓱᒍᑎᖃᕐᖢᑎᒃ ᑐᒃᑐᑦᑐᓐᓇᓚᐅᕐᓂᖏᓐᓄᑦ ᐊᒻᒪ ᖁᕕᐊᓇᓚᐅᕐᓂᖓᓄᑦ. ᐊᖓᔪᖅᑳᒃᑲ ᐸᕐᓇᖃᑦᑕᓚᐅᕐᓯᒪᔪᑦ ᑕᐃᑦᓱᒧᖓ ᐊᒻᒪ ᐃᓕᑯᖅᑲᖅᑕᐅᓪᓗᑎᒃ ᑐᒃᑐᑦ ᐊᒥᖏᑦ, ᐊᐅᔭᒃᑯᑦ ᑐᒃᑐᑕᕕᓂᐅᔪᑦ, ᐊᒻᒪ ᑭᓇᒃᑯᑐᐃᓐᓇᑦᑎᐊᑦ ᑎᒍᓯᔪᓐᓇᕐᖢᑎᒃ ᐱᐅᒋᔭᖏᓐᓂ, ᐊᒻᒪ ᑭᓇᒃᑯᓕᒫᑦᑎᐊᑦ ᑎᒍᓯᔪᓐᓇᕐᖢᑎᒃ ᑐᒃᑐᓚᐅᖏᑦᑑᒐᓗᐊᑦ.  ᑕᐃᒪᓐᓇ ᑐᒃᖃᖅᑐᖅ ᐅᖃᐅᓯᖅ ‘ᐃᑲᔪᖃᑎᒌᖕᓂᖅ’”.</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igiarniq"/>
              </a:rPr>
              <a:t>	</a:t>
            </a:r>
            <a:r>
              <a:rPr b="0" lang="en-US" sz="2600" spc="-1" strike="noStrike">
                <a:solidFill>
                  <a:srgbClr val="000000"/>
                </a:solidFill>
                <a:latin typeface="Pigiarniq"/>
              </a:rPr>
              <a:t>	</a:t>
            </a:r>
            <a:r>
              <a:rPr b="0" lang="en-US" sz="2600" spc="-1" strike="noStrike">
                <a:solidFill>
                  <a:srgbClr val="000000"/>
                </a:solidFill>
                <a:latin typeface="Pigiarniq"/>
              </a:rPr>
              <a:t>	</a:t>
            </a:r>
            <a:r>
              <a:rPr b="0" lang="en-US" sz="2000" spc="-1" strike="noStrike">
                <a:solidFill>
                  <a:srgbClr val="000000"/>
                </a:solidFill>
                <a:latin typeface="Pigiarniq"/>
              </a:rPr>
              <a:t>- </a:t>
            </a:r>
            <a:r>
              <a:rPr b="0" lang="id-ID" sz="2000" spc="-1" strike="noStrike">
                <a:solidFill>
                  <a:srgbClr val="000000"/>
                </a:solidFill>
                <a:latin typeface="Pigiarniq"/>
              </a:rPr>
              <a:t>ᓇᐃᑕᓐ ᖃᒪᓂᖅ, ᐊᒥᑦᑐᖅ</a:t>
            </a:r>
            <a:r>
              <a:rPr b="0" lang="en-US" sz="2000" spc="-1" strike="noStrike">
                <a:solidFill>
                  <a:srgbClr val="000000"/>
                </a:solidFill>
                <a:latin typeface="Pigiarniq"/>
              </a:rPr>
              <a:t>*</a:t>
            </a:r>
            <a:endParaRPr b="0" lang="en-US" sz="2000" spc="-1" strike="noStrike">
              <a:solidFill>
                <a:srgbClr val="000000"/>
              </a:solidFill>
              <a:latin typeface="Arial"/>
            </a:endParaRPr>
          </a:p>
        </p:txBody>
      </p:sp>
      <p:sp>
        <p:nvSpPr>
          <p:cNvPr id="50" name=""/>
          <p:cNvSpPr/>
          <p:nvPr/>
        </p:nvSpPr>
        <p:spPr>
          <a:xfrm>
            <a:off x="990720" y="6248520"/>
            <a:ext cx="7391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igiarniq"/>
              </a:rPr>
              <a:t>*</a:t>
            </a:r>
            <a:r>
              <a:rPr b="0" i="1" lang="id-ID" sz="1200" spc="-1" strike="noStrike">
                <a:solidFill>
                  <a:srgbClr val="000000"/>
                </a:solidFill>
                <a:latin typeface="Pigiarniq"/>
              </a:rPr>
              <a:t>ᐱᔭᐅᔪᑦ</a:t>
            </a:r>
            <a:r>
              <a:rPr b="0" i="1" lang="en-US" sz="1200" spc="-1" strike="noStrike">
                <a:solidFill>
                  <a:srgbClr val="000000"/>
                </a:solidFill>
                <a:latin typeface="Pigiarniq"/>
              </a:rPr>
              <a:t>: </a:t>
            </a:r>
            <a:r>
              <a:rPr b="0" i="1" lang="id-ID" sz="1200" spc="-1" strike="noStrike">
                <a:solidFill>
                  <a:srgbClr val="000000"/>
                </a:solidFill>
                <a:latin typeface="Pigiarniq"/>
              </a:rPr>
              <a:t>ᐅᖃᓗᕋᐃᑦ,</a:t>
            </a:r>
            <a:r>
              <a:rPr b="0" lang="id-ID" sz="1200" spc="-1" strike="noStrike">
                <a:solidFill>
                  <a:srgbClr val="000000"/>
                </a:solidFill>
                <a:latin typeface="Pigiarniq"/>
              </a:rPr>
              <a:t> ᐅᓂᒃᑳᖅᑐᐊᑦ ᓄᓇᕗᒥ. ᓄᐊᑕᐅᓯᒪᔪᑦ ᑎᑎᕋᖅᑕᐅᒃᑲᓐᓂᕐᖢᑎᒡᓗ ᔭᓐ ᐱᓇᑦ ᐊᒻᒪ ᓱᓴᓐ ᕋᐅᓕ</a:t>
            </a:r>
            <a:r>
              <a:rPr b="0" lang="en-US" sz="1200" spc="-1" strike="noStrike">
                <a:solidFill>
                  <a:srgbClr val="000000"/>
                </a:solidFill>
                <a:latin typeface="Pigiarniq"/>
              </a:rPr>
              <a:t> (</a:t>
            </a:r>
            <a:r>
              <a:rPr b="0" lang="id-ID" sz="1200" spc="-1" strike="noStrike">
                <a:solidFill>
                  <a:srgbClr val="000000"/>
                </a:solidFill>
                <a:latin typeface="Pigiarniq"/>
              </a:rPr>
              <a:t>ᓯᓚᑦᑐᓴᕐᕕᒡᔪᐊᖓᑦ </a:t>
            </a:r>
            <a:r>
              <a:rPr b="0" lang="en-US" sz="1200" spc="-1" strike="noStrike">
                <a:solidFill>
                  <a:srgbClr val="000000"/>
                </a:solidFill>
                <a:latin typeface="Pigiarniq"/>
              </a:rPr>
              <a:t>McGill-Queen's University Press, 2004) 3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4000" spc="-1" strike="noStrike">
                <a:solidFill>
                  <a:srgbClr val="000000"/>
                </a:solidFill>
                <a:latin typeface="Pigiarniq"/>
              </a:rPr>
              <a:t>ᐃᓕᓐᓂᐊᕐᓂᖅ ᐱᓕᕆᓂᒃᑯᑦ</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spcBef>
                <a:spcPts val="901"/>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Pigiarniq"/>
              </a:rPr>
              <a:t>ᑕᐅᑐᖕᓂᒃᑯᑦ</a:t>
            </a:r>
            <a:endParaRPr b="0" lang="en-US" sz="3600" spc="-1" strike="noStrike">
              <a:solidFill>
                <a:srgbClr val="000000"/>
              </a:solidFill>
              <a:latin typeface="Arial"/>
            </a:endParaRPr>
          </a:p>
          <a:p>
            <a:pPr marL="3430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901"/>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Pigiarniq"/>
              </a:rPr>
              <a:t>ᐆᒃᑐᕋᒃᑲᓐᓂᖃᑦᑕᕐᓂᒃᑯᑦ</a:t>
            </a:r>
            <a:endParaRPr b="0" lang="en-US" sz="3600" spc="-1" strike="noStrike">
              <a:solidFill>
                <a:srgbClr val="000000"/>
              </a:solidFill>
              <a:latin typeface="Arial"/>
            </a:endParaRPr>
          </a:p>
          <a:p>
            <a:pPr marL="3430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901"/>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Pigiarniq"/>
              </a:rPr>
              <a:t>ᑐᑭᓯᐊᓂ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1020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3600" spc="-1" strike="noStrike">
                <a:solidFill>
                  <a:srgbClr val="000000"/>
                </a:solidFill>
                <a:latin typeface="Pigiarniq"/>
              </a:rPr>
              <a:t>ᐃᓕᓐᓂᐊᕐᓂᖅ ᐱᓕᕆᓂᒃᑯᑦ</a:t>
            </a:r>
            <a:r>
              <a:rPr b="0" lang="en-US" sz="3600" spc="-1" strike="noStrike">
                <a:solidFill>
                  <a:srgbClr val="000000"/>
                </a:solidFill>
                <a:latin typeface="Arial"/>
              </a:rPr>
              <a:t> </a:t>
            </a:r>
            <a:r>
              <a:rPr b="0" lang="id-ID" sz="3600" spc="-1" strike="noStrike">
                <a:solidFill>
                  <a:srgbClr val="000000"/>
                </a:solidFill>
                <a:latin typeface="Arial"/>
              </a:rPr>
              <a:t>:</a:t>
            </a:r>
            <a:br>
              <a:rPr sz="4000"/>
            </a:br>
            <a:r>
              <a:rPr b="0" i="1" lang="id-ID" sz="4000" spc="-1" strike="noStrike">
                <a:solidFill>
                  <a:srgbClr val="000000"/>
                </a:solidFill>
                <a:latin typeface="Pigiarniq"/>
              </a:rPr>
              <a:t>ᑕᐅᑐᖕᓂᒃᑯᑦ</a:t>
            </a:r>
            <a:endParaRPr b="0" lang="en-US" sz="4000" spc="-1" strike="noStrike">
              <a:solidFill>
                <a:srgbClr val="000000"/>
              </a:solidFill>
              <a:latin typeface="Arial"/>
            </a:endParaRPr>
          </a:p>
        </p:txBody>
      </p:sp>
      <p:sp>
        <p:nvSpPr>
          <p:cNvPr id="54" name="PlaceHolder 2"/>
          <p:cNvSpPr>
            <a:spLocks noGrp="1"/>
          </p:cNvSpPr>
          <p:nvPr>
            <p:ph/>
          </p:nvPr>
        </p:nvSpPr>
        <p:spPr>
          <a:xfrm>
            <a:off x="380880" y="18288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Pigiarniq"/>
              </a:rPr>
              <a:t>ᖃᓄᖅ ᐱᓂᐊᕐᓂᖃᕆᐊᖃᕐᒪᖔᑦ</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Pigiarniq"/>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a:t>
            </a:r>
            <a:r>
              <a:rPr b="0" lang="id-ID" sz="2000" spc="-1" strike="noStrike">
                <a:solidFill>
                  <a:srgbClr val="000000"/>
                </a:solidFill>
                <a:latin typeface="Pigiarniq"/>
              </a:rPr>
              <a:t>ᐱᐅᔪᒥᒃ” ᐅᕝᕙᓘᓐᓂᑦ “ᐱᐅᖏᑦᑐᒥᒃ” - ᐃᓕᓐᓂᐊᕐᓂᖅ ᐊᓯᒥᖕᓂᒃ ᑕᑯᓐᓇᕐᓂᒃᑯᑦ</a:t>
            </a:r>
            <a:endParaRPr b="0" lang="en-US" sz="2000" spc="-1" strike="noStrike">
              <a:solidFill>
                <a:srgbClr val="000000"/>
              </a:solidFill>
              <a:latin typeface="Arial"/>
            </a:endParaRPr>
          </a:p>
          <a:p>
            <a:pPr marL="343080" indent="-343080">
              <a:lnSpc>
                <a:spcPct val="90000"/>
              </a:lnSpc>
              <a:spcBef>
                <a:spcPts val="700"/>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Pigiarniq"/>
              </a:rPr>
              <a:t>ᖃᓄᖅ ᐃᓄᖃᑎᒥᓄᑦ ᐱᓕᕆᖃᑕᐅᒐᔭᕐᒪᖔᑦ/ᓄᓇᖃᕐᓗᓂ ᓄᓇᓕᖕᓂ </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Pigiarniq"/>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ᓱᕈᓯᑦ ᐃᓅᖃᑎᒌᒃᑐᑦ ᐆᒃᑐᕋᐅᑎᖃᕐᓂᒃᑯᑦ</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Pigiarniq"/>
              <a:buChar char="–"/>
              <a:tabLst>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Pigiarniq"/>
              </a:rPr>
              <a:t>ᓲᕐᓗ, ᓱᕈᓯᖅ ᒥᖕᓂᓕᖅᐸᑦ ᐃᓂᖅᑎᖅᑕᐅᒐᔭᖅᑐᖅ ᑐᓴᖅᑕᐅᔪᓐᓇᕐᓗᓂ ᐊᓯᖏᓐᓄᑦ</a:t>
            </a:r>
            <a:endParaRPr b="0" lang="en-US" sz="1800" spc="-1" strike="noStrike">
              <a:solidFill>
                <a:srgbClr val="000000"/>
              </a:solidFill>
              <a:latin typeface="Arial"/>
            </a:endParaRPr>
          </a:p>
          <a:p>
            <a:pPr marL="343080" indent="-343080">
              <a:lnSpc>
                <a:spcPct val="90000"/>
              </a:lnSpc>
              <a:spcBef>
                <a:spcPts val="700"/>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Pigiarniq"/>
              </a:rPr>
              <a:t>ᖃᓄᖅ ᐊᓐᓇᒡᓗᓂ ᐃᓅᔪᓐᓇᕐᒪᖔᑦ</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Pigiarniq"/>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ᓄᓇᖃᕐᓗᓂ ᓄᓇᒥ, ᐃᓕᓐᓂᐊᕐᓗᓂ ᐊᑐᓪᓚᕆᖕᓂᒃᑯᑦ</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Pigiarniq"/>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ᒪᓕᒍᓐᓇᕐᓗᓂ ᐃᓄᒃᓱᒐᕐᓂᒃ, ᐃᓕᓴᕐᓯᔪᓐᓇᕐᓗᓂ ᐊᖑᓇᓱᒐᒃᓴᖏᑦ ᖃᖓᒃᑰᔭᕆᐊᖃᕐᒪᖔᑕ</a:t>
            </a:r>
            <a:r>
              <a:rPr b="0" lang="en-US" sz="2000" spc="-1" strike="noStrike">
                <a:solidFill>
                  <a:srgbClr val="000000"/>
                </a:solidFill>
                <a:latin typeface="Pigiarniq"/>
              </a:rPr>
              <a:t> </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Pigiarniq"/>
              </a:rPr>
              <a:t>ᐃᓕᓐᓂᐊᕐᓂᖅ ᐆᒃᑐᕋᕐᓂᒃᑯᑦ</a:t>
            </a:r>
            <a:endParaRPr b="0" lang="en-US" sz="3600" spc="-1" strike="noStrike">
              <a:solidFill>
                <a:srgbClr val="000000"/>
              </a:solidFill>
              <a:latin typeface="Arial"/>
            </a:endParaRPr>
          </a:p>
        </p:txBody>
      </p:sp>
      <p:sp>
        <p:nvSpPr>
          <p:cNvPr id="56"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Pigiarniq"/>
              </a:rPr>
              <a:t>ᑕᐅᑐᖃᑦᑕᕐᓂᖅ ᐱᐅᓯᐅᔪᒥᒃ/ᐱᓕᕆᖃᑎᖃᓂᖏᑦ:</a:t>
            </a:r>
            <a:r>
              <a:rPr b="0" lang="en-US" sz="2800" spc="-1" strike="noStrike">
                <a:solidFill>
                  <a:srgbClr val="000000"/>
                </a:solidFill>
                <a:latin typeface="Pigiarniq"/>
              </a:rPr>
              <a:t> </a:t>
            </a:r>
            <a:endParaRPr b="0" lang="en-US" sz="2800" spc="-1" strike="noStrike">
              <a:solidFill>
                <a:srgbClr val="000000"/>
              </a:solidFill>
              <a:latin typeface="Arial"/>
            </a:endParaRPr>
          </a:p>
          <a:p>
            <a:pPr lvl="2" marL="1143000" indent="-228600">
              <a:lnSpc>
                <a:spcPct val="100000"/>
              </a:lnSpc>
              <a:spcBef>
                <a:spcPts val="499"/>
              </a:spcBef>
              <a:buClr>
                <a:srgbClr val="000000"/>
              </a:buClr>
              <a:buFont typeface="Pigiarniq"/>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ᐆᒃᑑᑎᓕᐊᕆᔭᐅᔪᓂᒃ ᐃᓐᓇᕐᓄᑦ, ᐊᖓᔪᖅᑳᓄᑦ, ᐅᓇᓱᖏᓐᓄᓪᓗ</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Pigiarniq"/>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ᐱᓕᕆᖃᑎᖃᕐᓂᖏᑦ ᐃᓚᒥᖕᓄᑦ, ᓄᓇᓕᖏᓐᓂᓗ ᐊᔾᔪᒥᒋᔭᐅᓗᓂ ᐃᔾᔪᐊᑕᐅᔪᓐᓇᕐᓗᓂ ᓱᕈᓯᕐᓄᑦ</a:t>
            </a:r>
            <a:endParaRPr b="0" lang="en-US" sz="2000" spc="-1" strike="noStrike">
              <a:solidFill>
                <a:srgbClr val="000000"/>
              </a:solidFill>
              <a:latin typeface="Arial"/>
            </a:endParaRPr>
          </a:p>
          <a:p>
            <a:pPr marL="343080" indent="-343080">
              <a:lnSpc>
                <a:spcPct val="100000"/>
              </a:lnSpc>
              <a:spcBef>
                <a:spcPts val="700"/>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Pigiarniq"/>
              </a:rPr>
              <a:t>ᑕᐅᑐᒡᓗᓂ ᐅᔾᔨᕈᓱᖕᓂᖅ:</a:t>
            </a:r>
            <a:endParaRPr b="0" lang="en-US" sz="2800" spc="-1" strike="noStrike">
              <a:solidFill>
                <a:srgbClr val="000000"/>
              </a:solidFill>
              <a:latin typeface="Arial"/>
            </a:endParaRPr>
          </a:p>
          <a:p>
            <a:pPr lvl="3" marL="1600200" indent="-228600">
              <a:lnSpc>
                <a:spcPct val="100000"/>
              </a:lnSpc>
              <a:spcBef>
                <a:spcPts val="451"/>
              </a:spcBef>
              <a:buClr>
                <a:srgbClr val="000000"/>
              </a:buClr>
              <a:buFont typeface="Pigiarniq"/>
              <a:buChar char="–"/>
              <a:tabLst>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Pigiarniq"/>
              </a:rPr>
              <a:t>ᓲᕐᓗ ᑕᑯᓐᓇᕐᓗᓂᐅᒃ ᐊᑖᑕᖓ ᐱᓚᒃᑐᖅ, ᐃᓕᓐᓂᐊᕐᓗᓂᓘᓐᓃᑦ ᒥᕐᓱᕐᓂᕐᒥᒃ ᐊᓈᓇᒥᓂᑦ</a:t>
            </a:r>
            <a:endParaRPr b="0" lang="en-US" sz="1800" spc="-1" strike="noStrike">
              <a:solidFill>
                <a:srgbClr val="000000"/>
              </a:solidFill>
              <a:latin typeface="Arial"/>
            </a:endParaRPr>
          </a:p>
          <a:p>
            <a:pPr marL="343080" indent="-343080">
              <a:lnSpc>
                <a:spcPct val="100000"/>
              </a:lnSpc>
              <a:spcBef>
                <a:spcPts val="700"/>
              </a:spcBef>
              <a:buClr>
                <a:srgbClr val="000000"/>
              </a:buClr>
              <a:buFont typeface="Pigiarn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Pigiarniq"/>
              </a:rPr>
              <a:t>ᑕᐅᑐᒡᓗᓂ ᐅᔾᔨᕈᓱᖕᓂᖅ ᐊᕙᑎᒥᐅᑕᒥᓂᒃ:</a:t>
            </a:r>
            <a:endParaRPr b="0" lang="en-US" sz="2800" spc="-1" strike="noStrike">
              <a:solidFill>
                <a:srgbClr val="000000"/>
              </a:solidFill>
              <a:latin typeface="Arial"/>
            </a:endParaRPr>
          </a:p>
          <a:p>
            <a:pPr lvl="2" marL="1143000" indent="-228600">
              <a:lnSpc>
                <a:spcPct val="100000"/>
              </a:lnSpc>
              <a:spcBef>
                <a:spcPts val="499"/>
              </a:spcBef>
              <a:buClr>
                <a:srgbClr val="000000"/>
              </a:buClr>
              <a:buFont typeface="Pigiarniq"/>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Pigiarniq"/>
              </a:rPr>
              <a:t>ᖃᐅᔨᒪᓂᖓ ᓄᓇᒥᒃ/ᓯᓚᒥᒃ, ᐃᓄᒃᓱᒐᕐᓂᕐᓗ ᐅᔾᔨᕈᓱᖕᓂᖅ, ᖃᓄᐃᑦᑑᓂᖏᓪᓗ ᓄᕗᔭᐃᑦ, ᑖᒃᑯᐊ ᐆᒃᑑᑎᒋᓗᒋᑦ</a:t>
            </a:r>
            <a:endParaRPr b="0" lang="en-US" sz="20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5T01:43:46Z</dcterms:created>
  <dc:creator>Leah Blain</dc:creator>
  <dc:description/>
  <dc:language>en-US</dc:language>
  <cp:lastModifiedBy> </cp:lastModifiedBy>
  <cp:lastPrinted>2007-02-06T20:07:45Z</cp:lastPrinted>
  <dcterms:modified xsi:type="dcterms:W3CDTF">2007-02-22T16:22:14Z</dcterms:modified>
  <cp:revision>68</cp:revision>
  <dc:subject/>
  <dc:title>Learning By Doing:</dc:title>
</cp:coreProperties>
</file>