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7D4B-49AA-42BC-80FE-4EFE0D2C0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down on th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down on th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505C-2EEC-4EC7-B31A-6C60235AB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60E4-E324-47F7-B6B6-93D6986B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79D8-45C5-4E66-BF0B-545416A1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3F32-91AF-4C77-BE66-DF981DF2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60BC-E027-446E-8884-53F72FD7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12C4-39F7-4E28-8ACD-3229256A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E0CD-B165-41BB-987F-175A853D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91A5-F46A-4DE5-A11D-6E10B570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CD47-C047-4EBF-B784-99504FEF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389B-E40A-4B7D-8226-3945A757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9B12-8F7A-4622-B7CE-90C48BB9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5267-8BF9-4E04-90FF-1FB4E4A9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7805-B992-4558-AC9D-346A36714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ᐃᓄᐃᑦ ᐋᖅᑭᒡᓱᐃᔾᔪᓯᑐᖃᖏᑕ (ᐃᖅᑲᖅᑐᐃᕕᓕᕆᓂᒃᑯᑦ) ᐊᐅᓚᓂ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ᓄᓇᕗᒥ ᐃᖅᑲᖅᑐᐃᕕᓕᕆᓂᕐᒧᑦ ᐋᖅᑭᒡᓯᒪᓂᐅᔪ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ᓄᓇᕗᑦ ᐃᖅᑲᖅᑐᐃᕕᖓᑦ - ᑲᓇᑕᓕᒫᒥ ᑕᑯᓐᓇᕐᓗᒍ ᑖᓐᓇᑐᐊᑦᑎᐊᖑᓪᓗᓂᓕ ᐃᖅᑲᖅᑐᐃᕕᒋᔭᐅᖕᒪᑦ ᓄᓇᕗ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ᐱᖃᓯᐅᔾᔨᓯᒪᓪᓗᓂ ᐃᖏᕐᕋᓂᖏᓐᓂᒃ ᓄᓇᕗᑦ ᓴᖅᑭᑕᐅᓚᐅᓂᖓᒍ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ᐃᓄᐃᑦ ᐃᓚᐅᑎᑕᐅᓗᑎᒃ ᐃᓘᓐᓇᖏᓐᓂ ᐃᓱᒪᓕᐅᕈᑕᐅᔪᓂ ᐃᓘᓐᓇᖏᓐᓂ ᐱᔾᔪᑕᐅᔪ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000" spc="-1" strike="noStrike">
                <a:solidFill>
                  <a:srgbClr val="000000"/>
                </a:solidFill>
                <a:latin typeface="Pigiarniq"/>
              </a:rPr>
              <a:t>ᓄᓇᕗᒥ ᐃᖅᑲᖅᑐᐃᕕᒃ: ᐱᔾᒧᑎᖃᖅᑐᖅ ᓄᓇᕗᒥ ᐃᖅᑲᖅᑐᐃᕕᓕᕆᓂᕐᒧᑦ </a:t>
            </a:r>
            <a:r>
              <a:rPr b="0" i="1" lang="en-US" sz="1000" spc="-1" strike="noStrike">
                <a:solidFill>
                  <a:srgbClr val="000000"/>
                </a:solidFill>
                <a:latin typeface="Pigiarniq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igiarniq"/>
              </a:rPr>
              <a:t>&lt;http://www.nucj.ca/unifiedcourt.ht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igiarniq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ᓄᓇᕗᒥ ᐃᖅᑲᖅᑐᐃᕕ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ᑲᓇᑕᒥ ᓯᕗᓪᓕᖅᐹᑦᑎᐊᖑᔪᖅ ᐊᒻᒪ ᑖᓐᓇᑐᐊᑦᑎᐊᖑᔪᖅ ᐊᓯᖓᒍᑦ ᖁᕝᕙᓯᖕᓂᖃᖏᑦᑐᖅ ᐃᖅᑲᖅᑐᐃᕕᐅᔪ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ᑭᖑᕝᕕᕐᓯᓚᐅᕐᓯᒪᔪᖅ ᐋᖅᑭᒡᓯᒪᓂᖓᓂᒃ ᓄᓇᑦᓯᐊᒥ ᐃᖅᑲᖅᑐᐃᕕᖕᒥ ᐊᒻᒪ ᐃᖅᑲᖅᑐᐃᕕᒡᔪᐊᕐᒥ ᐊᑐᖅᑕᐅᕙᒃᑐᒥ ᑲᓇᑕᒥᐅᑕᐅᔪᓄ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ᓴᖅᑭᑕᐅᓪᓗᓂ ᐊᐃᕐᕆᓕ</a:t>
            </a:r>
            <a:r>
              <a:rPr b="0" lang="en-US" sz="2000" spc="-1" strike="noStrike">
                <a:solidFill>
                  <a:srgbClr val="000000"/>
                </a:solidFill>
                <a:latin typeface="Pigiarniq"/>
              </a:rPr>
              <a:t> 1, 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ᓄᓇᕗᓕᒫᒧᑦ ᐃᖅᑲᖅᑐᐃᕕᐅᓪᓗᓂ ᐱᔨᑦᓯᖅᑐᑦ ᐃᖅᑲᖅᑐᐃᕕᒃᑯ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ᐊᐅᓪᓚᖃᑦᑕᖅᑐᑦ 85%-ᖏᓐᓄᑦ ᓄᓇᓕᖕᓄᑦ ᓄᓇᕗ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ᐊᐅᓪᓚᖃᑦᑕᖏᑦᑐᑦ ᓄᓇᓕᖕᓄᑦ ᒥᑭᓐᓂᖅᓴᓄᑦ ᐸᓕᓯᖃᖏᑦᑐᓄᑦ ᐱᕋᔭᒃᑐᑦ ᐅᖃᐅᑕᐅᓗᐊᖃᑦᑕᖏᓐᓂᖏᓐᓄ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ᐊᑕᐅᓯᕐᒥᒃ ᐊᓯᐊᒍᑦ ᖁᕝᕙᓯᖕᓂᖃᖏᑦᑐᖅ ᐃᖅᑲᖅᑐᐃᕕᒃ ᐱᖓᓱᓂᒃ ᐃᖅᑲᖅᑐᐃᕕᒃᑯᑦ ᐊᖓᔪᖅᑳᖃᕐᖢᑎᒃ ᐃᖃᓗᖕ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ᑖᒃᑯᐊ ᑭᐅᓴᕋᐃᓐᓂᖅᓴᐅᖁᒧᑦ ᐋᖅᑭᒡᑕᐅᓯᒪᔪᑦ ᐊᔾᔨᐅᖏᑦᑐᓂᒃ ᑭᓐᖒᒪᒡᖠᕐᓂᖏᓐᓄᑦ ᐊᒻᒪ ᐃᓕᖅᑯᓯᖃᕐᓂᖏᓐᓄᑦ ᐅᓄᕐᓂᖅᓴᐅᔪᑦ ᓄᓇᕗᒥ ᐃᓄᐃᑦ ᓄᓇᖃᖅᑐ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Pigiarniq"/>
              </a:rPr>
              <a:t>ᓄᓇᕗᒥ ᐃᖅᑲᖅᑐᐃᕕᒃ, ᔮᓐᓄᐊᕆ</a:t>
            </a:r>
            <a:r>
              <a:rPr b="0" lang="en-US" sz="1000" spc="-1" strike="noStrike">
                <a:solidFill>
                  <a:srgbClr val="000000"/>
                </a:solidFill>
                <a:latin typeface="Pigiarniq"/>
              </a:rPr>
              <a:t> 29, 2007. &lt;http://www.nucj.ca/index.ht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ᓄᓇᓕᖕᓄᑦ ᐊᐅᓪᓚᖃᑦᑕᕐᖢᑎᒃ ᐱᓇᓱᐊᕈᓯᑦ ᐊᕐᕕᓂᓕᑕᒫᑦ ᐃᓚᖏᑦ ᐊᕐᕌᒎᒃ ᒪᕐᕈᑕᒫᓐ ᐅᐸᒡᑕᐅᕙᒡᖢᑎ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ᐃᖅᑲᖅᑐᐃᖃᑦᑕᖅᑐᑦ ᓄᓇᓕᖕᓂ ᐱᓐᖑᐊᕐᕕᖏᓐᓂ, ᐃᓕᓐᓂᐊᕐᕕᑦ ᐱᓐᖑᐊᕐᕕᖏᓐᓂ ᐊᒻᒪ ᐊᓯᖏᓐᓂ ᑲᑎᒪᕕᐅᔪ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ᐃᓐᓇᐃᑦ ᐊᒻᒪ ᐃᖅᑲᖅᑐᐃᔨᕋᓛᖑᔪᑦ ᐃᒃᓯᕙᖃᑎᖃᖃᑦᑕᖅᑐᑦ ᐃᖅᑲᖅᑐᐃᔨᒥᒃ ᐃᖅᑲᖅᑐᐃᑎᓪᓗᒋᑦ, ᐊᒻᒪ ᐅᖃᓪᓚᒍᓐᓇᖅᑎᑕᐅᓪᓗᑎᒃ ᑖᑦᓱᒧᖓ ᐃᖅᑲᖅᑐᖅᑕᐅᔪᒧᑦ ᓯᕗᕐᖓᒍᑦ ᓱᒋᐊᖅᑕᐅᔾᔪᑎᒋᖁᔭᐅᔪᑦ ᓴᖅᑭᑕᐅᓚᐅᖏᓐᓂᖏᓐᓂ ᐊᒻᒪ ᓱᒋᐊᖅᑕᐅᓚᐅᖏᓐᓂᖓ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ᐊᑐᖅᑕᐅᓇᓱᓚᐅᕐᓯᒪᔪᖅ ᐱᐅᓯᒋᐊᖅᑕᐅᖁᓪᓗᒋᑦ ᐱᔨᑦᓯᕐᓂᐅᔪᑦ ᓄᓇᕗᒥᐅᑕᐅᔪᓄᑦ ᐃᖅᑲᖅᑐᐃᕕᒃ ᐅᐸᒐᕐᓂᕐᓂᖅᓴᐅᓕᖁᓪᓗᒍ ᐊᒻᒪ ᐱᔭᕐᓂᕐᓂᖅᓴᐅᓕᖅᑎᓪᓗᒋᑦ ᐃᖅᑲᖅᑐᐃᕕᖕᒥ ᒪᓕᒐᖏᑦ ᐊᐅᓚᓂᖏᓐᓄ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ᓯᕗᕐᖓᒍᑦ ᑖᔅᓱᒪ ᐱᑕᖃᓚᐅᕐᓯᒪᔪᑦ ᓄᓇᕗᒥ ᐃᖅᑲᖅᑐᐃᕕᒃ ᐊᒻᒪ ᓄᓇᑦᓯᐊᕐᒥ ᐃᖅᑲᖅᑐᐃᕕᒡᔪᐊ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ᓄᓇᕗᒥ ᐃᖅᑲᖅᑐᐃᕕᒃ. ᔮᓐᓄᐊᕆ</a:t>
            </a:r>
            <a:r>
              <a:rPr b="0" lang="en-US" sz="2000" spc="-1" strike="noStrike">
                <a:solidFill>
                  <a:srgbClr val="000000"/>
                </a:solidFill>
                <a:latin typeface="Pigiarniq"/>
              </a:rPr>
              <a:t> 29, 2007. &lt;http://www.nucj.ca/index.ht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ᐃᓄᐃᑦ ᖃᐅᔨᒪᔭᑐᖃᖏᑦ ᐊᒻᒪ ᓄᓇᓕᖕᓂ ᐋᖅᑭᒡᓱᐃᔾᔪᓯᖅ ᐃᖅᑲᖅᑐᐃᕕᒃᑯ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ᐃᓄᐃᑦ ᖃᐅᔨᒪᔭᑐᖃᖏᑦ ᑐᓐᖓᕕᒋᔭᐅᕗᖅ ᑖᒃᑯᓄᖓ ᐱᓕᕆᐊᓄᑦ</a:t>
            </a:r>
            <a:r>
              <a:rPr b="0" lang="en-US" sz="2000" spc="-1" strike="noStrike">
                <a:solidFill>
                  <a:srgbClr val="000000"/>
                </a:solidFill>
                <a:latin typeface="Pigiarniq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ᐃᑲᔪᖅᑐᐃᖁᓪᓗᖏᑦ ᓄᓇᓕᐅᔪᓂᒃ ᐱᓕᕆᖃᑕᐅᓂᖅᓴᐅᖁᓪᓗᒋᑦ ᑲᒪᒋᔭᖃᕐᓂᖅᓴᐅᓗᑎᒃ ᐱᕋᔭᒃᐸᒃᑐᓂᒃ ᐊᒻᒪ ᐱᕋᔭᒃᑕᐅᕙᒃᑐᓂ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ᐱᓕᕆᐊᑦ ᐱᖃᓯᐅᔾᔨᓯᒪᔪᑦ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ᓄᓇᓕᖕᓂ ᐃᖅᑲᖅᑐᐃᔨᕋᓛᑦ ᑲᑎᒪᔨᕋᓛᖏ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ᒪᒥᓴᐃᓂ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ᓄᓇᒥ ᐊᐅᓪᓚᕐᓯᒪᑎᑦᓯᖃᑦᑕᕐᓂᕐᒧᑦ ᐱᓕᕆᐊ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Pigiarniq"/>
              </a:rPr>
              <a:t>ᑎᑎᕋᖅᑕᐅᓯᒪᔪᑦ ᐱᕋᔭᒃᐸᒃᑐᑦ ᑎᑎᖅᕋᖅᑕᐅᕕᖓᒍᑦ. ‘ᐋᖅᑭᒡᓱᐃᓂᖅ ᐃᓄᖕᓂᒃ ᑎᒍᔭᐅᖅᑲᔪᓂᒃ ᓄᓇᕗᒥ, ᑲᓇᑕᒥ ᕖᕝᕗᐊᕆ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  &lt;http://www.blackwell-synergy.com/doi/abs/10.1111/j.1468-2311.2006.00414.x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ᐃᓄᐃᑦ ᖃᐅᔨᒪᔭᑐᖃᖏᑎᒍᑦ ᐃᓅᓰᑦ: ᐅᓪᓗᒥᓯᐅᑎᑦ ᒪᒥᓴᐃᓂᐅᔪ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“</a:t>
            </a: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ᐃᓄᐃᑦ ᒪᒥᓴᕐᓂᖏᓐᓄᑦ - ᐅᐸᒍᑎᔭᕌᖓᑦᑕ ᐅᕙᑦᑎᓐᓄᑦ ᐅᖃᖃᑎᖃᖅᐸᒃᑐᑦ, ᑭᓱᓂᒃ ᐃᓕᑦᑐᓐᓇᕐᒪᖔᑦᑕ, ᖃᓄᐃᓕᔪᓐᓇᕐᒪᖔᑦ ᐃᓄᓯᑦᑎᓐᓂ, ᖃᓄᐃᓕᒐᔭᕐᓂᕐᒪᖔᑦ ᕿᒪᐃᑐᐃᓐᓇᕐᓂᕈᑦᑕ ᐱᕋᔭᒍᑎᒋᓚᐅᖅᑕᑦᑎᓐᓂᑦ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ᐃᖏᕐᕋᓂᐅᔪᖅ ᑐᓐᖓᕕᖃᖅᑐᖅ ᑖᒃᑯᐊ ᑖᑦᓱᒪ ᐃᓅᑉ ᐱᔪᒪᓂᖓᓄᑦ ᐊᒻᒪ ᐊᑐᐃᓐᓇᐅᓕᕐᓂᖓᓄᑦ ᐊᓯᔾᔨᕐᓯᖁᓪᓗᒍ ᐊᒻᒪ ᐋᖅᑭᒡᓯᒋᐊᖁᓪᓗᒍ ᐊᑲᐅᓐᖏᓕᐅᕈᑎᖏᓐᓂ ᐃᓅᓯᖏᓐᓂ ᐊᖅᑯᑎᒋᓪᓗᒍ ᓇᖕᒥᓂᖅ ᕿᒥᕐᕈᓇᖕᓂᖅ ᐊᒻᒪ ᐃᒻᒥᓂᒃ ᖃᐅᔨᒪᓕᕋᓱᐊᕐᓂ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Pigiarniq"/>
              </a:rPr>
              <a:t>ᑎᑎᕋᖅᑕᐅᓯᒪᔪᑦ ᐱᕋᔭᒃᐸᒃᑐᑦ ᑎᑎᖅᕋᖅᑕᐅᕕᖓᒍᑦ. ‘ᐋᖅᑭᒡᓱᐃᓂᖅ ᐃᓄᖕᓂᒃ ᑎᒍᔭᐅᖅᑲᔪᓂᒃ ᓄᓇᕗᒥ, ᑲᓇᑕᒥ ᕖᕝᕗᐊᕆ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.  &lt;http://www.blackwell-synergy.com/doi/abs/10.1111/j.1468-2311.2006.00414.x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ᓄᓇᒥ ᐊᐅᓪᓚᐅᔾᔨᓯᒪᖃᑦᑕᕐᓂᕐᒧᑦ ᐱᓕᕆᐊ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ᐃᓐᓇᐃᑦ ᐊᒻᒪ ᐱᕋᔭᒃᓯᒪᔪᑦ ᐊᐅᓪᓚᐅᔾᔭᐅᓪᓗᑎᒃ ᐊᖑᓇᓱᒋᐊᕐᖢᑎᒃ, ᒥᑭᒋᐊᕐᓂᐊᕐᖢᑎᒃ ᐊᒻᒪ ᓄᓇᓕᕋᓛᖑᔭᖅᑐᕐᓯᒪᓪᓗᑎᒃ ᐱᕙᒃᑐᑦ ᐃᓄᐃᑦ ᐃᓕᖅᑯᓯᖏᓐᓂᒃ ᐊᑐᕆᐊᖅᑐᕐᖢᑎ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ᐊᑐᖅᑕᐅᓇᓱᐊᖅᑐᑦ ᑖᓐᓇ ᐱᕋᔭᒃᓯᒪᔪᖅ ᖃᐅᔨᑎᑕᐅᓇᓱᐊᕐᖢᓂ ᓇᑭᓐᖔᕐᓯᒪᖕᒪᖔᑦ, ᓄᓇᒧᑦ ᐊᑦᑕᑎᒃᑲᓐᓂᖁᓪᓗᒍ ᐊᒻᒪ ᐊᔪᕈᓐᓃᒃᑲᓐᓂᖁᓪᓗᒍ ᐃᓄᐃᑦ ᐊᖑᓇᓱᒍᓯᖏᓐᓂ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Pigiarniq"/>
              </a:rPr>
              <a:t>ᑎᑎᕋᖅᑕᐅᓯᒪᔪᑦ ᐱᕋᔭᒃᐸᒃᑐᑦ ᑎᑎᖅᕋᖅᑕᐅᕕᖓᒍᑦ. ‘ᐋᖅᑭᒡᓱᐃᓂᖅ ᐃᓄᖕᓂᒃ ᑎᒍᔭᐅᖅᑲᔪᓂᒃ ᓄᓇᕗᒥ, ᑲᓇᑕᒥ ᕖᕝᕗᐊᕆ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.  &lt;http://www.blackwell-synergy.com/doi/abs/10.1111/j.1468-2311.2006.00414.x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ᐋᖅᑭᒡᓱᕐᓯᒪᓂᖏᑦ ᐃᓄᐃᑦ ᒪᒥᓴᐃᓂᖏ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000000"/>
                </a:solidFill>
                <a:latin typeface="Pigiarniq"/>
              </a:rPr>
              <a:t>ᐃᒻᒥᓂᒃ ᐊᑐᐃᓐᓇᐅᓕᕈ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igiarniq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Pigiarniq"/>
              </a:rPr>
              <a:t>ᑭᒃᑯᑐᐃᓐᓇᐃᑦ ᐃᖏᕐᕋᕙᓪᓕᐊᓂᖃᕐᒪᑕ ᐊᔾᔨᒌᖏᑦᑐᒃᑯᑦ ᓇᖕᒥᓂ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000000"/>
                </a:solidFill>
                <a:latin typeface="Pigiarniq"/>
              </a:rPr>
              <a:t>ᐃᓗᐃᑦᑑᓇᖅᑐᒃᑯᑦ ᐋᖅᑭᒡᓱᐃᓂᖅ ᐃᓱᒪᒃᑯᑦ ᑎᒥᒃᑯᓪ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igiarniq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Pigiarniq"/>
              </a:rPr>
              <a:t>ᐋᓐᓂᐊᖓ ᐱᓕᕆᔭᐅᓗᓂ ᐃᓅᓯᖓ ᐃᒡᓗᒌᑦᑎᐊᖁᓪᓗ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000000"/>
                </a:solidFill>
                <a:latin typeface="Pigiarniq"/>
              </a:rPr>
              <a:t>ᐅᓂᒃᑳᖃᕐᓂ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igiarniq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Pigiarniq"/>
              </a:rPr>
              <a:t>ᒪᒥᓴᕐᓂᐅᖃᑦᑕᕐᒪᑦ ᐅᓂᒃᑳᖃᕐᓂᒃᑯᑦ ᐊᑐᓚᐅᕐᓯᒪᔭᒥ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000000"/>
                </a:solidFill>
                <a:latin typeface="Pigiarniq"/>
              </a:rPr>
              <a:t>ᐊᓯᔾᔨᕈᓐᓇᕐᓂ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igiarniq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Pigiarniq"/>
              </a:rPr>
              <a:t>ᐊᑐᓂ ᒪᒥᓴᐃᔨᑦ ᐅᕝᕙᓗᓐᓂᑦ ᐃᓐᓇᑐᖃᐃᑦ ᐊᑐᖃᑦᑕᖅᑐᑦ ᐊᑲᐅᓚᕆᔭᒥᖕᓂ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000000"/>
                </a:solidFill>
                <a:latin typeface="Pigiarniq"/>
              </a:rPr>
              <a:t>ᐃᕐᖐᓐᓇᖅ ᐱᓕᕆᐊᖃᕐᓂ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igiarniq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Pigiarniq"/>
              </a:rPr>
              <a:t>ᐃᓄᐃᑦ ᒪᒥᓴᐃᔨᐅᔪᑦ ᐃᓱᒪᖃᖅᐳᑦ ᐃᕐᖐᓐᓇᖅ ᐊᑲᐅᓐᖏᓕᕈᑕᐅᔪᖅ ᑲᒪᒋᔭᐅᑦᓴᐅᑎᒋᖁᓪᓗᒍ ᐃᒃᓯᓐᓇᖅᑕᐅᓯᒪᖏᓪᓗᑎ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000000"/>
                </a:solidFill>
                <a:latin typeface="Pigiarniq"/>
              </a:rPr>
              <a:t>ᓇᒡᓗᒍᓱᖕᓂᖅ ᐊᒻᒪ ᓂᑲᒍᓱᖕᓂ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igiarniq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Pigiarniq"/>
              </a:rPr>
              <a:t>ᒪᒥᓴᐃᔨᐅᔪᑦ ᐃᓅᖃᑎᒥᖕᓂᒃ ᓂᑲᒍᓱᒡᖢᑎᒃ ᐱᓂᐊᕐᓂᖃᖅᐸᒃᐳ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000000"/>
                </a:solidFill>
                <a:latin typeface="Pigiarniq"/>
              </a:rPr>
              <a:t>ᐃᓄᐃᑦ ᐃᓕᖅᑯᓯᖓᓐᓄᑦ ᖃᐅᔨᒪᓂᖓ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igiarniq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Pigiarniq"/>
              </a:rPr>
              <a:t>ᒪᒥᓴᐃᔨᐅᔪᑦ ᐊᒻᒪ ᐃᓐᓇᐃᑦ ᐅᒃᐱᕈᓱᒃᐳᑦ ᐃᓕᖅᑯᓯᐅᑉ ᐊᓯᐅᔨᔭᐅᓯᒪᓂᖓᓄᑦ ᐅᓪᓗᒥᐅᓕᖅᑐᖅ ᐃᓅᓯᑦᑎᓐᓂ ᐊᑲᐅᓐᖏᓕᐅᕈᑎᖃᖅᐳᒍᑦ ᐊᒻᒪ ᑭᓯᐊᓂ ᒪᒥᑦᑐᓐᓇᕋᑦᑕ ᑭᓯᐊᓂ ᓴᓇᓗᑕ ᐃᓕᖅᑯᓯᑦᑎᓐᓂ ᐊᓐᓂᕆᔭᑦᑎᓐᓂᒃ ᐊᒻᒪ ᐱᓕᕆᔪᓐᓇᖅᑕᐅᔭᕆᐊᖃᖅᑐᓂ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Pigiarniq"/>
              </a:rPr>
              <a:t>ᑎᑎᕋᖅᑕᐅᓯᒪᔪᑦ ᐱᕋᔭᒃᐸᒃᑐᑦ ᑎᑎᖅᕋᖅᑕᐅᕕᖓᒍᑦ. ‘ᐋᖅᑭᒡᓱᐃᓂᖅ ᐃᓄᖕᓂᒃ ᑎᒍᔭᐅᖅᑲᔪᓂᒃ ᓄᓇᕗᒥ, ᑲᓇᑕᒥ ᕖᕝᕗᐊᕆ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.  &lt;http://www.blackwell-synergy.com/doi/abs/10.1111/j.1468-2311.2006.00414.x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Pigiarniq"/>
              </a:rPr>
              <a:t>ᐃᖅᑲᓇᐃᔭᖅᑕᐅᓂᑯᓂᑦ ᑕᐃᓯᕕᐅᓯᒪᔪ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igiarniq"/>
              </a:rPr>
              <a:t>“</a:t>
            </a:r>
            <a:r>
              <a:rPr b="0" lang="id-ID" sz="1400" spc="-1" strike="noStrike">
                <a:solidFill>
                  <a:srgbClr val="000000"/>
                </a:solidFill>
                <a:latin typeface="Pigiarniq"/>
              </a:rPr>
              <a:t>ᐱᓕᕆᖃᑎᖃᕐᓂᖅ ᐱᕋᔭᒃᓯᒪᔪᓂᒃ”. ᐊᐱᕐᓱᕐᓂᖅ ᐃᓄᐃᑦ ᐃᓐᓇᖏᓐᓂᒃ: ᓇᓴᐅᑎᖓ 2 - ᐃᓱᒪᒋᔭᐅᔪᑦ ᐃᓕᖅᑯᓯᑐᖃᒃᑯᑦᒪᓕᒐᐅᔪᑦ, ᐊᐅᐱᓛᕐᔪᒃ ᒥᐅᕆᐊᓄ ᐊᒻᒪᐊᓯᖏᑦ ᔨᐅᕆᒃ ᐆᔅᑕᓐ, ᕕᑐᕆᒃ ᓚᐅᒐᓐ ᐊᒻᒪ ᐅᐃᒻ ᕋᓯᖕ, ᓄᓇᕗᑦ ᓯᓚᑦᑐᓴᕐᕕᒃ</a:t>
            </a:r>
            <a:r>
              <a:rPr b="0" lang="en-US" sz="1400" spc="-1" strike="noStrike">
                <a:solidFill>
                  <a:srgbClr val="000000"/>
                </a:solidFill>
                <a:latin typeface="Pigiarniq"/>
              </a:rPr>
              <a:t> http://www.nac.nu.ca/publication/vol2/pdf/chapter3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Pigiarniq"/>
              </a:rPr>
              <a:t>“</a:t>
            </a:r>
            <a:r>
              <a:rPr b="0" lang="id-ID" sz="1400" spc="-1" strike="noStrike">
                <a:solidFill>
                  <a:srgbClr val="000000"/>
                </a:solidFill>
                <a:latin typeface="Pigiarniq"/>
              </a:rPr>
              <a:t>ᐱᒋᐊᕐᓂᖓ” ᐊᐱᕐᓱᕐᓂᖅ ᐃᓄᐃᑦ ᐃᓐᓇᖏᓐᓂᒃ: ᓇᓴᐅᑎᖓ 2 - ᐃᓱᒪᒋᔭᐅᔪᑦ ᐃᓕᖅᑯᓯᑐᖃᒃᑯᑦᒪᓕᒐᐅᔪᑦ, ᐊᐅᐱᓛᕐᔪᒃ ᒥᐅᕆᐊᓄ ᐊᒻᒪᐊᓯᖏᑦ ᔨᐅᕆᒃ ᐆᔅᑕᓐ, ᕕᑐᕆᒃ ᓚᐅᒐᓐ ᐊᒻᒪ ᐅᐃᒻ ᕋᓯᖕ, ᓄᓇᕗᑦ ᓯᓚᑦᑐᓴᕐᕕᒃ</a:t>
            </a:r>
            <a:r>
              <a:rPr b="0" lang="en-US" sz="1400" spc="-1" strike="noStrike">
                <a:solidFill>
                  <a:srgbClr val="000000"/>
                </a:solidFill>
                <a:latin typeface="Pigiarniq"/>
              </a:rPr>
              <a:t> &lt;http://www.nac.nu.ca/publication/vol2/introduction.htm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igiarniq"/>
              </a:rPr>
              <a:t>“</a:t>
            </a:r>
            <a:r>
              <a:rPr b="0" lang="id-ID" sz="1400" spc="-1" strike="noStrike">
                <a:solidFill>
                  <a:srgbClr val="000000"/>
                </a:solidFill>
                <a:latin typeface="Pigiarniq"/>
              </a:rPr>
              <a:t>ᓯᕗᓕᖅᑎᑦ, ᐃᓐᓇᐃ ᐊᒻᒪ ᐊᖓᒃᑯᐃᑦ”. ᐊᐱᕐᓱᕐᓂᖅ ᐃᓄᐃᑦ ᐃᓐᓇᖏᓐᓂᒃ: ᓇᓴᐅᑎᖓ 2 - ᐃᓱᒪᒋᔭᐅᔪᑦ ᐃᓕᖅᑯᓯᑐᖃᒃᑯᑦᒪᓕᒐᐅᔪᑦ, ᐊᐅᐱᓛᕐᔪᒃ ᒥᐅᕆᐊᓄ ᐊᒻᒪᐊᓯᖏᑦ ᔨᐅᕆᒃ ᐆᔅᑕᓐ, ᕕᑐᕆᒃ ᓚᐅᒐᓐ ᐊᒻᒪ ᐅᐃᒻ ᕋᓯᖕ, ᓄᓇᕗᑦ ᓯᓚᑦᑐᓴᕐᕕᒃ</a:t>
            </a:r>
            <a:r>
              <a:rPr b="0" lang="en-US" sz="1400" spc="-1" strike="noStrike">
                <a:solidFill>
                  <a:srgbClr val="000000"/>
                </a:solidFill>
                <a:latin typeface="Pigiarniq"/>
              </a:rPr>
              <a:t> &lt;http://www.nac.nu.ca/publication/vol2/pdf/chapter7.pdf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Pigiarniq"/>
              </a:rPr>
              <a:t>“</a:t>
            </a:r>
            <a:r>
              <a:rPr b="0" lang="id-ID" sz="1400" spc="-1" strike="noStrike">
                <a:solidFill>
                  <a:srgbClr val="000000"/>
                </a:solidFill>
                <a:latin typeface="Pigiarniq"/>
              </a:rPr>
              <a:t>ᐃᓄᐊᕐᓯᓂᕐᒧᑦ” ᐊᐱᕐᓱᕐᓂᖅ ᐃᓄᐃᑦ ᐃᓐᓇᖏᓐᓂᒃ: ᓇᓴᐅᑎᖓ 2 - ᐃᓱᒪᒋᔭᐅᔪᑦ ᐃᓕᖅᑯᓯᑐᖃᒃᑯᑦᒪᓕᒐᐅᔪᑦ, ᐊᐅᐱᓛᕐᔪᒃ ᒥᐅᕆᐊᓄ ᐊᒻᒪᐊᓯᖏᑦ ᔨᐅᕆᒃ ᐆᔅᑕᓐ, ᕕᑐᕆᒃ ᓚᐅᒐᓐ ᐊᒻᒪ ᐅᐃᒻ ᕋᓯᖕ, ᓄᓇᕗᑦ ᓯᓚᑦᑐᓴᕐᕕᒃ</a:t>
            </a:r>
            <a:r>
              <a:rPr b="0" lang="en-US" sz="1400" spc="-1" strike="noStrike">
                <a:solidFill>
                  <a:srgbClr val="000000"/>
                </a:solidFill>
                <a:latin typeface="Pigiarniq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igiarniq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Pigiarniq"/>
              </a:rPr>
              <a:t>&lt;http://www.nac.nu.ca/publication/vol2/pdf/chapter9.pdf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Pigiarniq"/>
              </a:rPr>
              <a:t>”</a:t>
            </a:r>
            <a:r>
              <a:rPr b="0" lang="id-ID" sz="1400" spc="-1" strike="noStrike">
                <a:solidFill>
                  <a:srgbClr val="000000"/>
                </a:solidFill>
                <a:latin typeface="Pigiarniq"/>
              </a:rPr>
              <a:t>ᑎᕆᒍᓲᓰᑦ ᐊᒻᒪ ᒪᓕᒐᐃᑦ” ᐊᐱᕐᓱᕐᓂᖅ ᐃᓄᐃᑦ ᐃᓐᓇᖏᓐᓂᒃ: ᓇᓴᐅᑎᖓ 2 - ᐃᓱᒪᒋᔭᐅᔪᑦ ᐃᓕᖅᑯᓯᑐᖃᒃᑯᑦᒪᓕᒐᐅᔪᑦ, ᐊᐅᐱᓛᕐᔪᒃ ᒥᐅᕆᐊᓄ ᐊᒻᒪᐊᓯᖏᑦ ᔨᐅᕆᒃ ᐆᔅᑕᓐ, ᕕᑐᕆᒃ ᓚᐅᒐᓐ ᐊᒻᒪ ᐅᐃᒻ ᕋᓯᖕ, ᓄᓇᕗᑦ ᓯᓚᑦᑐᓴᕐᕕᒃ</a:t>
            </a:r>
            <a:r>
              <a:rPr b="0" lang="en-US" sz="1400" spc="-1" strike="noStrike">
                <a:solidFill>
                  <a:srgbClr val="000000"/>
                </a:solidFill>
                <a:latin typeface="Pigiarniq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igiarniq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Pigiarniq"/>
              </a:rPr>
              <a:t>&lt;http://www.nac.nu.ca/publication/vol2/pdf/chapter1.pdf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ᐃᖅᑲᓇᐃᔭᖅᑕᐅᓂᑯᓂᑦ ᑕᐃᓯᕕᐅᓯᒪᔪᑦ (ᑲᔪᓯᔪ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Pigiarniq"/>
              </a:rPr>
              <a:t>ᐱᓕᕆᕕᖓᑦ ᐃᖅᑲᖅᑐᐃᕕᓕᕆᔨᒃᑯᑦ ᑲᓇᑕᒥ</a:t>
            </a:r>
            <a:r>
              <a:rPr b="0" lang="en-US" sz="1600" spc="-1" strike="noStrike">
                <a:solidFill>
                  <a:srgbClr val="000000"/>
                </a:solidFill>
                <a:latin typeface="Pigiarniq"/>
              </a:rPr>
              <a:t>. </a:t>
            </a:r>
            <a:r>
              <a:rPr b="0" i="1" lang="id-ID" sz="1600" spc="-1" strike="noStrike">
                <a:solidFill>
                  <a:srgbClr val="000000"/>
                </a:solidFill>
                <a:latin typeface="Pigiarniq"/>
              </a:rPr>
              <a:t>ᓄᓇᕗᒥ ᒪᓕᒐᕐᓂᐊᖅᑐᓕᕆᓂᕐᒧᑦ ᖃᐅᔨᓴᕈᑎᓂᑦ</a:t>
            </a:r>
            <a:r>
              <a:rPr b="0" lang="en-US" sz="1600" spc="-1" strike="noStrike">
                <a:solidFill>
                  <a:srgbClr val="000000"/>
                </a:solidFill>
                <a:latin typeface="Pigiarniq"/>
              </a:rPr>
              <a:t>. &lt;http://canada.justice.gc.ca/en/ps/rs/rep/2003/rr03lars-14/rr03 14_02_2.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Pigiarniq"/>
              </a:rPr>
              <a:t>ᐱᓕᕆᕕᖓᑦ ᐃᖅᑲᖅᑐᐃᕕᓕᕆᔨᒃᑯᑦ ᑲᓇᑕᒥ</a:t>
            </a:r>
            <a:r>
              <a:rPr b="0" lang="en-US" sz="1600" spc="-1" strike="noStrike">
                <a:solidFill>
                  <a:srgbClr val="000000"/>
                </a:solidFill>
                <a:latin typeface="Pigiarniq"/>
              </a:rPr>
              <a:t>. </a:t>
            </a:r>
            <a:r>
              <a:rPr b="0" i="1" lang="id-ID" sz="1600" spc="-1" strike="noStrike">
                <a:solidFill>
                  <a:srgbClr val="000000"/>
                </a:solidFill>
                <a:latin typeface="Pigiarniq"/>
              </a:rPr>
              <a:t>ᕿᒥᕐᕈᓇᒃᑕᐅᓂᖏᑦ ᓄᓇᕗᒥ ᓄᓇᓕᖕᓂ ᐃᖅᑲᖅᑐᐃᔨᕋᓛᓄᑦ ᐱᓕᕆᔾᔪᓯᖅ</a:t>
            </a:r>
            <a:r>
              <a:rPr b="0" i="1" lang="en-US" sz="1600" spc="-1" strike="noStrike">
                <a:solidFill>
                  <a:srgbClr val="000000"/>
                </a:solidFill>
                <a:latin typeface="Pigiarniq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Pigiarniq"/>
              </a:rPr>
              <a:t>&lt;http://www.canada.justice.gc.ca/en/ps/rs/rep/2005/rr05-7/p0.html&gt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Pigiarniq"/>
              </a:rPr>
              <a:t>ᐱᓕᕆᕕᖓᑦ ᐃᖅᑲᖅᑐᐃᕕᓕᕆᔨᒃᑯᑦ ᑲᓇᑕᒥ</a:t>
            </a:r>
            <a:r>
              <a:rPr b="0" lang="en-US" sz="1600" spc="-1" strike="noStrike">
                <a:solidFill>
                  <a:srgbClr val="000000"/>
                </a:solidFill>
                <a:latin typeface="Pigiarniq"/>
              </a:rPr>
              <a:t>. </a:t>
            </a:r>
            <a:r>
              <a:rPr b="0" i="1" lang="id-ID" sz="1600" spc="-1" strike="noStrike">
                <a:solidFill>
                  <a:srgbClr val="000000"/>
                </a:solidFill>
                <a:latin typeface="Pigiarniq"/>
              </a:rPr>
              <a:t>ᓄᓇᕗᒥ ᒪᓕᖓᕐᓂᐊᕐᓂᒧᑦ ᐱᔨᑦᓯᕈᑕᐅᔪᑦ ᖃᐅᔨᓴᖅᑕᐅᓂᖏᑦ</a:t>
            </a:r>
            <a:r>
              <a:rPr b="0" i="1" lang="en-US" sz="1600" spc="-1" strike="noStrike">
                <a:solidFill>
                  <a:srgbClr val="000000"/>
                </a:solidFill>
                <a:latin typeface="Pigiarniq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Pigiarniq"/>
              </a:rPr>
              <a:t>&lt;http://www.justice.gc.ca/en/ps/rs/rep/2003/rr03lars-14/rr03-14_01.html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Pigiarniq"/>
              </a:rPr>
              <a:t>ᓄᓇᕗᒥ ᐃᖅᑲᖅᑐᐃᕕᒃ</a:t>
            </a:r>
            <a:r>
              <a:rPr b="0" lang="en-US" sz="1600" spc="-1" strike="noStrike">
                <a:solidFill>
                  <a:srgbClr val="000000"/>
                </a:solidFill>
                <a:latin typeface="Pigiarniq"/>
              </a:rPr>
              <a:t>. </a:t>
            </a:r>
            <a:r>
              <a:rPr b="0" i="1" lang="id-ID" sz="1600" spc="-1" strike="noStrike">
                <a:solidFill>
                  <a:srgbClr val="000000"/>
                </a:solidFill>
                <a:latin typeface="Pigiarniq"/>
              </a:rPr>
              <a:t>ᓄᓇᕗᒥ ᐃᖅᑲᖅᑐᐃᕕᐅᑉ ᒥᒃᓵᓄ ᑦ </a:t>
            </a:r>
            <a:r>
              <a:rPr b="0" lang="en-US" sz="1600" spc="-1" strike="noStrike">
                <a:solidFill>
                  <a:srgbClr val="000000"/>
                </a:solidFill>
                <a:latin typeface="Pigiarniq"/>
              </a:rPr>
              <a:t>&lt;http://www.nucj.ca/unifiedcourt.htm&gt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Pigiarniq"/>
              </a:rPr>
              <a:t>ᕼᐅᑦ ᓄᐊᓯᒪᔭᐅᔪᑦ ᐱᕋᔭᒃᐸᒃᑐᑦ ᐃᖅᑲᖅᑐᐃᕕᓕᕆᔨᒃᑯᓐᓂᑦ</a:t>
            </a:r>
            <a:r>
              <a:rPr b="0" lang="en-US" sz="1600" spc="-1" strike="noStrike">
                <a:solidFill>
                  <a:srgbClr val="000000"/>
                </a:solidFill>
                <a:latin typeface="Pigiarniq"/>
              </a:rPr>
              <a:t>. </a:t>
            </a:r>
            <a:r>
              <a:rPr b="0" i="1" lang="en-US" sz="1600" spc="-1" strike="noStrike">
                <a:solidFill>
                  <a:srgbClr val="000000"/>
                </a:solidFill>
                <a:latin typeface="Pigiarniq"/>
              </a:rPr>
              <a:t>‘</a:t>
            </a:r>
            <a:r>
              <a:rPr b="0" i="1" lang="id-ID" sz="1600" spc="-1" strike="noStrike">
                <a:solidFill>
                  <a:srgbClr val="000000"/>
                </a:solidFill>
                <a:latin typeface="Pigiarniq"/>
              </a:rPr>
              <a:t>ᐋᖅᑭᒡᓱᐃᓂᖅ ᐃᓄᖕᓂᒃ ᐱᕋᔭᒃᓯᒪᔪᓂᒃ ᓄᓇᕗᑦ ᑲᓇᑕᒥ</a:t>
            </a:r>
            <a:r>
              <a:rPr b="0" lang="en-US" sz="1600" spc="-1" strike="noStrike">
                <a:solidFill>
                  <a:srgbClr val="000000"/>
                </a:solidFill>
                <a:latin typeface="Pigiarniq"/>
              </a:rPr>
              <a:t>. &lt;http://www.blackwell-</a:t>
            </a:r>
            <a:r>
              <a:rPr b="0" lang="en-US" sz="1600" spc="-1" strike="noStrike">
                <a:solidFill>
                  <a:srgbClr val="000000"/>
                </a:solidFill>
                <a:latin typeface="Pigiarniq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igiarniq"/>
              </a:rPr>
              <a:t>synergy.com/doi/abs/10.1111/j.1468-2311.2006.00414.x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ᐃᓄᐃᑦ ᐋᖅᑭᒡᓱᐃᔾᔪᓯᑐᖃᖏ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Pigiarniq"/>
              </a:rPr>
              <a:t>ᐃᓄᐃᑦ ᓯᕗᓕᖅᑎᑦ (ᐊᖓᔪᖅᑳᑦ) ᐊᒻᒪ ᐃᓐᓇᐃᑦ ᐃᒻᒥᖕᓂᒃ ᑕᑯᓐᓇᓚᐅᕐᓯᒪᖏᑦᑐᑦ ᑭᒡᒐᖅᑐᐃᔨᐅᓂᖏᓐᓂᒃ ᐱᖁᔭᓄᑦ ᐊᒻᒪ ᐋᖅᑭᒡᓯᒪᓂᕐᒧᑦ ᐅᕝᕙᓘᓐᓃᑦ ᐃᓅᓯᕐᒧᑦ ᐋᖅᑭᒡᓯᒪᑎᑦᑎᔨᐅᓂᕐᒧ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Pigiarniq"/>
              </a:rPr>
              <a:t>ᓯᕗᓕᖅᑎᑦ</a:t>
            </a:r>
            <a:r>
              <a:rPr b="0" lang="en-US" sz="1600" spc="-1" strike="noStrike">
                <a:solidFill>
                  <a:srgbClr val="000000"/>
                </a:solidFill>
                <a:latin typeface="Pigiarniq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igiarniq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Pigiarniq"/>
              </a:rPr>
              <a:t>ᐊᑐᓂ ᓄᓇᓕᕋᓛᑦ ᐊᑕᐅᓯᕐᒥᒃ ᓯᕗᓕᖅᑎᖃᖅᐸᓚᐅᖅᑐ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igiarniq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Pigiarniq"/>
              </a:rPr>
              <a:t>ᐊᑐᓂᓗ ᓯᕗᓕᖅᑎᐅᔪᑦ ᓂᕈᐊᖃᑦᑕᕐᖢᑎᒃ ᓄᑲᕐᖠᕐᒥᒃ ᑭᖑᕝᕕᕐᓯᔪᒫᖅᑐᒥᒃ ᐃᓅᔪᓐᓃᕐᓂᖅᐸ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Pigiarniq"/>
              </a:rPr>
              <a:t>ᐃᓐᓇᐃᑦ</a:t>
            </a:r>
            <a:r>
              <a:rPr b="0" lang="en-US" sz="1600" spc="-1" strike="noStrike">
                <a:solidFill>
                  <a:srgbClr val="000000"/>
                </a:solidFill>
                <a:latin typeface="Pigiarniq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igiarniq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Pigiarniq"/>
              </a:rPr>
              <a:t>ᐃᓐᓇᐃᑦ ᓇᓕᐊᑐᐃᓐᓇᐃᑦ ᐃᓅᓯᓕᕆᔨᐅᕙᓚᐅᖅᑐ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igiarniq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Pigiarniq"/>
              </a:rPr>
              <a:t>ᑕᒪᕐᒥᒃ ᐊᖑᑎᑦ ᐊᕐᓇᐃᓪᓗ ᑕᑯᓐᓇᖅᑕᐅᕙᓚᐅᖅᑐᑦ ᓯᓚᑐᔫᓂᖏᓐᓂᒃ</a:t>
            </a:r>
            <a:r>
              <a:rPr b="0" lang="en-US" sz="1600" spc="-1" strike="noStrike">
                <a:solidFill>
                  <a:srgbClr val="000000"/>
                </a:solidFill>
                <a:latin typeface="Pigiarniq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igiarniq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igiarniq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igiarniq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igiarniq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id-ID" sz="1200" spc="-1" strike="noStrike">
                <a:solidFill>
                  <a:srgbClr val="000000"/>
                </a:solidFill>
                <a:latin typeface="Pigiarniq"/>
              </a:rPr>
              <a:t>ᐱᔭᐅᔪᑦ: ᓄᓇᕗᑦ ᓯᓚᑦᑐᓴᕐᕕᖓᓐᓂ: ᐃᓐᓇᐃᑦ ᐊᐱᖅᓱᖅᑕᐅᔾᔪᑎᕕᓂᖏᓐᓂᑦ</a:t>
            </a:r>
            <a:r>
              <a:rPr b="0" lang="en-US" sz="1200" spc="-1" strike="noStrike">
                <a:solidFill>
                  <a:srgbClr val="000000"/>
                </a:solidFill>
                <a:latin typeface="Pigiarniq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ᐃᒻᒥᖕᓄᑦ ᑕᑎᒌᖃᑦᑕᐅᑎᓂᖏ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ᐊᑐᓂ ᑭᓇᒃᑯᑐᐃᓐᓇᐃᑦ ᐃᑲᔪᖃᑕᐅᓪᓗᑎᒃ ᐊᐅᓚᑕᐅᓂᖓᓄᑦ ᓄᓇᓕᐅᔪ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ᑭᓇᑐᐃᓐᓇᖅ ᐲᑕᖃᕈᓐᓃᕌᖓᑦ, ᐃᓘᓐᓇᖏᑦ ᐅᒡᒍᐊᖃᑦᑕᓚᐅᖅᑐᑦ ᐊᓯᐅᔨᒐᒥᒃ ᐱᔨᑦᓯᕈᑎᒋᓚᐅᖅᑕᖓᓂᒃ ᑕᐃᒃᓱᒪ ᐃᓅᑉ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ᐊᑐᓂᑯᓘᔭᖅ ᒪᓕᒐᓕᐅᕐᓯᒪᓚᐅᖏᑦᑐᑦ: ᐃᓘᓐᓇᖏᑦ ᐅᖃᐅᑕᐅᖃᑦᑕᕐᖢᑎᒃ ᐃᓅᓯᓕᕆᔭᐅᑎᓪᓗᒋᑦ ᐃᓱᒪᖏᓐᓂᓐᖔᖅᑐᓂᒃ ᐃᓐᓇᐅᔪ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id-ID" sz="1200" spc="-1" strike="noStrike">
                <a:solidFill>
                  <a:srgbClr val="000000"/>
                </a:solidFill>
                <a:latin typeface="Pigiarniq"/>
              </a:rPr>
              <a:t>ᐱᔭᐅᔪᑦ: ᓄᓇᕗᑦ ᓯᓚᑦᑐᓴᕐᕕᖓᓐᓂ: ᐃᓐᓇᐃᑦ ᐊᐱᖅᓱᖅᑕᐅᔾᔪᑎᕕᓂᖏᓐᓂᑦ</a:t>
            </a:r>
            <a:r>
              <a:rPr b="0" lang="en-US" sz="1200" spc="-1" strike="noStrike">
                <a:solidFill>
                  <a:srgbClr val="000000"/>
                </a:solidFill>
                <a:latin typeface="Pigiarniq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ᐃᓄᐃᑦ ᐱᐅᓯᖏᑎᒍᑦ: ᐋᖅᑭᒡᓱᐃᔾᔪᓯᖅ ᐊᒻᒪ ᒪᒥᓴᕐᓂ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ᑕᐃᒪᓕ ᐊᑲᐅᖏᑦᑐᒥᒃ/ᑕᒻᒪᖅᑐᒥᒃ  ᐱᔪᖃᓚᐅᖅᑎᓪᓗᒍ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ᐃᓐᓇᐃᑦ ᐅᖃᖃᑎᖃᓕᕐᖢᑎᒃ ᑖᑦᓱᒥᖓ ᐃᓄᖕᒥᒃ ᐊᒻᒪ ᐃᒃᐱᒍᓱᒃᑎᑕᐅᓪᓗᓂ ᓇᒡᓕᒋᔭᐅᓂᖓᓂ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ᑖᓐᓇ ᐃᓄᒃ ᓱᓕ ᐱᑦᑎᐊᓐᖐᓐᓇᕈᓂ, ᐃᓐᓇᕐᓄᑦ ᐅᖃᕐᕕᐅᒃᑲᓐᓂᓕᕋᔭᖅᑐᖅ.  ᑕᕝᕙᓂ ᐱᕐᔪᐊᖑᓂᖅᓴᐅᔪᒃᑯᑦ ᐅᖃᐅᔾᔭᐅᓗᓂ ᐊᒻᒪ ᖃᓄᐃᑕᐅᔪᓐᓇᕐᓂᖏᑦ ᓇᓗᓇᐃᖅᑕᐅᓪᓗᑎ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igiarniq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ᑕᐃᒪᓕ ᑖᑦᓱᒪ ᓱᓕ ᐱᐅᓯᕆᔭᖓ ᓱᕐᕋᖏᑉᐸᑦ, ᐃᒃᐱᒍᓱᒃᐸᑕᓗ ᑖᓐᓇ ᐅᖃᐅᔾᔭᐅᓚᐅᖅᑎᓪᓗᒍ ᓯᕗᕐᖓᒍᑦ ᐊᒻᒪ ᓈᒻᒪᒋᔭᐅᓕᕐᓗᓂ ᐊᖏᕐᓯᔭᕆᐊᖃᓕᕐᓂᖓᓂᒃ ᐱᓂᐊᕐᓂᖏᓐᓄᑦ.  ᑖᒃᑯᐊ ᓄᓇᖅᑲᑎᖏᑦ ᐅᖃᐅᑎᔭᐅᔪᓐᓇᕐᓯᒐᔭᖅᑐᑦ ᐊᑭᓂᐊᕈᓐᓇᕐᓯᓂᖏᓐᓂᑦ ᑖᑦᓱᒧᖓ ᐃᓄᖕᒧᑦ.</a:t>
            </a:r>
            <a:r>
              <a:rPr b="0" lang="en-US" sz="2400" spc="-1" strike="noStrike">
                <a:solidFill>
                  <a:srgbClr val="000000"/>
                </a:solidFill>
                <a:latin typeface="Pigiarniq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id-ID" sz="1200" spc="-1" strike="noStrike">
                <a:solidFill>
                  <a:srgbClr val="000000"/>
                </a:solidFill>
                <a:latin typeface="Pigiarniq"/>
              </a:rPr>
              <a:t>ᐱᔭᐅᔪᑦ: ᓄᓇᕗᑦ ᓯᓚᑦᑐᓴᕐᕕᖓᓐᓂ: ᐃᓐᓇᐃᑦ ᐊᐱᖅᓱᖅᑕᐅᔾᔪᑎᕕᓂᖏᓐᓂᑦ</a:t>
            </a:r>
            <a:r>
              <a:rPr b="0" lang="en-US" sz="1200" spc="-1" strike="noStrike">
                <a:solidFill>
                  <a:srgbClr val="000000"/>
                </a:solidFill>
                <a:latin typeface="Pigiarniq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ᐱᕋᔭᒃᑲᓐᓂᖃᑦᑕᖅᑐᑦ ᐊᒻᒪ ᑲᑉᐱᐊᓇᖅᑐᑦ ᐱᕋᔭᒃᐸᒃᑐ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ᐃᓛᓐᓂᒃᑯᑦ ᐃᒪᐃᑕᐅᕙᓚᐅᖅᑐᑦ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ᑖᓐᓇ ᐱᕋᔭᒃᓯᒪᔪᖅ ᐃᓄᑑᓪᓗᓂ ᐃᓅᑎᑕᐅᓪᓗᓂ ᓄᓇᓕᖕᓄᑦ ᐅᐱᒋᔭᐅᓕᖅᑎᓐᓇᓱᐊᕐᖢ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ᐃᓄᐊᕐᓯᒪᔪᑦ ᑐᖁᑕᐅᕙᓚᐅᖅᑐᑦ ᑭᓯᐊᓂ ᒪᒥᐊᓐᓂᕐᒥᖕᓂᒃ ᓴᖅᑭᔮᖅᑎᑦᑎᖏᑦᑕᕌᖓᑕ ᐅᕝᕙᓘᓐᓃᑦ ᐅᒃᐱᕈᓱᒃᑯᑎᒃ ᐃᓄᐊᒃᑲᓐᓂᕐᓂᐊᕐᓂᖓᓂᒃ.  ᑕᐃᒪᓐᓇ ᐱᕙᓚᐅᖅᑐᑦ ᐃᓂᖅᑎᕆᔾᔪᑕᐅᓇᓂ ᑭᓯᐊᓂ ᓄᓇᓕᐅᔪᑦ ᐊᑦᑕᓇᖏᑦᑐᒦᑎᑕᐅᓇᓱᐊᕐᖢᑎ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id-ID" sz="1200" spc="-1" strike="noStrike">
                <a:solidFill>
                  <a:srgbClr val="000000"/>
                </a:solidFill>
                <a:latin typeface="Pigiarniq"/>
              </a:rPr>
              <a:t>ᐱᔭᐅᔪᑦ: ᓄᓇᕗᑦ ᓯᓚᑦᑐᓴᕐᕕᖓᓐᓂ: ᐃᓐᓇᐃᑦ ᐊᐱᖅᓱᖅᑕᐅᔾᔪᑎᕕᓂᖏᓐᓂᑦ</a:t>
            </a:r>
            <a:r>
              <a:rPr b="0" lang="en-US" sz="1200" spc="-1" strike="noStrike">
                <a:solidFill>
                  <a:srgbClr val="000000"/>
                </a:solidFill>
                <a:latin typeface="Pigiarniq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ᐊᒃᑐᐊᖃᑎᒌᖕᓂᖏᑦ ᐊᒻᒪ ᐊᑭᓂᐊᖅᑕᐅᔭᓐᓂ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ᐃᓄᐃᑦ ᐅᒃᐱᕈᓱᓚᐅᖅᑐᑦ ᑖᔅᓱᒪ ᐱᕋᔭᒃᓯᒪᔫᑉ ᓇᒡᓕᒋᔭᖏᑦ ᐊᑭᓂᐊᖅᑕᐅᒐᔭᕐᓂᖏᓐᓂᒃ ᑖᔅᓱᒪ ᐱᓂᐊᕐᓂᕆᓚᐅᖅᑕᖏᓐᓄ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ᐃᓱᒪᒋᔭᐅᔪᑦ ᐊᑭᓂᐊᖅᑕᐅᔭᓐᓂᖏᓐᓄᑦ ᐱᕋᔭᒃᑕᐃᓕᑎᑦᑎᔾᔪᑕᐅᓚᐅᖅᑐᑦ. ᐅᒃᐱᕈᓱᓚᐅᖅᑐᑦ ᑕᕐᓂᐅᔪᑦ, ᓲᕐᓗ ᓯᓚᒃᑯᑦ ᐱᓐᖑᐊᕐᓂᒃᑯᓪᓘᓐᓃᑦ ᐊᑭᓂᐊᕈᑕᐅᖃᑦᑕᕐᓂᖏᓐᓂᒃ ᐱᕋᔭᒃᓯᒪᔪᓄᑦ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igiarniq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ᐱᐅᖏᓐᓃᑦ ᐅᒃᐱᕆᔭᐅᓚᐅᖅᑐᑦ ᓯᓚᒥᒃ ᐱᐅᓐᖏᓕᖅᑎᑦᑎᓂᖏᓐᓂ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igiarniq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ᒥᖕᓂᑐᔪᓪᓗ ᐊᖑᓇᓱᒃᑲᓗᐊᕐᓗᑎᒃ ᐊᖑᓯᔪᓐᓇᖏᓪᓗᑎ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igiarniq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ᐃᓄᐊᕐᓯᒪᔪᓪᓗ ᐃᓅᓯᒃᓴᑭᓪᓗᑎ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id-ID" sz="1400" spc="-1" strike="noStrike">
                <a:solidFill>
                  <a:srgbClr val="000000"/>
                </a:solidFill>
                <a:latin typeface="Pigiarniq"/>
              </a:rPr>
              <a:t>ᐱᔭᐅᔪᑦ: ᓄᓇᕗᑦ ᓯᓚᑦᑐᓴᕐᕕᖓᓐᓂ: ᐃᓐᓇᐃᑦ ᐊᐱᖅᓱᖅᑕᐅᔾᔪᑎᕕᓂᖏᓐᓂᑦ</a:t>
            </a:r>
            <a:r>
              <a:rPr b="0" lang="en-US" sz="1400" spc="-1" strike="noStrike">
                <a:solidFill>
                  <a:srgbClr val="000000"/>
                </a:solidFill>
                <a:latin typeface="Pigiarniq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ᐊᖕᒪᓗᕐᓯᓯᒪᔪᖅ ᐋᖅᑭᒡᓱᐃᔾᔪᓯ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ᐊᑲᐅᓐᖏᓕᐅᕈᑎᐅᔪᑦ ᒥᑭᑦᑑᑕᐅᓂᖏᑦ ᑲᒪᒋᔭᐅᕙᓚᐅᖅᑐᑦ ᑭᓯᐊᓂ ᐃᓐᓇᕐᓄ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ᓄᓇᓕᐅᔪᑦ ᐃᓚᐅᑎᑕᐅᓕᖅᐸᓚᐅᖅᑐᑦ ᐊᑲᐅᓐᖏᓕᐅᕈᑎᐅᔪᖅ ᐅᒃᐱᕆᔭᐅᒍᓂ ᐃᓅᓯᕐᒧᑦ ᐊᑦᑕᕐᓇᕐᓂᖓᓂᒃ ᐅᕝᕙᓘᓐᓃᑦ ᑐᐊᕕᕐᓇᖅᑎᓪᓗ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ᐃᓅᓯᓕᕆᕙᓚᐅᖅᑐᑦ ᐃᓄᑑᖃᑎᒋᓪᓗᒍ ᑕᖅᑲᒃᑯᐊ ᐃᒻᒥᖕᓄᑦ ᐅᖃᕈᓘᔭᕐᓂᐊᖏᒻᒪᑕ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ᐃᓐᓇᐃᑦ ᑭᓯᐊᓂ ᐱᓕᕆᖃᑕᐅᓪᓗᑎᒃ ᐊᒻᒪ ᑖᓐᓇ ᐱᕋᔭᒃᓯᒪᔪᖅ ᐃᓚᐅᓪᓗ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id-ID" sz="1200" spc="-1" strike="noStrike">
                <a:solidFill>
                  <a:srgbClr val="000000"/>
                </a:solidFill>
                <a:latin typeface="Pigiarniq"/>
              </a:rPr>
              <a:t>ᐱᔭᐅᔪᑦ: ᓄᓇᕗᑦ ᓯᓚᑦᑐᓴᕐᕕᖓᓐᓂ: ᐃᓐᓇᐃᑦ ᐊᐱᖅᓱᖅᑕᐅᔾᔪᑎᕕᓂᖏᓐᓂᑦ</a:t>
            </a:r>
            <a:r>
              <a:rPr b="0" lang="en-US" sz="1200" spc="-1" strike="noStrike">
                <a:solidFill>
                  <a:srgbClr val="000000"/>
                </a:solidFill>
                <a:latin typeface="Pigiarniq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ᐊᖓᒃᑯᐃ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ᐱᖓᓲᓕᖅᑲᖓᓚᐅᕐᓯᒪᔪᑦ ᐊᖓᒃᑯᐃᑦ; ᐃᓚᖏᑦ ᐃᓄᐊᖅᑎᐅᓪᓗᑎᒃ; ᐃᓚᖏᓪᓗ ᒪᒥᓴᐃᔨᐅᓪᓗᑎᒃ ᐊᒻᒪ ᐃᓚᖏᑦ ᓂᕐᔪᑎᓂᒃ ᖃᐃᖅᑯᔨᔨᐅᓪᓗᑎᒃ ᓄᓇᓕᖕᓄᑦ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ᐊᖓᒃᑯᐃᑦ ᑕᑯᔪᓐᓇᓚᐅᖅᑐᑦ ᐃᓄᐃᑦ ᑕᒻᒪᕐᓯᒪᓂᖏᓐᓂ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ᐊᖓᒃᑯᐃᑦ ᑑᕐᖓᖏᑦ ᐃᓯᑲᐃᓐᓇᕈᓐᓇᓚᐅᖅᑐᑦ ᐊᓯᐊᓄᑦ ᐊᓯᓐᖑᕐᖢᑎᒃ ᐃᓄᐊᕋᓱᒍᑎᒋᓪᓗ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ᑭᓇᑐᐃᓐᓇᖅ ᐃᓄᐊᖅᑐᖅ ᐱᔭᖅᑰᒻᒥ ᐊᔾᔨᒋᓐᖏᑕᒍᑦ ᐱᓂᐊᕐᓂᖃᕐᕕᐅᕙᓚᐅᖅᑐᖅ ᐊᖓᒃᑯᒥᒍᑦ ᐃᓄᐊᖅᑑᑉ.  ᑕᒪᕐᒥᒃ ᐊᑐᖁᔭᐅᕙᓚᐅᖏᑦᑐᑦ, ᑭᓯᐊᓂᓕ ᐃᓄᐊᖅᑐᖃᕋᒥ ᐊᖓᒃᑯᒥᒍᑦ ᑖᓐᓇ ᐃᓄᒃ ᐸᓯᔭᒃᓴᐅᕙᓚᐅᖏᑦᑐᖅ ᐱᓂᐊᕐᓂᖓᓄ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id-ID" sz="1200" spc="-1" strike="noStrike">
                <a:solidFill>
                  <a:srgbClr val="000000"/>
                </a:solidFill>
                <a:latin typeface="Pigiarniq"/>
              </a:rPr>
              <a:t>ᐱᔭᐅᔪᑦ: ᓄᓇᕗᑦ ᓯᓚᑦᑐᓴᕐᕕᖓᓐᓂ: ᐃᓐᓇᐃᑦ ᐊᐱᖅᓱᖅᑕᐅᔾᔪᑎᕕᓂᖏᓐᓂᑦ</a:t>
            </a:r>
            <a:r>
              <a:rPr b="0" lang="en-US" sz="1200" spc="-1" strike="noStrike">
                <a:solidFill>
                  <a:srgbClr val="000000"/>
                </a:solidFill>
                <a:latin typeface="Pigiarniq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ᐃᓕᖃᓯᐅᔾᔨᓂᖅ ᐃᓄᐃᑦ ᖃᐅᔨᒪᔭᑐᖃᖏᓐᓂᒃ ᓄᓇᕗᒥ ᓴᓇᔭᐅᓯᒪᔪᒧᑦ ᐃᖅᑲᖅᑐᐃᕕᓕᕆᓂᕐᒧᑦ ᐊᐅᓚᓂᐅᔪᒧ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3T18:39:16Z</dcterms:created>
  <dc:creator>Christina Abbott</dc:creator>
  <dc:description/>
  <dc:language>en-US</dc:language>
  <cp:lastModifiedBy> </cp:lastModifiedBy>
  <dcterms:modified xsi:type="dcterms:W3CDTF">2007-02-21T21:48:20Z</dcterms:modified>
  <cp:revision>59</cp:revision>
  <dc:subject/>
  <dc:title>Slide 1</dc:title>
</cp:coreProperties>
</file>