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053F7B-CE15-499B-9B14-F33DC9A24A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9E97BE-DC60-42B0-B16E-FC59C74800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5E3013-D979-44DA-A533-3C97D4F98A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E5E378-12DD-4D09-90C0-D2C91FE812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38FF21-3C35-4768-BDDE-49B4AF5499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C262F3-5392-4EC8-B421-E007E19807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7C6F37-3F55-4551-B60A-E9BEA09C99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4A627B-3630-445B-84D7-05CB11984A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B02153-B68E-404B-AA28-041C7C89E8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1B03BF-C498-49D0-B860-39AE5892A4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D7E2BA-E8B2-444D-A146-848E859133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51FBF1-3A18-46FB-95D7-FC52932946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A3767-2A62-4F91-AABF-ADB8B175277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www.tunngavik.com/publications/environment/climate-change-inuit-perspective-en.pdf" TargetMode="External"/><Relationship Id="rId2" Type="http://schemas.openxmlformats.org/officeDocument/2006/relationships/hyperlink" Target="http://www.tunngavik.com/publications/environment/climate-change-inuit-perspective-en.pdf" TargetMode="External"/><Relationship Id="rId3" Type="http://schemas.openxmlformats.org/officeDocument/2006/relationships/hyperlink" Target="http://www.tunngavik.com/publications/environment/climate-change-inuit-perspective-en.pdf" TargetMode="External"/><Relationship Id="rId4" Type="http://schemas.openxmlformats.org/officeDocument/2006/relationships/hyperlink" Target="http://www.tunngavik.com/publications/environment/climate-change-inuit-perspective-en.pdf" TargetMode="External"/><Relationship Id="rId5" Type="http://schemas.openxmlformats.org/officeDocument/2006/relationships/hyperlink" Target="http://www.tunngavik.com/publications/environment/climate-change-inuit-perspective-en.pdf" TargetMode="External"/><Relationship Id="rId6" Type="http://schemas.openxmlformats.org/officeDocument/2006/relationships/hyperlink" Target="http://www.tunngavik.com/publications/environment/climate-change-inuit-perspective-en.pdf" TargetMode="External"/><Relationship Id="rId7"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www.tunngavik.com/publications/environment/climate-change-inuit-perspective-en.pdf" TargetMode="External"/><Relationship Id="rId2" Type="http://schemas.openxmlformats.org/officeDocument/2006/relationships/hyperlink" Target="http://www.tunngavik.com/publications/environment/climate-change-inuit-perspective-en.pdf" TargetMode="External"/><Relationship Id="rId3" Type="http://schemas.openxmlformats.org/officeDocument/2006/relationships/hyperlink" Target="http://www.tunngavik.com/publications/environment/climate-change-inuit-perspective-en.pdf" TargetMode="External"/><Relationship Id="rId4" Type="http://schemas.openxmlformats.org/officeDocument/2006/relationships/hyperlink" Target="http://www.tunngavik.com/publications/environment/climate-change-inuit-perspective-en.pdf" TargetMode="External"/><Relationship Id="rId5" Type="http://schemas.openxmlformats.org/officeDocument/2006/relationships/hyperlink" Target="http://www.tunngavik.com/publications/environment/climate-change-inuit-perspective-en.pdf" TargetMode="External"/><Relationship Id="rId6" Type="http://schemas.openxmlformats.org/officeDocument/2006/relationships/hyperlink" Target="http://www.tunngavik.com/publications/environment/climate-change-inuit-perspective-en.pdf" TargetMode="External"/><Relationship Id="rId7"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hyperlink" Target="http://www.gov.nu.ca/finance/bp0506/env05.pdf" TargetMode="External"/><Relationship Id="rId2" Type="http://schemas.openxmlformats.org/officeDocument/2006/relationships/hyperlink" Target="http://www.gov.nu.ca/finance/bp0506/env05.pdf" TargetMode="External"/><Relationship Id="rId3" Type="http://schemas.openxmlformats.org/officeDocument/2006/relationships/hyperlink" Target="http://www.gov.nu.ca/finance/bp0506/env05.pdf" TargetMode="External"/><Relationship Id="rId4" Type="http://schemas.openxmlformats.org/officeDocument/2006/relationships/hyperlink" Target="http://www.gov.nu.ca/finance/bp0506/env05.pdf" TargetMode="External"/><Relationship Id="rId5" Type="http://schemas.openxmlformats.org/officeDocument/2006/relationships/hyperlink" Target="http://www.gov.nu.ca/finance/bp0506/env05.pdf" TargetMode="External"/><Relationship Id="rId6" Type="http://schemas.openxmlformats.org/officeDocument/2006/relationships/hyperlink" Target="http://www.gov.nu.ca/finance/bp0506/env05.pdf" TargetMode="External"/><Relationship Id="rId7"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hyperlink" Target="http://www.tunngavik.com/publications/environment/climate-change-inuit-perspective-en.pdf" TargetMode="External"/><Relationship Id="rId2" Type="http://schemas.openxmlformats.org/officeDocument/2006/relationships/hyperlink" Target="http://www.tunngavik.com/publications/environment/climate-change-inuit-perspective-en.pdf" TargetMode="External"/><Relationship Id="rId3" Type="http://schemas.openxmlformats.org/officeDocument/2006/relationships/hyperlink" Target="http://www.tunngavik.com/publications/environment/climate-change-inuit-perspective-en.pdf" TargetMode="External"/><Relationship Id="rId4" Type="http://schemas.openxmlformats.org/officeDocument/2006/relationships/hyperlink" Target="http://www.tunngavik.com/publications/environment/climate-change-inuit-perspective-en.pdf" TargetMode="External"/><Relationship Id="rId5" Type="http://schemas.openxmlformats.org/officeDocument/2006/relationships/hyperlink" Target="http://www.tunngavik.com/publications/environment/climate-change-inuit-perspective-en.pdf" TargetMode="External"/><Relationship Id="rId6" Type="http://schemas.openxmlformats.org/officeDocument/2006/relationships/hyperlink" Target="http://www.tunngavik.com/publications/environment/climate-change-inuit-perspective-en.pdf" TargetMode="External"/><Relationship Id="rId7"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3619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Pigiarniq"/>
              </a:rPr>
              <a:t>ᐊᕙᑎᒥᒃ ᐸᖅᑭᒡᓯᕐᓂᖅ</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4000" spc="-1" strike="noStrike">
                <a:solidFill>
                  <a:srgbClr val="000000"/>
                </a:solidFill>
                <a:latin typeface="Pigiarniq"/>
              </a:rPr>
              <a:t>ᐱᓕᕆᖃᑎᒌᖕᓂᖓᑦ</a:t>
            </a:r>
            <a:r>
              <a:rPr b="0" lang="en-US" sz="4000" spc="-1" strike="noStrike">
                <a:solidFill>
                  <a:srgbClr val="000000"/>
                </a:solidFill>
                <a:latin typeface="Pigiarniq"/>
              </a:rPr>
              <a:t> </a:t>
            </a:r>
            <a:br>
              <a:rPr sz="4000"/>
            </a:br>
            <a:r>
              <a:rPr b="0" lang="id-ID" sz="4000" spc="-1" strike="noStrike">
                <a:solidFill>
                  <a:srgbClr val="000000"/>
                </a:solidFill>
                <a:latin typeface="Pigiarniq"/>
              </a:rPr>
              <a:t>ᐃᓄᐃᑦ ᖃᐅᔨᒪᔭᑐᖃᖏᑦ</a:t>
            </a:r>
            <a:br>
              <a:rPr sz="4000"/>
            </a:br>
            <a:r>
              <a:rPr b="0" lang="id-ID" sz="4000" spc="-1" strike="noStrike">
                <a:solidFill>
                  <a:srgbClr val="000000"/>
                </a:solidFill>
                <a:latin typeface="Pigiarniq"/>
              </a:rPr>
              <a:t>ᐊᒻᒪ ᖃᐅᔨᓴᖅᑎᒻᒪᕆᑦ ᖃᐅᔨᒪᓂᖏᑦ</a:t>
            </a:r>
            <a:r>
              <a:rPr b="0" lang="en-US" sz="4000" spc="-1" strike="noStrike">
                <a:solidFill>
                  <a:srgbClr val="000000"/>
                </a:solidFill>
                <a:latin typeface="Pigiarniq"/>
              </a:rPr>
              <a:t>:</a:t>
            </a:r>
            <a:br>
              <a:rPr sz="4000"/>
            </a:br>
            <a:endParaRPr b="0" lang="en-US" sz="4000" spc="-1" strike="noStrike">
              <a:solidFill>
                <a:srgbClr val="000000"/>
              </a:solidFill>
              <a:latin typeface="Arial"/>
            </a:endParaRPr>
          </a:p>
        </p:txBody>
      </p:sp>
      <p:sp>
        <p:nvSpPr>
          <p:cNvPr id="64" name="PlaceHolder 2"/>
          <p:cNvSpPr>
            <a:spLocks noGrp="1"/>
          </p:cNvSpPr>
          <p:nvPr>
            <p:ph/>
          </p:nvPr>
        </p:nvSpPr>
        <p:spPr>
          <a:xfrm>
            <a:off x="457200" y="2057400"/>
            <a:ext cx="8229600" cy="4952880"/>
          </a:xfrm>
          <a:prstGeom prst="rect">
            <a:avLst/>
          </a:prstGeom>
          <a:noFill/>
          <a:ln w="0">
            <a:noFill/>
          </a:ln>
        </p:spPr>
        <p:txBody>
          <a:bodyPr lIns="90000" rIns="90000" tIns="46800" bIns="46800" anchor="t">
            <a:normAutofit/>
          </a:bodyPr>
          <a:p>
            <a:pPr marL="343080" indent="-343080">
              <a:lnSpc>
                <a:spcPct val="100000"/>
              </a:lnSpc>
              <a:spcBef>
                <a:spcPts val="400"/>
              </a:spcBef>
              <a:buClr>
                <a:srgbClr val="000000"/>
              </a:buClr>
              <a:buFont typeface="Pigiarniq"/>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Pigiarniq"/>
              </a:rPr>
              <a:t>ᐃᓄᐃᑦ ᖃᐅᔨᒪᔭᑐᖃᖏᑦ ᐃᓕᖃᓯᐅᔾᔭᐅᔪᓐᓇᖏᑦᑐᑦ ᐅᕝᕙᓘᓐᓃᖅ ᐱᖃᓯᐅᑎᔭᐅᔪᓐᓇᖏᑦᑐᑦ ᖃᐅᔨᓴᖅᑎᒻᒪᕆᑦ ᖃᐅᔨᒪᓂᖏᓐᓄᑦ ᐱᔾᔪᑎᒋᓪᓗᒍ ᐃᓕᖅᑯᓯᖏᑕ ᐱᖅᑯᓯᖏᑦ ᓯᐊᒻᒪᒃᓯᒪᓂᖅᓴᐅᖕᒪᑕ ᐱᖅᑯᓯᑐᖃᒃᑯᑦ ᖃᐅᔨᒪᓂᕆᔭᐅᔪᒥᑦ ᖃᓄᑐᐃᓐᓇᖅ, ᓯᓚᒧᑦ ᐊᑕᓪᓗᑎᒃ, ᐊᔾᔨᒋᔭᐅᓇᑎᒃ ᖃᐅᔨᓴᖅᑎᒻᒪᕆᐅᔪᑦ ᖃᐅᔨᒪᓂᖏᓐᓄᑦ. </a:t>
            </a:r>
            <a:endParaRPr b="0" lang="en-US" sz="1600" spc="-1" strike="noStrike">
              <a:solidFill>
                <a:srgbClr val="000000"/>
              </a:solidFill>
              <a:latin typeface="Arial"/>
            </a:endParaRPr>
          </a:p>
          <a:p>
            <a:pPr lvl="1" marL="743040" indent="-285840">
              <a:lnSpc>
                <a:spcPct val="100000"/>
              </a:lnSpc>
              <a:spcBef>
                <a:spcPts val="400"/>
              </a:spcBef>
              <a:buClr>
                <a:srgbClr val="000000"/>
              </a:buClr>
              <a:buFont typeface="Pigiarniq"/>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Pigiarniq"/>
              </a:rPr>
              <a:t>ᑕᒪᕐᒥᒃ ᐃᒡᓗᒌᓕᖅᑎᑕᐅᔭᕆᐊᖃᕐᒪᑕ ᐊᓯᖏᑦᑕᐅᖅ ᐃᓄᐃᑦ ᐅᔾᔨᕆᓯᒪᔭᖏᑦ ᐊᑐᖅᑕᐅᓗᑎᒃ ᖃᐅᔨᓴᖅᑎᒻᒪᕆᐅᔪᑦ ᐆᒃᑐᕋᐅᑎᓕᐊᖏᓐᓄᑦ, ᐊᒻᒪ ᖃᐅᔨᒪᓂᕐᒥᖕᓂᒃ ᑕᐅᕐᓰᖃᑎᒌᒡᓗᑎᒃ ᖃᐅᔨᒪᓂᖏᑦ ᑕᒪᒃᑮᖕᓄᑦ ᐅᖃᑕᐅᔭᕆᐊᖃᖅᑐᑦ</a:t>
            </a:r>
            <a:endParaRPr b="0" lang="en-US" sz="1600" spc="-1" strike="noStrike">
              <a:solidFill>
                <a:srgbClr val="000000"/>
              </a:solidFill>
              <a:latin typeface="Arial"/>
            </a:endParaRPr>
          </a:p>
          <a:p>
            <a:pPr lvl="1" marL="743040" indent="-285840">
              <a:lnSpc>
                <a:spcPct val="100000"/>
              </a:lnSpc>
              <a:spcBef>
                <a:spcPts val="400"/>
              </a:spcBef>
              <a:buClr>
                <a:srgbClr val="000000"/>
              </a:buClr>
              <a:buFont typeface="Pigiarniq"/>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Pigiarniq"/>
              </a:rPr>
              <a:t>ᐱᓗᐊᖅᑐᒥᒃ ᐱᔾᔪᑎᒋᓪᓗᒍ ᑐᑭᒧᐊᒃᑎᑕᐅᑦᓯᐊᓐᐃᓗᐊᕐᒪᑕ ᖃᕆᑕᐅᔭᒃᑯᑦ ᑐᓴᒐᒃᓴᐅᔪᑦ ᓄᓇᕗᑦ ᐊᕙᑎᖓᓄᑦ, ᐃᓄᐃᑦ ᐅᔾᔨᕆᔭᖏᑦ ᐊᑑᑎᖃᕐᒪᑕ ᑐᓴᒐᒃᓴᐅᔪᑦ ᓴᓇᓂᐊᖅᑎᓪᓗᖏᑦ ᑐᓴᐅᒪᑦᑎᐊᕐᓗᑎᒃ ᐊᒻᒪ ᑐᑭᒧᐊᒍᑎᓕᐅᕐᓗᑎᒃ ᖃᐅᔨᓴᖅᑎᒻᒪᕆᑦ ᖃᐅᔨᓴᕈᑎᒃᓴᖏᓐᓄᑦ.</a:t>
            </a:r>
            <a:endParaRPr b="0" lang="en-US" sz="1600" spc="-1" strike="noStrike">
              <a:solidFill>
                <a:srgbClr val="000000"/>
              </a:solidFill>
              <a:latin typeface="Arial"/>
            </a:endParaRPr>
          </a:p>
          <a:p>
            <a:pPr marL="343080" indent="-343080">
              <a:lnSpc>
                <a:spcPct val="100000"/>
              </a:lnSpc>
              <a:spcBef>
                <a:spcPts val="400"/>
              </a:spcBef>
              <a:buClr>
                <a:srgbClr val="000000"/>
              </a:buClr>
              <a:buFont typeface="Pigiarniq"/>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Pigiarniq"/>
              </a:rPr>
              <a:t>ᐃᓕᖅᑯᓯᑐᖃᕆᔭᐅᖏᑦᑑᒐᓗᐊᖅ ᐃᓄᖕᓄᑦ ᓯᕗᓂᒃᓴᒧᑦ ᓇᓕᖅᑯᑦᑕᐃᓂᖅ, ᖃᐅᔨᓴᖅᑎᒻᒪᕆᐅᔪᑦ ᖃᐅᔨᒪᓂᖏᑦ ᐊᑐᕐᓗᒋᑦ ᐃᑲᔪᕐᓯᔪᓐᓇᖅᑐᑦ ᖃᓄᐃᑦᑐᓂᒃ ᓂᕆᐅᒍᓐᓇᕐᒪᖔᑕ ᐊᓯᔾᔨᕈᑕᐅᓂᐊᖅᑐᓂᒃ ᐊᒻᒪ ᓱᒃᑲᓗᐊᖅᑐᒃᑯᑦ ᓵᑦᑎᓐᓄᐊᖁᓇᒍ.</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300"/>
              </a:spcBef>
              <a:buClr>
                <a:srgbClr val="000000"/>
              </a:buClr>
              <a:buFont typeface="Pigiarniq"/>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Pigiarniq"/>
              </a:rPr>
              <a:t>ᐱᔭᐅᔪᑦ</a:t>
            </a:r>
            <a:r>
              <a:rPr b="0" lang="en-US" sz="1200" spc="-1" strike="noStrike">
                <a:solidFill>
                  <a:srgbClr val="000000"/>
                </a:solidFill>
                <a:latin typeface="Pigiarniq"/>
              </a:rPr>
              <a:t>:</a:t>
            </a:r>
            <a:r>
              <a:rPr b="0" lang="en-US" sz="1200" spc="-1" strike="noStrike">
                <a:solidFill>
                  <a:srgbClr val="000000"/>
                </a:solidFill>
                <a:latin typeface="Arial"/>
              </a:rPr>
              <a:t>  </a:t>
            </a:r>
            <a:r>
              <a:rPr b="0" lang="en-US" sz="1200" spc="-1" strike="noStrike" u="sng">
                <a:solidFill>
                  <a:srgbClr val="009999"/>
                </a:solidFill>
                <a:uFillTx/>
                <a:latin typeface="Arial"/>
                <a:hlinkClick r:id="rId1"/>
              </a:rPr>
              <a:t>http://www.</a:t>
            </a:r>
            <a:r>
              <a:rPr b="0" lang="en-US" sz="1200" spc="-1" strike="noStrike" u="sng">
                <a:solidFill>
                  <a:srgbClr val="009999"/>
                </a:solidFill>
                <a:uFillTx/>
                <a:latin typeface="Arial"/>
                <a:hlinkClick r:id="rId2"/>
              </a:rPr>
              <a:t>tunngavik</a:t>
            </a:r>
            <a:r>
              <a:rPr b="0" lang="en-US" sz="1200" spc="-1" strike="noStrike" u="sng">
                <a:solidFill>
                  <a:srgbClr val="009999"/>
                </a:solidFill>
                <a:uFillTx/>
                <a:latin typeface="Arial"/>
                <a:hlinkClick r:id="rId3"/>
              </a:rPr>
              <a:t>.com/publications/environment/climate-change-</a:t>
            </a:r>
            <a:r>
              <a:rPr b="0" lang="en-US" sz="1200" spc="-1" strike="noStrike" u="sng">
                <a:solidFill>
                  <a:srgbClr val="009999"/>
                </a:solidFill>
                <a:uFillTx/>
                <a:latin typeface="Arial"/>
                <a:hlinkClick r:id="rId4"/>
              </a:rPr>
              <a:t>inuit</a:t>
            </a:r>
            <a:r>
              <a:rPr b="0" lang="en-US" sz="1200" spc="-1" strike="noStrike" u="sng">
                <a:solidFill>
                  <a:srgbClr val="009999"/>
                </a:solidFill>
                <a:uFillTx/>
                <a:latin typeface="Arial"/>
                <a:hlinkClick r:id="rId5"/>
              </a:rPr>
              <a:t>-perspective-en.</a:t>
            </a:r>
            <a:r>
              <a:rPr b="0" lang="en-US" sz="1200" spc="-1" strike="noStrike" u="sng">
                <a:solidFill>
                  <a:srgbClr val="009999"/>
                </a:solidFill>
                <a:uFillTx/>
                <a:latin typeface="Arial"/>
                <a:hlinkClick r:id="rId6"/>
              </a:rPr>
              <a:t>pdf</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4400" spc="-1" strike="noStrike">
                <a:solidFill>
                  <a:srgbClr val="000000"/>
                </a:solidFill>
                <a:latin typeface="Pigiarniq"/>
              </a:rPr>
              <a:t>ᓱᖏᐅᓴᓂᕐᒧᑦ ᓯᕗᓪᓕᐅᔾᔭᑦ </a:t>
            </a:r>
            <a:r>
              <a:rPr b="0" lang="en-US" sz="4400" spc="-1" strike="noStrike">
                <a:solidFill>
                  <a:srgbClr val="000000"/>
                </a:solidFill>
                <a:latin typeface="Pigiarniq"/>
              </a:rPr>
              <a:t>:</a:t>
            </a:r>
            <a:endParaRPr b="0" lang="en-US" sz="4400" spc="-1" strike="noStrike">
              <a:solidFill>
                <a:srgbClr val="000000"/>
              </a:solidFill>
              <a:latin typeface="Arial"/>
            </a:endParaRPr>
          </a:p>
        </p:txBody>
      </p:sp>
      <p:sp>
        <p:nvSpPr>
          <p:cNvPr id="66" name="PlaceHolder 2"/>
          <p:cNvSpPr>
            <a:spLocks noGrp="1"/>
          </p:cNvSpPr>
          <p:nvPr>
            <p:ph/>
          </p:nvPr>
        </p:nvSpPr>
        <p:spPr>
          <a:xfrm>
            <a:off x="457200" y="1599840"/>
            <a:ext cx="8229600" cy="39625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igiarniq"/>
              </a:rPr>
              <a:t>“</a:t>
            </a:r>
            <a:r>
              <a:rPr b="0" lang="id-ID" sz="3200" spc="-1" strike="noStrike">
                <a:solidFill>
                  <a:srgbClr val="000000"/>
                </a:solidFill>
                <a:latin typeface="Pigiarniq"/>
              </a:rPr>
              <a:t>ᐃᓄᐃᑦ, ᒐᕙᒪᐃᑦ, ᓯᕗᓕᖅᑎᑦ ᐊᒻᒪ ᖃᐅᔨᓴᖅᑎᒻᒪᕆᐅᔪᑦ ᐃᖅᑲᓇᐃᔭᖃᑎᒌᒋᐊᖃᓕᖅᑐᑦ ᑐᑭᖃᓪᓚᕆᒃᑐᒥᒃ ᓯᕗᒧᐊᒃᑎᑦᓯᓂᐊᕈᑎᒃ ᑕᒪᑐᒪ ᒥᒃᓵᓄᑦ ᐱᔾᔪᑕᐅᔫᑉ</a:t>
            </a:r>
            <a:r>
              <a:rPr b="0" lang="en-US" sz="3200" spc="-1" strike="noStrike">
                <a:solidFill>
                  <a:srgbClr val="000000"/>
                </a:solidFill>
                <a:latin typeface="Pigiarniq"/>
              </a:rPr>
              <a:t>.”  </a:t>
            </a:r>
            <a:endParaRPr b="0" lang="en-US" sz="3200" spc="-1" strike="noStrike">
              <a:solidFill>
                <a:srgbClr val="000000"/>
              </a:solidFill>
              <a:latin typeface="Arial"/>
            </a:endParaRPr>
          </a:p>
        </p:txBody>
      </p:sp>
      <p:sp>
        <p:nvSpPr>
          <p:cNvPr id="67" name=""/>
          <p:cNvSpPr/>
          <p:nvPr/>
        </p:nvSpPr>
        <p:spPr>
          <a:xfrm>
            <a:off x="609480" y="5562720"/>
            <a:ext cx="8229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Pigiarniq"/>
              </a:rPr>
              <a:t>ᐱᔭᐅᔪᑦ</a:t>
            </a:r>
            <a:r>
              <a:rPr b="0" lang="en-US" sz="1800" spc="-1" strike="noStrike">
                <a:solidFill>
                  <a:srgbClr val="000000"/>
                </a:solidFill>
                <a:latin typeface="Arial"/>
              </a:rPr>
              <a:t>:  </a:t>
            </a:r>
            <a:r>
              <a:rPr b="0" lang="en-US" sz="1200" spc="-1" strike="noStrike" u="sng">
                <a:solidFill>
                  <a:srgbClr val="009999"/>
                </a:solidFill>
                <a:uFillTx/>
                <a:latin typeface="Arial"/>
                <a:hlinkClick r:id="rId1"/>
              </a:rPr>
              <a:t>http://www.</a:t>
            </a:r>
            <a:r>
              <a:rPr b="0" lang="en-US" sz="1200" spc="-1" strike="noStrike" u="sng">
                <a:solidFill>
                  <a:srgbClr val="009999"/>
                </a:solidFill>
                <a:uFillTx/>
                <a:latin typeface="Arial"/>
                <a:hlinkClick r:id="rId2"/>
              </a:rPr>
              <a:t>tunngavik</a:t>
            </a:r>
            <a:r>
              <a:rPr b="0" lang="en-US" sz="1200" spc="-1" strike="noStrike" u="sng">
                <a:solidFill>
                  <a:srgbClr val="009999"/>
                </a:solidFill>
                <a:uFillTx/>
                <a:latin typeface="Arial"/>
                <a:hlinkClick r:id="rId3"/>
              </a:rPr>
              <a:t>.com/publications/environment/climate-change-</a:t>
            </a:r>
            <a:r>
              <a:rPr b="0" lang="en-US" sz="1200" spc="-1" strike="noStrike" u="sng">
                <a:solidFill>
                  <a:srgbClr val="009999"/>
                </a:solidFill>
                <a:uFillTx/>
                <a:latin typeface="Arial"/>
                <a:hlinkClick r:id="rId4"/>
              </a:rPr>
              <a:t>inuit</a:t>
            </a:r>
            <a:r>
              <a:rPr b="0" lang="en-US" sz="1200" spc="-1" strike="noStrike" u="sng">
                <a:solidFill>
                  <a:srgbClr val="009999"/>
                </a:solidFill>
                <a:uFillTx/>
                <a:latin typeface="Arial"/>
                <a:hlinkClick r:id="rId5"/>
              </a:rPr>
              <a:t>-perspective-en.</a:t>
            </a:r>
            <a:r>
              <a:rPr b="0" lang="en-US" sz="1200" spc="-1" strike="noStrike" u="sng">
                <a:solidFill>
                  <a:srgbClr val="009999"/>
                </a:solidFill>
                <a:uFillTx/>
                <a:latin typeface="Arial"/>
                <a:hlinkClick r:id="rId6"/>
              </a:rPr>
              <a:t>pdf</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igiarniq"/>
              </a:rPr>
              <a:t>“</a:t>
            </a:r>
            <a:r>
              <a:rPr b="0" lang="id-ID" sz="1800" spc="-1" strike="noStrike">
                <a:solidFill>
                  <a:srgbClr val="000000"/>
                </a:solidFill>
                <a:latin typeface="Pigiarniq"/>
              </a:rPr>
              <a:t>ᐃᓱᒪᔪᖓᓕ ᓄᓇᕐᔪᐊᕗᑦ ᐊᓯᔾᔨᖅᐸᓪᓕᐊᖏᓐᓇᐅᔭᕐᓂᖓᓂᒃ ᐊᒻᒪ ᐊᒃᓱᒻᒪᕆᐅᔪᖅ ᐊᔭᐅᖅᑐᐃᔾᔪᑕᐅᓕᕐᓂᐊᖅᑐᖅ ᐃᓄᖏᑦ ᓄᓇᕐᔪᐊᑉ ᑕᐃᒪᓐᖓᑦ ᓱᖏᐅᑎᓇᓱᐊᖃᑦᑕᕐᓗᑎᒃ.</a:t>
            </a:r>
            <a:r>
              <a:rPr b="0" lang="en-US" sz="1800" spc="-1" strike="noStrike">
                <a:solidFill>
                  <a:srgbClr val="000000"/>
                </a:solidFill>
                <a:latin typeface="Pigiarniq"/>
              </a:rPr>
              <a:t> </a:t>
            </a:r>
            <a:br>
              <a:rPr sz="1800"/>
            </a:br>
            <a:br>
              <a:rPr sz="1800"/>
            </a:br>
            <a:r>
              <a:rPr b="0" lang="en-US" sz="1800" spc="-1" strike="noStrike">
                <a:solidFill>
                  <a:srgbClr val="000000"/>
                </a:solidFill>
                <a:latin typeface="Pigiarniq"/>
              </a:rPr>
              <a:t>… </a:t>
            </a:r>
            <a:r>
              <a:rPr b="0" lang="id-ID" sz="1800" spc="-1" strike="noStrike">
                <a:solidFill>
                  <a:srgbClr val="000000"/>
                </a:solidFill>
                <a:latin typeface="Pigiarniq"/>
              </a:rPr>
              <a:t>ᑕᒫᓂᓕ...ᐃᓄᐃ ᐊᑐᓕᖅᑐᑦ ᐃᓄᐃᑦ ᖃᐅᔨᒪᔭᑐᖃᖏᓐᓂᒃ ᓱᖏᐅᓴᓪᓗᑎᒃ, ᑭᓯᐊᓂᓕ ᐊᑯᓂᐅᓂᖅᓴᐅᓂᐊᖅᑐᖅ.</a:t>
            </a:r>
            <a:r>
              <a:rPr b="0" lang="en-US" sz="1800" spc="-1" strike="noStrike">
                <a:solidFill>
                  <a:srgbClr val="000000"/>
                </a:solidFill>
                <a:latin typeface="Pigiarniq"/>
              </a:rPr>
              <a:t> </a:t>
            </a:r>
            <a:br>
              <a:rPr sz="1800"/>
            </a:br>
            <a:br>
              <a:rPr sz="1800"/>
            </a:br>
            <a:r>
              <a:rPr b="0" lang="id-ID" sz="1800" spc="-1" strike="noStrike">
                <a:solidFill>
                  <a:srgbClr val="000000"/>
                </a:solidFill>
                <a:latin typeface="Pigiarniq"/>
              </a:rPr>
              <a:t>ᑭᓯᐊᓂᓕ ᑕᑯᔪᖓ ᓱᖏᐅᑎᔪᓂᒃ ᐱᔪᓐᓇᕐᓂᖏᑦ ᒪᓕᒃᓗᒋᑦ ᐊᒻᒪ ᑭᓱᑐᓐᐃᓇᕐᓂᒃ ᐊᑐᕐᓗᑎᒃ ᐱᐅᓂᖅᐹᖑᔪᓐᓇᖅᑐᒃᑯᑦ</a:t>
            </a:r>
            <a:r>
              <a:rPr b="0" lang="en-US" sz="1800" spc="-1" strike="noStrike">
                <a:solidFill>
                  <a:srgbClr val="000000"/>
                </a:solidFill>
                <a:latin typeface="Pigiarniq"/>
              </a:rPr>
              <a:t>.”</a:t>
            </a:r>
            <a:br>
              <a:rPr sz="1800"/>
            </a:br>
            <a:endParaRPr b="0" lang="en-US" sz="1800" spc="-1" strike="noStrike">
              <a:solidFill>
                <a:srgbClr val="000000"/>
              </a:solidFill>
              <a:latin typeface="Arial"/>
            </a:endParaRPr>
          </a:p>
        </p:txBody>
      </p:sp>
      <p:sp>
        <p:nvSpPr>
          <p:cNvPr id="69" name="PlaceHolder 2"/>
          <p:cNvSpPr>
            <a:spLocks noGrp="1"/>
          </p:cNvSpPr>
          <p:nvPr>
            <p:ph type="subTitle"/>
          </p:nvPr>
        </p:nvSpPr>
        <p:spPr>
          <a:xfrm>
            <a:off x="1447920" y="4419720"/>
            <a:ext cx="6400800" cy="1752480"/>
          </a:xfrm>
          <a:prstGeom prst="rect">
            <a:avLst/>
          </a:prstGeom>
          <a:noFill/>
          <a:ln w="0">
            <a:noFill/>
          </a:ln>
        </p:spPr>
        <p:txBody>
          <a:bodyPr lIns="90000" rIns="90000" tIns="46800" bIns="46800" anchor="t">
            <a:noAutofit/>
          </a:bodyPr>
          <a:p>
            <a: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000000"/>
                </a:solidFill>
                <a:latin typeface="Pigiarniq"/>
              </a:rPr>
              <a:t>ᒥᔅᑕ ᐋᓐᑐᕈ ᑕᓐᕗᐊᑦ,</a:t>
            </a:r>
            <a:endParaRPr b="0" lang="en-US" sz="1400" spc="-1" strike="noStrike">
              <a:solidFill>
                <a:srgbClr val="000000"/>
              </a:solidFill>
              <a:latin typeface="Arial"/>
            </a:endParaRPr>
          </a:p>
          <a:p>
            <a: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000000"/>
                </a:solidFill>
                <a:latin typeface="Pigiarniq"/>
              </a:rPr>
              <a:t>ᖃᐅᔨᓴᖅᑎ, ᓄᓇᕗᒥ ᖃᐅᔨᓴᐃᕕᖕᒥ</a:t>
            </a:r>
            <a:endParaRPr b="0" lang="en-US" sz="1400" spc="-1" strike="noStrike">
              <a:solidFill>
                <a:srgbClr val="000000"/>
              </a:solidFill>
              <a:latin typeface="Arial"/>
            </a:endParaRPr>
          </a:p>
          <a:p>
            <a: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000000"/>
                </a:solidFill>
                <a:latin typeface="Pigiarniq"/>
              </a:rPr>
              <a:t>ᓯᑎᐱᕆ</a:t>
            </a:r>
            <a:r>
              <a:rPr b="1" lang="en-US" sz="1400" spc="-1" strike="noStrike">
                <a:solidFill>
                  <a:srgbClr val="000000"/>
                </a:solidFill>
                <a:latin typeface="Pigiarniq"/>
              </a:rPr>
              <a:t>2006</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Pigiarniq"/>
              </a:rPr>
              <a:t>“</a:t>
            </a:r>
            <a:r>
              <a:rPr b="0" lang="id-ID" sz="2400" spc="-1" strike="noStrike">
                <a:solidFill>
                  <a:srgbClr val="000000"/>
                </a:solidFill>
                <a:latin typeface="Pigiarniq"/>
              </a:rPr>
              <a:t>ᐱᑕᖃᖅᐸᑦ, ᓇᓗᓇᐃᕐᓯᔾᔪᑎᓂᒃ ᐃᓗᐊᓂ (ᐃᓄᐃᑦ ᖃᐅᔨᒪᓂᖏᑕ ᐃᖏᕐᕋᓂᖓᓂ) ᐊᒃᑐᐊᓂᖃᖅᑐᓂᒃ ᐊᓯᔾᔨᖅᐸᓪᓕᐊᓂᖓᓄᑦ ᓯᓚᐅᑉ ᐊᑑᑎᖃᕋᔭᖅᑐᕕᓂᖅ</a:t>
            </a:r>
            <a:r>
              <a:rPr b="0" lang="en-US" sz="2400" spc="-1" strike="noStrike">
                <a:solidFill>
                  <a:srgbClr val="000000"/>
                </a:solidFill>
                <a:latin typeface="Pigiarniq"/>
              </a:rPr>
              <a:t> … </a:t>
            </a:r>
            <a:br>
              <a:rPr sz="2400"/>
            </a:br>
            <a:br>
              <a:rPr sz="2400"/>
            </a:br>
            <a:r>
              <a:rPr b="0" lang="en-US" sz="2400" spc="-1" strike="noStrike">
                <a:solidFill>
                  <a:srgbClr val="000000"/>
                </a:solidFill>
                <a:latin typeface="Pigiarniq"/>
              </a:rPr>
              <a:t> </a:t>
            </a:r>
            <a:r>
              <a:rPr b="0" lang="id-ID" sz="2400" spc="-1" strike="noStrike">
                <a:solidFill>
                  <a:srgbClr val="000000"/>
                </a:solidFill>
                <a:latin typeface="Pigiarniq"/>
              </a:rPr>
              <a:t>(ᑖᓐᓇ) ᐃᓕᓐᓂᐊᖅᑎᑦᓯᔪᓐᓇᖅᑐᖅ ᐅᕙᑦᑎᓐᓂᒃ ᖃᓄᖅ ᓄᓇᓕᐅᔪᖅ ᓱᖏᐅᑎᔪᓐᓇᕐᒪᖔᑦ ᓯᕗᓂᒃᓴᒧᑦ ᐊᒻᒪ ᐊᑐᓕᕐᓗᑎᒃ ᐊᓯᔾᔨᖅᐸᓪᐊᓕᔪᒥᒃ ᓯᓚᒥᒃ ᑕᐃᒪᓐᓇ ᑭᓯᐊᓂ  ᐋᖅᑭᒋᐊᕈᑎᐅᔪᓐᓇᕋᔭᕐᒪᑦ.</a:t>
            </a:r>
            <a:r>
              <a:rPr b="0" lang="en-US" sz="2400" spc="-1" strike="noStrike">
                <a:solidFill>
                  <a:srgbClr val="000000"/>
                </a:solidFill>
                <a:latin typeface="Pigiarniq"/>
              </a:rPr>
              <a:t>”</a:t>
            </a:r>
            <a:br>
              <a:rPr sz="2400"/>
            </a:br>
            <a:endParaRPr b="0" lang="en-US" sz="2400" spc="-1" strike="noStrike">
              <a:solidFill>
                <a:srgbClr val="000000"/>
              </a:solidFill>
              <a:latin typeface="Arial"/>
            </a:endParaRPr>
          </a:p>
        </p:txBody>
      </p:sp>
      <p:sp>
        <p:nvSpPr>
          <p:cNvPr id="71" name="PlaceHolder 2"/>
          <p:cNvSpPr>
            <a:spLocks noGrp="1"/>
          </p:cNvSpPr>
          <p:nvPr>
            <p:ph type="subTitle"/>
          </p:nvPr>
        </p:nvSpPr>
        <p:spPr>
          <a:xfrm>
            <a:off x="1371600" y="4343400"/>
            <a:ext cx="6400800" cy="1752480"/>
          </a:xfrm>
          <a:prstGeom prst="rect">
            <a:avLst/>
          </a:prstGeom>
          <a:noFill/>
          <a:ln w="0">
            <a:noFill/>
          </a:ln>
        </p:spPr>
        <p:txBody>
          <a:bodyPr lIns="90000" rIns="90000" tIns="46800" bIns="46800"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Pigiarniq"/>
              </a:rPr>
              <a:t>ᓯᓚᑦᑐᓴᕐᕕᒡᔪᐊᒥ ᐃᓕᓴᐃᔨ ᒍᕌᒻ ᑕᐳᐊᓐ</a:t>
            </a:r>
            <a:endParaRPr b="0" lang="en-US" sz="1800" spc="-1" strike="noStrike">
              <a:solidFill>
                <a:srgbClr val="000000"/>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Pigiarniq"/>
              </a:rPr>
              <a:t>ᐊᑲᐃᑎᐊ ᓯᓚᑦᑐᓴᕐᕕᒡᔪᐊᖅ</a:t>
            </a:r>
            <a:endParaRPr b="0" lang="en-US" sz="1800" spc="-1" strike="noStrike">
              <a:solidFill>
                <a:srgbClr val="000000"/>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000000"/>
                </a:solidFill>
                <a:latin typeface="Pigiarniq"/>
              </a:rPr>
              <a:t>ᑕᑯᔭᕆᐅᕆᐊᖅᑐᖅᑐᑦ ᑲᓇᑕᒥ ᐅᒥᐊᖅᑐᕐᓂᖅ, ᐃᖃᓗᖕᓂᑦ</a:t>
            </a:r>
            <a:r>
              <a:rPr b="1" lang="en-US" sz="1400" spc="-1" strike="noStrike">
                <a:solidFill>
                  <a:srgbClr val="000000"/>
                </a:solidFill>
                <a:latin typeface="Pigiarniq"/>
              </a:rPr>
              <a:t> – </a:t>
            </a:r>
            <a:r>
              <a:rPr b="1" lang="id-ID" sz="1400" spc="-1" strike="noStrike">
                <a:solidFill>
                  <a:srgbClr val="000000"/>
                </a:solidFill>
                <a:latin typeface="Pigiarniq"/>
              </a:rPr>
              <a:t>ᑭᓐᖓᕐᓄᑦ</a:t>
            </a:r>
            <a:endParaRPr b="0" lang="en-US" sz="1400" spc="-1" strike="noStrike">
              <a:solidFill>
                <a:srgbClr val="000000"/>
              </a:solidFill>
              <a:latin typeface="Arial"/>
            </a:endParaRPr>
          </a:p>
          <a:p>
            <a: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000000"/>
                </a:solidFill>
                <a:latin typeface="Pigiarniq"/>
              </a:rPr>
              <a:t>ᓯᑎᐱᕆ</a:t>
            </a:r>
            <a:r>
              <a:rPr b="1" lang="en-US" sz="1400" spc="-1" strike="noStrike">
                <a:solidFill>
                  <a:srgbClr val="000000"/>
                </a:solidFill>
                <a:latin typeface="Pigiarniq"/>
              </a:rPr>
              <a:t> 2006</a:t>
            </a:r>
            <a:endParaRPr b="0" lang="en-US" sz="1400" spc="-1" strike="noStrike">
              <a:solidFill>
                <a:srgbClr val="000000"/>
              </a:solidFill>
              <a:latin typeface="Arial"/>
            </a:endParaRPr>
          </a:p>
          <a:p>
            <a: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2895480"/>
            <a:ext cx="7772400" cy="14702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Pigiarniq"/>
              </a:rPr>
              <a:t>“</a:t>
            </a:r>
            <a:r>
              <a:rPr b="0" lang="id-ID" sz="1800" spc="-1" strike="noStrike">
                <a:solidFill>
                  <a:srgbClr val="000000"/>
                </a:solidFill>
                <a:latin typeface="Pigiarniq"/>
              </a:rPr>
              <a:t>ᐱᓕᕆᕕᖓᑦ ᐊᕙᑎᓕᕆᔨᒃᑯᑦ ᑲᔪᓯᔪᒃᑯᑦ ᐱᓕᕆᓂᖓᑦ ᐅᓄᑲᓪᓚᒃᑐᓂᒃ ᐱᖃᓯᐅᔾᔨᓯᒪᓕᖅᐳᑦ </a:t>
            </a:r>
            <a:r>
              <a:rPr b="1" i="1" lang="id-ID" sz="1800" spc="-1" strike="noStrike">
                <a:solidFill>
                  <a:srgbClr val="000000"/>
                </a:solidFill>
                <a:latin typeface="Pigiarniq"/>
              </a:rPr>
              <a:t>ᐃᓄᐃᑦ ᖃᐅᔨᒪᔭᖏᓐᓂᒃ</a:t>
            </a:r>
            <a:r>
              <a:rPr b="0" lang="id-ID" sz="1800" spc="-1" strike="noStrike">
                <a:solidFill>
                  <a:srgbClr val="000000"/>
                </a:solidFill>
                <a:latin typeface="Pigiarniq"/>
              </a:rPr>
              <a:t> ᐱᓕᕆᐊᖏᑕ ᐃᓗᐊᓄᑦ, ᐱᔨᑦᓯᕈᑎᒋᔭᖏᑕ ᐊᒻᒪ ᖃᐅᑕᒫᕐᓯᐅᑎᖏᓐᓄᑦ ᐊᐅᓚᔾᔪᑎᖏᓐᓄᑦ.  </a:t>
            </a:r>
            <a:r>
              <a:rPr b="1" i="1" lang="id-ID" sz="1800" spc="-1" strike="noStrike">
                <a:solidFill>
                  <a:srgbClr val="000000"/>
                </a:solidFill>
                <a:latin typeface="Pigiarniq"/>
              </a:rPr>
              <a:t>ᐃᓄᐃᑦ ᖃᐅᔨᒪᔭᖏ</a:t>
            </a:r>
            <a:r>
              <a:rPr b="0" lang="id-ID" sz="1800" spc="-1" strike="noStrike">
                <a:solidFill>
                  <a:srgbClr val="000000"/>
                </a:solidFill>
                <a:latin typeface="Pigiarniq"/>
              </a:rPr>
              <a:t> ᐊᑐᖅᑕᐅᓪᓗᑎᒃ ᒪᑐᐃᖓᔾᔪᑕᐅᕗᑦ, ᑭᐅᓯᔾᔪᑕᐅᕙᒃᑭᕗᑦ ᐊᒻᒪ ᓵᑕᒃᑕᐅᔾᔪᑕᐅᓪᓗᑎᒃ, ᐊᒻᒪ ᐱᖃᓯᐅᑎᔭᐅᓯᒪᓪᓗᑎᒃ ᖃᐅᑕᒫᑦ ᐱᓕᕆᐊᒃᓴᖏᓐᓄᑦ ᐱᓕᕆᕕᐅᑉ.  ᐱᓕᕆᐊᖃᕋᓱᐊᖅᐳᒍᑦ ᐊᐅᓚᓂᖃᕐᓗᑕ ᐊᓯᔾᔨᕈᓐᓇᖅᑐᒥᒃ, ᐃᓕᖅᑯᓯᕐᒥᒃ ᐃᒃᐱᒍᓱᑦᓯᐊᖅᑐᒥᒃ ᐃᓗᐊᓂ ᐊᒻᒪ ᐱᔨᑦᓯᕈᑎᖏᓐᓂ ᐱᓕᕆᐊᑦ ᐊᒻᒪ ᐱᔨᑦᓯᕈᑎᐅᔪᑦ.</a:t>
            </a:r>
            <a:br>
              <a:rPr sz="1800"/>
            </a:br>
            <a:r>
              <a:rPr b="0" lang="id-ID" sz="1800" spc="-1" strike="noStrike">
                <a:solidFill>
                  <a:srgbClr val="000000"/>
                </a:solidFill>
                <a:latin typeface="Pigiarniq"/>
              </a:rPr>
              <a:t>ᑐᕌᒐᒃᓴᕗᑦ ᐊᖏᖅᑎᑦᓯᓯᒪᔪᑦ ᐅᕙᑦᑎᓐᓂᒃ </a:t>
            </a:r>
            <a:r>
              <a:rPr b="1" i="1" lang="id-ID" sz="1800" spc="-1" strike="noStrike">
                <a:solidFill>
                  <a:srgbClr val="000000"/>
                </a:solidFill>
                <a:latin typeface="Pigiarniq"/>
              </a:rPr>
              <a:t>ᐃᓄᐃᑦ ᖃᐅᔨᒪᓂᖏᓐᓄᑦ</a:t>
            </a:r>
            <a:r>
              <a:rPr b="0" lang="id-ID" sz="1800" spc="-1" strike="noStrike">
                <a:solidFill>
                  <a:srgbClr val="000000"/>
                </a:solidFill>
                <a:latin typeface="Pigiarniq"/>
              </a:rPr>
              <a:t> ᒪᓕᒐᕆᔭᐅᔪᑦ </a:t>
            </a:r>
            <a:r>
              <a:rPr b="1" i="1" lang="id-ID" sz="1800" spc="-1" strike="noStrike">
                <a:solidFill>
                  <a:srgbClr val="000000"/>
                </a:solidFill>
                <a:latin typeface="Pigiarniq"/>
              </a:rPr>
              <a:t>ᐊᕙᑎᒧᑦ ᑲᒪᑦᑎᐊᕐᓂᕐᒧᑦ</a:t>
            </a:r>
            <a:r>
              <a:rPr b="0" lang="id-ID" sz="1800" spc="-1" strike="noStrike">
                <a:solidFill>
                  <a:srgbClr val="000000"/>
                </a:solidFill>
                <a:latin typeface="Pigiarniq"/>
              </a:rPr>
              <a:t>, ᓯᕗᒧᐊᒃᑎᑦᓯᖁᓪᓗᒋᑦ ᐃᒡᓗᒌᑦᓯᐊᖅᑐᒥᒃ ᐱᖅᑯᓯᐅᔪᒥᒃ ᓄᓇᕗᑦ ᐊᕙᑎᖓᓄᑦ ᐊᒻᒪ ᓄᓇᒥᐅᑕᐅᔪᓄᑦ ᐊᑐᖅᑕᐅᔾᔪᑎᖏᓐᓄᑦ.</a:t>
            </a:r>
            <a:br>
              <a:rPr sz="2400"/>
            </a:br>
            <a:br>
              <a:rPr sz="2400"/>
            </a:br>
            <a:r>
              <a:rPr b="0" lang="id-ID" sz="1200" spc="-1" strike="noStrike">
                <a:solidFill>
                  <a:srgbClr val="000000"/>
                </a:solidFill>
                <a:latin typeface="Pigiarniq"/>
              </a:rPr>
              <a:t>ᐱᔭᐅᔪᑦ</a:t>
            </a:r>
            <a:r>
              <a:rPr b="0" lang="en-US" sz="1200" spc="-1" strike="noStrike">
                <a:solidFill>
                  <a:srgbClr val="000000"/>
                </a:solidFill>
                <a:latin typeface="Pigiarniq"/>
              </a:rPr>
              <a:t>:</a:t>
            </a:r>
            <a:r>
              <a:rPr b="0" lang="id-ID" sz="1200" spc="-1" strike="noStrike">
                <a:solidFill>
                  <a:srgbClr val="000000"/>
                </a:solidFill>
                <a:latin typeface="Pigiarniq"/>
              </a:rPr>
              <a:t> ᐱᓕᕆᕕᖓᓐᓂᑦ ᐊᕙᑎᓕᕆᔨᒃᑯᑦ, ᓄᓇᕗᑦ ᒐᕙᒪᒃᑯᖏᓐᓂ ᐱᓕᕆᐊᒃᓴᖏᓐᓄᑦ ᐸᕐᓇᐅᑎᖏᓐᓂ, </a:t>
            </a:r>
            <a:r>
              <a:rPr b="0" lang="en-US" sz="1200" spc="-1" strike="noStrike">
                <a:solidFill>
                  <a:srgbClr val="000000"/>
                </a:solidFill>
                <a:latin typeface="Pigiarniq"/>
              </a:rPr>
              <a:t> 2005 - 2006</a:t>
            </a:r>
            <a:r>
              <a:rPr b="0" lang="en-US" sz="1200" spc="-1" strike="noStrike" u="sng">
                <a:solidFill>
                  <a:srgbClr val="009999"/>
                </a:solidFill>
                <a:uFillTx/>
                <a:latin typeface="Pigiarniq"/>
                <a:hlinkClick r:id="rId1"/>
              </a:rPr>
              <a:t>_x000b_http://www.</a:t>
            </a:r>
            <a:r>
              <a:rPr b="0" lang="en-US" sz="1200" spc="-1" strike="noStrike" u="sng">
                <a:solidFill>
                  <a:srgbClr val="009999"/>
                </a:solidFill>
                <a:uFillTx/>
                <a:latin typeface="Pigiarniq"/>
                <a:hlinkClick r:id="rId2"/>
              </a:rPr>
              <a:t>gov</a:t>
            </a:r>
            <a:r>
              <a:rPr b="0" lang="en-US" sz="1200" spc="-1" strike="noStrike" u="sng">
                <a:solidFill>
                  <a:srgbClr val="009999"/>
                </a:solidFill>
                <a:uFillTx/>
                <a:latin typeface="Pigiarniq"/>
                <a:hlinkClick r:id="rId3"/>
              </a:rPr>
              <a:t>.</a:t>
            </a:r>
            <a:r>
              <a:rPr b="0" lang="en-US" sz="1200" spc="-1" strike="noStrike" u="sng">
                <a:solidFill>
                  <a:srgbClr val="009999"/>
                </a:solidFill>
                <a:uFillTx/>
                <a:latin typeface="Pigiarniq"/>
                <a:hlinkClick r:id="rId4"/>
              </a:rPr>
              <a:t>nu</a:t>
            </a:r>
            <a:r>
              <a:rPr b="0" lang="en-US" sz="1200" spc="-1" strike="noStrike" u="sng">
                <a:solidFill>
                  <a:srgbClr val="009999"/>
                </a:solidFill>
                <a:uFillTx/>
                <a:latin typeface="Pigiarniq"/>
                <a:hlinkClick r:id="rId5"/>
              </a:rPr>
              <a:t>.ca/finance/bp0506/env05.</a:t>
            </a:r>
            <a:r>
              <a:rPr b="0" lang="en-US" sz="1200" spc="-1" strike="noStrike" u="sng">
                <a:solidFill>
                  <a:srgbClr val="009999"/>
                </a:solidFill>
                <a:uFillTx/>
                <a:latin typeface="Pigiarniq"/>
                <a:hlinkClick r:id="rId6"/>
              </a:rPr>
              <a:t>pdf</a:t>
            </a:r>
            <a:r>
              <a:rPr b="0" lang="en-US" sz="4000" spc="-1" strike="noStrike">
                <a:solidFill>
                  <a:srgbClr val="000000"/>
                </a:solidFill>
                <a:latin typeface="Arial"/>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id-ID" sz="4000" spc="-1" strike="noStrike">
                <a:solidFill>
                  <a:srgbClr val="000000"/>
                </a:solidFill>
                <a:latin typeface="Pigiarniq"/>
              </a:rPr>
              <a:t>ᐃᓄᐃᑦ ᐃᓱᒪᒋᔭᖃᖅᐸᒃᐳᑦ ᓂᕐᔪᑎᓂᒃ ᐊᒻᒪ ᐆᒪᔪᓕᒫᑦᑎᐊᓂᒃ ᐊᔾᔨᒌᒃᑎᑕᐅᓪᓗᑎᒃ</a:t>
            </a:r>
            <a:r>
              <a:rPr b="0" lang="en-US" sz="4000" spc="-1" strike="noStrike">
                <a:solidFill>
                  <a:srgbClr val="000000"/>
                </a:solidFill>
                <a:latin typeface="Pigiarniq"/>
              </a:rPr>
              <a:t>”</a:t>
            </a:r>
            <a:endParaRPr b="0" lang="en-US" sz="4000" spc="-1" strike="noStrike">
              <a:solidFill>
                <a:srgbClr val="000000"/>
              </a:solidFill>
              <a:latin typeface="Arial"/>
            </a:endParaRPr>
          </a:p>
        </p:txBody>
      </p:sp>
      <p:sp>
        <p:nvSpPr>
          <p:cNvPr id="43" name="PlaceHolder 2"/>
          <p:cNvSpPr>
            <a:spLocks noGrp="1"/>
          </p:cNvSpPr>
          <p:nvPr>
            <p:ph type="subTitle"/>
          </p:nvPr>
        </p:nvSpPr>
        <p:spPr>
          <a:xfrm>
            <a:off x="533520" y="3886200"/>
            <a:ext cx="807696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00000"/>
                </a:solidFill>
                <a:latin typeface="Pigiarniq"/>
              </a:rPr>
              <a:t>ᐱᔭᐅᔪᑦ</a:t>
            </a:r>
            <a:r>
              <a:rPr b="0" lang="en-US" sz="3200" spc="-1" strike="noStrike">
                <a:solidFill>
                  <a:srgbClr val="000000"/>
                </a:solidFill>
                <a:latin typeface="Arial"/>
              </a:rPr>
              <a:t>:  </a:t>
            </a:r>
            <a:r>
              <a:rPr b="0" lang="en-US" sz="1200" spc="-1" strike="noStrike" u="sng">
                <a:solidFill>
                  <a:srgbClr val="009999"/>
                </a:solidFill>
                <a:uFillTx/>
                <a:latin typeface="Arial"/>
                <a:hlinkClick r:id="rId1"/>
              </a:rPr>
              <a:t>http://www.</a:t>
            </a:r>
            <a:r>
              <a:rPr b="0" lang="en-US" sz="1200" spc="-1" strike="noStrike" u="sng">
                <a:solidFill>
                  <a:srgbClr val="009999"/>
                </a:solidFill>
                <a:uFillTx/>
                <a:latin typeface="Arial"/>
                <a:hlinkClick r:id="rId2"/>
              </a:rPr>
              <a:t>tunngavik</a:t>
            </a:r>
            <a:r>
              <a:rPr b="0" lang="en-US" sz="1200" spc="-1" strike="noStrike" u="sng">
                <a:solidFill>
                  <a:srgbClr val="009999"/>
                </a:solidFill>
                <a:uFillTx/>
                <a:latin typeface="Arial"/>
                <a:hlinkClick r:id="rId3"/>
              </a:rPr>
              <a:t>.com/publications/environment/climate-change-</a:t>
            </a:r>
            <a:r>
              <a:rPr b="0" lang="en-US" sz="1200" spc="-1" strike="noStrike" u="sng">
                <a:solidFill>
                  <a:srgbClr val="009999"/>
                </a:solidFill>
                <a:uFillTx/>
                <a:latin typeface="Arial"/>
                <a:hlinkClick r:id="rId4"/>
              </a:rPr>
              <a:t>inuit</a:t>
            </a:r>
            <a:r>
              <a:rPr b="0" lang="en-US" sz="1200" spc="-1" strike="noStrike" u="sng">
                <a:solidFill>
                  <a:srgbClr val="009999"/>
                </a:solidFill>
                <a:uFillTx/>
                <a:latin typeface="Arial"/>
                <a:hlinkClick r:id="rId5"/>
              </a:rPr>
              <a:t>-perspective-en.</a:t>
            </a:r>
            <a:r>
              <a:rPr b="0" lang="en-US" sz="1200" spc="-1" strike="noStrike" u="sng">
                <a:solidFill>
                  <a:srgbClr val="009999"/>
                </a:solidFill>
                <a:uFillTx/>
                <a:latin typeface="Arial"/>
                <a:hlinkClick r:id="rId6"/>
              </a:rPr>
              <a:t>pdf</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4400" spc="-1" strike="noStrike">
                <a:solidFill>
                  <a:srgbClr val="000000"/>
                </a:solidFill>
                <a:latin typeface="Pigiarniq"/>
              </a:rPr>
              <a:t>ᐊᓐᓇᐅᒪᓂᖅ ᓄᓇᒥ</a:t>
            </a:r>
            <a:endParaRPr b="0" lang="en-US" sz="4400" spc="-1" strike="noStrike">
              <a:solidFill>
                <a:srgbClr val="000000"/>
              </a:solidFill>
              <a:latin typeface="Arial"/>
            </a:endParaRPr>
          </a:p>
        </p:txBody>
      </p:sp>
      <p:sp>
        <p:nvSpPr>
          <p:cNvPr id="45" name="PlaceHolder 2"/>
          <p:cNvSpPr>
            <a:spLocks noGrp="1"/>
          </p:cNvSpPr>
          <p:nvPr>
            <p:ph/>
          </p:nvPr>
        </p:nvSpPr>
        <p:spPr>
          <a:xfrm>
            <a:off x="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id-ID" sz="2000" spc="-1" strike="noStrike">
                <a:solidFill>
                  <a:srgbClr val="000000"/>
                </a:solidFill>
                <a:latin typeface="Pigiarniq"/>
              </a:rPr>
              <a:t>ᓇᑦᑎᕐᓯᐅᕐᓂᕐᒥᒃ, ᐊᖑᑎᒃᓴᒪ ᐃᓕᓐᓂᐊᖅᑎᓚᐅᕐᒫᖓ.  ᐅᓇ ᐊᒡᓘᓪᖤᕐᒪᑦ ᑐᑎᓗᑎᑦ ᒪᐅᓇ ᑖᓐᓇ ᐊᒡᓗ ᓯᕗᓂᑦᑎᐊᕐᓃᓕᕐᓗᑎᑦ. ᐃᓕᓯᓗᑎᑦ ᐃᓯᒐᒃᐱᑦ ᐊᑖᓄᑦ, ᓲᕐᓗ ᑐᒃᑑᑉ ᐊᒥᖓᓂᒃ, ᓅᑦᑐᓐᓇᕐᓂᐊᕋᕕᒋᑦ ᐃᓯᒐᑎᑦ ᓂᐱᖃᖏᓪᓗᒍ ᐅᖅᑰᓴᖅᑎᓪᓗᑎᑦ.  ᑕᐃᒪᓕ ᐃᓯᒐᕕᑦ ᐊᑖᓃᑎᑦᑎᖏᒃᑯᕕᑦ ᓇᑦᑎᐅᑉ ᑐᓵᔪᓐᓇᕐᒫᒍ ᕿᑭᕐᕋᕐᕙᓗᐃᑦ.</a:t>
            </a:r>
            <a:r>
              <a:rPr b="0" lang="en-US" sz="2000" spc="-1" strike="noStrike">
                <a:solidFill>
                  <a:srgbClr val="000000"/>
                </a:solidFill>
                <a:latin typeface="Pigiarniq"/>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igiarniq"/>
              </a:rPr>
              <a:t>	</a:t>
            </a:r>
            <a:r>
              <a:rPr b="0" lang="en-US" sz="2000" spc="-1" strike="noStrike">
                <a:solidFill>
                  <a:srgbClr val="000000"/>
                </a:solidFill>
                <a:latin typeface="Pigiarniq"/>
              </a:rPr>
              <a:t>	</a:t>
            </a:r>
            <a:r>
              <a:rPr b="0" lang="en-US" sz="2000" spc="-1" strike="noStrike">
                <a:solidFill>
                  <a:srgbClr val="000000"/>
                </a:solidFill>
                <a:latin typeface="Pigiarniq"/>
              </a:rPr>
              <a:t>	</a:t>
            </a:r>
            <a:r>
              <a:rPr b="0" lang="en-US" sz="2000" spc="-1" strike="noStrike">
                <a:solidFill>
                  <a:srgbClr val="000000"/>
                </a:solidFill>
                <a:latin typeface="Pigiarniq"/>
              </a:rPr>
              <a:t>	</a:t>
            </a:r>
            <a:r>
              <a:rPr b="0" lang="en-US" sz="2000" spc="-1" strike="noStrike">
                <a:solidFill>
                  <a:srgbClr val="000000"/>
                </a:solidFill>
                <a:latin typeface="Pigiarniq"/>
              </a:rPr>
              <a:t>	</a:t>
            </a:r>
            <a:r>
              <a:rPr b="0" lang="en-US" sz="2000" spc="-1" strike="noStrike">
                <a:solidFill>
                  <a:srgbClr val="000000"/>
                </a:solidFill>
                <a:latin typeface="Pigiarniq"/>
              </a:rPr>
              <a:t>–</a:t>
            </a:r>
            <a:r>
              <a:rPr b="0" lang="id-ID" sz="2000" spc="-1" strike="noStrike">
                <a:solidFill>
                  <a:srgbClr val="000000"/>
                </a:solidFill>
                <a:latin typeface="Pigiarniq"/>
              </a:rPr>
              <a:t> </a:t>
            </a:r>
            <a:r>
              <a:rPr b="0" lang="id-ID" sz="2000" spc="-1" strike="noStrike">
                <a:solidFill>
                  <a:srgbClr val="000000"/>
                </a:solidFill>
                <a:latin typeface="Pigiarniq"/>
              </a:rPr>
              <a:t>ᔮᒃ ᐊᓗᓇᒃ, ᐃᓄᐃᓐᓇᐃᑦ</a:t>
            </a:r>
            <a:r>
              <a:rPr b="0" lang="en-US" sz="2000" spc="-1" strike="noStrike">
                <a:solidFill>
                  <a:srgbClr val="000000"/>
                </a:solidFill>
                <a:latin typeface="Pigiarniq"/>
              </a:rPr>
              <a:t>, Iron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igiarniq"/>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igiarniq"/>
              </a:rPr>
              <a:t>	</a:t>
            </a:r>
            <a:r>
              <a:rPr b="0" lang="en-US" sz="2000" spc="-1" strike="noStrike">
                <a:solidFill>
                  <a:srgbClr val="000000"/>
                </a:solidFill>
                <a:latin typeface="Pigiarniq"/>
              </a:rPr>
              <a:t>“</a:t>
            </a:r>
            <a:r>
              <a:rPr b="0" lang="id-ID" sz="2000" spc="-1" strike="noStrike">
                <a:solidFill>
                  <a:srgbClr val="000000"/>
                </a:solidFill>
                <a:latin typeface="Pigiarniq"/>
              </a:rPr>
              <a:t>ᑕᒫᓂ ᐅᒥᖕᒪᖃᓚᐅᕐᓯᒪᖏᑦᑐᖅ, ᑲᓇᖕᓇᖅᐸᓯᖕᒧᑦ ᐊᐅᓪᓚᓕᓚᐅᕐᓯᒪᔪᒍᑦ ᑰᖕᒧᑦ ᐅᒥᖕᒪᒐᓱᒋᐊᕐᖢᑕ.  ᐊᒥᖏᑦ ᐊᓪᓕᓂᕆᕙᓚᐅᖅᑕᕗᑦ ᓂᕿᖏᑦ ᓂᕿᒋᓪᓗᑎᒍ. ᑭᓱᑯᑦᑎᐊᓂᒡᓘᓐᓂᖅ ᐃᒃᓯᓐᓇᕐᓯᕙᓚᐅᖏᑦᑐᒍᑦ</a:t>
            </a:r>
            <a:r>
              <a:rPr b="0" lang="en-US" sz="2000" spc="-1" strike="noStrike">
                <a:solidFill>
                  <a:srgbClr val="000000"/>
                </a:solidFill>
                <a:latin typeface="Pigiarniq"/>
              </a:rPr>
              <a:t>.” *</a:t>
            </a:r>
            <a:endParaRPr b="0" lang="en-US" sz="2000" spc="-1" strike="noStrike">
              <a:solidFill>
                <a:srgbClr val="000000"/>
              </a:solidFill>
              <a:latin typeface="Arial"/>
            </a:endParaRPr>
          </a:p>
          <a:p>
            <a:pPr lvl="4" marL="2057400" indent="0">
              <a:lnSpc>
                <a:spcPct val="8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igiarniq"/>
              </a:rPr>
              <a:t>	</a:t>
            </a:r>
            <a:r>
              <a:rPr b="0" lang="en-US" sz="2000" spc="-1" strike="noStrike">
                <a:solidFill>
                  <a:srgbClr val="000000"/>
                </a:solidFill>
                <a:latin typeface="Pigiarniq"/>
              </a:rPr>
              <a:t>	</a:t>
            </a:r>
            <a:r>
              <a:rPr b="0" lang="en-US" sz="2000" spc="-1" strike="noStrike">
                <a:solidFill>
                  <a:srgbClr val="000000"/>
                </a:solidFill>
                <a:latin typeface="Pigiarniq"/>
              </a:rPr>
              <a:t>	</a:t>
            </a:r>
            <a:r>
              <a:rPr b="0" lang="en-US" sz="2000" spc="-1" strike="noStrike">
                <a:solidFill>
                  <a:srgbClr val="000000"/>
                </a:solidFill>
                <a:latin typeface="Pigiarniq"/>
              </a:rPr>
              <a:t>-</a:t>
            </a:r>
            <a:r>
              <a:rPr b="0" lang="id-ID" sz="2000" spc="-1" strike="noStrike">
                <a:solidFill>
                  <a:srgbClr val="000000"/>
                </a:solidFill>
                <a:latin typeface="Pigiarniq"/>
              </a:rPr>
              <a:t>ᔫ ᐊᑕᐅᔪᐊᒃᔪᒃ, ᐃᓄᐃᓐᓇᐃᑦ</a:t>
            </a:r>
            <a:r>
              <a:rPr b="0" lang="en-US" sz="2000" spc="-1" strike="noStrike">
                <a:solidFill>
                  <a:srgbClr val="000000"/>
                </a:solidFill>
                <a:latin typeface="Pigiarniq"/>
              </a:rPr>
              <a:t>, Iron</a:t>
            </a:r>
            <a:endParaRPr b="0" lang="en-US" sz="2000" spc="-1" strike="noStrike">
              <a:solidFill>
                <a:srgbClr val="000000"/>
              </a:solidFill>
              <a:latin typeface="Arial"/>
            </a:endParaRPr>
          </a:p>
          <a:p>
            <a:pPr lvl="4" marL="2057400" indent="0">
              <a:lnSpc>
                <a:spcPct val="8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4" marL="2057400" indent="0">
              <a:lnSpc>
                <a:spcPct val="8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igiarniq"/>
              </a:rPr>
              <a:t>	</a:t>
            </a:r>
            <a:r>
              <a:rPr b="0" lang="en-US" sz="1200" spc="-1" strike="noStrike">
                <a:solidFill>
                  <a:srgbClr val="000000"/>
                </a:solidFill>
                <a:latin typeface="Pigiarniq"/>
              </a:rPr>
              <a:t>* </a:t>
            </a:r>
            <a:r>
              <a:rPr b="0" lang="id-ID" sz="1200" spc="-1" strike="noStrike">
                <a:solidFill>
                  <a:srgbClr val="000000"/>
                </a:solidFill>
                <a:latin typeface="Pigiarniq"/>
              </a:rPr>
              <a:t>ᐱᔭᐅᔪᑦ: ᐱᐊᓇᑦ, ᔮᓐ ᐊᒻᒪ ᕋᐅᓕ, ᓱᓴᓐ.  “ᐅᓂᒃᑳᖅᑐᐊᑦ ᓄᓇᕗᒥ” ᒪᑭᐅᓪ- ᑯᐃᓐ ᓯᓚᑦᑐᓴᕐᕕᒡᔪᐊᖓᓂ ᑐᓴᒐᒃᓴᑦ </a:t>
            </a:r>
            <a:r>
              <a:rPr b="0" lang="en-US" sz="1200" spc="-1" strike="noStrike">
                <a:solidFill>
                  <a:srgbClr val="000000"/>
                </a:solidFill>
                <a:latin typeface="Pigiarniq"/>
              </a:rPr>
              <a:t>2004.</a:t>
            </a:r>
            <a:endParaRPr b="0" lang="en-US" sz="1200" spc="-1" strike="noStrike">
              <a:solidFill>
                <a:srgbClr val="000000"/>
              </a:solidFill>
              <a:latin typeface="Arial"/>
            </a:endParaRPr>
          </a:p>
          <a:p>
            <a:pPr lvl="4" marL="2057400" indent="0">
              <a:lnSpc>
                <a:spcPct val="8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4" marL="2057400" indent="0">
              <a:lnSpc>
                <a:spcPct val="8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4400" spc="-1" strike="noStrike">
                <a:solidFill>
                  <a:srgbClr val="000000"/>
                </a:solidFill>
                <a:latin typeface="Pigiarniq"/>
              </a:rPr>
              <a:t>ᐃᓄᐃᑦ ᖃᐅᔨᒪᔭᑐᖃᖏᑦ ᐊᓯᕈᖅᐸᓪᓕᐊᓂᖓ</a:t>
            </a:r>
            <a:endParaRPr b="0" lang="en-US" sz="4400" spc="-1" strike="noStrike">
              <a:solidFill>
                <a:srgbClr val="000000"/>
              </a:solidFill>
              <a:latin typeface="Arial"/>
            </a:endParaRPr>
          </a:p>
        </p:txBody>
      </p:sp>
      <p:sp>
        <p:nvSpPr>
          <p:cNvPr id="47" name="PlaceHolder 2"/>
          <p:cNvSpPr>
            <a:spLocks noGrp="1"/>
          </p:cNvSpPr>
          <p:nvPr>
            <p:ph/>
          </p:nvPr>
        </p:nvSpPr>
        <p:spPr>
          <a:xfrm>
            <a:off x="457200" y="1676160"/>
            <a:ext cx="8305920" cy="47242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400" spc="-1" strike="noStrike">
                <a:solidFill>
                  <a:srgbClr val="000000"/>
                </a:solidFill>
                <a:latin typeface="Pigiarniq"/>
              </a:rPr>
              <a:t>“</a:t>
            </a:r>
            <a:r>
              <a:rPr b="0" lang="id-ID" sz="2400" spc="-1" strike="noStrike">
                <a:solidFill>
                  <a:srgbClr val="000000"/>
                </a:solidFill>
                <a:latin typeface="Pigiarniq"/>
              </a:rPr>
              <a:t>ᐃᓄᐃᑦ ᖃᐅᔨᒪᔭᑐᖃᖓ ᐊᑐᕌᐃᒐᒃᑯ ᓄᓇᒥ ᐊᐅᓪᓚᕐᓯᒪᑦᓱᖓ... ᐊᑐᖃᑦᑕᖅᑐᖓ ᓴᓇᕐᕈᑎᓂᒃ ᑭᓱᑐᐃᓐᓇᒥᒃ ᐊᑐᕆᐊᖃᖅᑕᓐᓄᑦ.  ...ᐅᓪᓗᕐᒥ ᐃᖃᓪᓕᐊᓚᐅᕐᓯᒪᔪᖓ ᐊᐃᑉᐸᕋᓗ ᓂᕐᓕᖕᓂᐊᕐᓯᒪᓪᓗᓂ ᐅᐸᒍᑎᔪᓐᓇᕋᓂ ᓂᕐᓕᖕᓄᑦ... ᐅᕙᓐᓄᑦ ᐊᐱᕆᓕᓚᐅᕐᓯᒪᔪᖅ ᖃᓄᕐᓕ ᐱᓂᐊᕐᒪᖔᑦ... ᑕᑭᔪᒥᒃ ᐊᒃᑐᓈᖃᕋᒪ..ᑕᑯᔭᓐᓄᑦ ᐅᔭᕋᖕᒧᑦ ᕿᓚᒃᓱᒍ....ᓯᑰᑉ ᒥᒃᓵᓄᑦ ᐃᒋᓚᐅᖅᑐᒍ.  ....ᐊᒧᓕᕐᓱᒍ ᐊᒃᑐᓇᖅ ᑕᐃᒪᓐᓇ ᓂᕐᓕᓚᐅᕐᓯᒪᔪᒍᑦ... ᓇᖕᒥᓂᖅ ᓴᓇᔭᕋᓄᑦ.</a:t>
            </a:r>
            <a:r>
              <a:rPr b="0" lang="en-US" sz="2400" spc="-1" strike="noStrike">
                <a:solidFill>
                  <a:srgbClr val="000000"/>
                </a:solidFill>
                <a:latin typeface="Pigiarniq"/>
              </a:rPr>
              <a:t>”</a:t>
            </a:r>
            <a:endParaRPr b="0" lang="en-US" sz="24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Pigiarniq"/>
              </a:rPr>
              <a:t>ᓯᐊᓯ ᑭᐊᓇᓕ</a:t>
            </a: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Pigiarniq"/>
              </a:rPr>
              <a:t>ᓴᓇᓐᖑᐊᖅᑎ, ᑭᓐᖓᐃᑦ</a:t>
            </a: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4400" spc="-1" strike="noStrike">
                <a:solidFill>
                  <a:srgbClr val="000000"/>
                </a:solidFill>
                <a:latin typeface="Pigiarniq"/>
              </a:rPr>
              <a:t>ᐊᕐᕌᒍᒥ ᑕᐃᒎᓯᑦ</a:t>
            </a:r>
            <a:endParaRPr b="0" lang="en-US" sz="4400" spc="-1" strike="noStrike">
              <a:solidFill>
                <a:srgbClr val="000000"/>
              </a:solidFill>
              <a:latin typeface="Arial"/>
            </a:endParaRPr>
          </a:p>
        </p:txBody>
      </p:sp>
      <p:sp>
        <p:nvSpPr>
          <p:cNvPr id="49" name="PlaceHolder 2"/>
          <p:cNvSpPr>
            <a:spLocks noGrp="1"/>
          </p:cNvSpPr>
          <p:nvPr>
            <p:ph/>
          </p:nvPr>
        </p:nvSpPr>
        <p:spPr>
          <a:xfrm>
            <a:off x="914400" y="1219320"/>
            <a:ext cx="8229600" cy="50292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000000"/>
                </a:solidFill>
                <a:latin typeface="Pigiarniq"/>
              </a:rPr>
              <a:t> </a:t>
            </a:r>
            <a:r>
              <a:rPr b="0" lang="id-ID" sz="2800" spc="-1" strike="noStrike">
                <a:solidFill>
                  <a:srgbClr val="000000"/>
                </a:solidFill>
                <a:latin typeface="Pigiarniq"/>
              </a:rPr>
              <a:t>8-ᖑᖕᒪᑕ ᐊᕐᕌᒍᒥ ᐃᓄᐃᑦ ᑕᐃᒎᓯᕆᕙᓚᐅᕐᓯᒪᔭᖏᑦ ᓇᓗᓇᐃᕐᓯᔾᔪᑎᒋᓪᓗᒋᑦ.</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Pigiarniq"/>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Pigiarniq"/>
              </a:rPr>
              <a:t>ᐅᑭᐅᖅ, (ᑎᓯᐱᕆ, ᔮᓐᓄᐊᕆ, ᕖᕝᕗᐊᕆ)</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Pigiarniq"/>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Pigiarniq"/>
              </a:rPr>
              <a:t>ᐅᐱᕐᖓᑲᔮᖅ (ᒫᔾᔨ)</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Pigiarniq"/>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Pigiarniq"/>
              </a:rPr>
              <a:t>ᐅᐱᕐᖓᒃᓵᖅ (ᐊᐃᕐᕆᓕ)</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Pigiarniq"/>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Pigiarniq"/>
              </a:rPr>
              <a:t>ᐅᐱᕐᖔᖅ (ᒪᐃ, ᔫᓂ, ᐱᒋᐊᕐᓂᖓ ᔪᓚᐃᑉ)</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Pigiarniq"/>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Pigiarniq"/>
              </a:rPr>
              <a:t>ᐊᐅᔭᖅ (ᐃᓱᐊᓂᑦ ᔪᓚᐃᑦ, ᐊᒡᒌᓯ)</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Pigiarniq"/>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Pigiarniq"/>
              </a:rPr>
              <a:t>ᐅᑭᐊᒃᓴᔮᖅ (ᓯᑎᐱᕆ)</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Pigiarniq"/>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Pigiarniq"/>
              </a:rPr>
              <a:t>ᐅᑭᐊᒃᓵᖅ (ᐊᒃᑑᕙ) </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Pigiarniq"/>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Pigiarniq"/>
              </a:rPr>
              <a:t>ᐅᑭᐊᖅ (ᓄᕕᐱᕆ)</a:t>
            </a:r>
            <a:endParaRPr b="0" lang="en-US" sz="24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igiarniq"/>
              </a:rPr>
              <a:t>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0" y="4568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4400" spc="-1" strike="noStrike">
                <a:solidFill>
                  <a:srgbClr val="000000"/>
                </a:solidFill>
                <a:latin typeface="Pigiarniq"/>
              </a:rPr>
              <a:t>ᐊᕐᕌᒍᒥ ᑕᐃᒎᓯᑦ</a:t>
            </a:r>
            <a:endParaRPr b="0" lang="en-US" sz="4400" spc="-1" strike="noStrike">
              <a:solidFill>
                <a:srgbClr val="000000"/>
              </a:solidFill>
              <a:latin typeface="Arial"/>
            </a:endParaRPr>
          </a:p>
        </p:txBody>
      </p:sp>
      <p:sp>
        <p:nvSpPr>
          <p:cNvPr id="51" name="PlaceHolder 2"/>
          <p:cNvSpPr>
            <a:spLocks noGrp="1"/>
          </p:cNvSpPr>
          <p:nvPr>
            <p:ph/>
          </p:nvPr>
        </p:nvSpPr>
        <p:spPr>
          <a:xfrm>
            <a:off x="0" y="1981080"/>
            <a:ext cx="8229600" cy="414504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id-ID" sz="1800" spc="-1" strike="noStrike">
                <a:solidFill>
                  <a:srgbClr val="000000"/>
                </a:solidFill>
                <a:latin typeface="Pigiarniq"/>
              </a:rPr>
              <a:t>ᐃᓄᐃᑦ ᑕᑎᖃᖃᑦᑕᖅᑐᑦ ᐃᑲᔪᕈᑎᒋᓪᓗᒋᑦ ᓇᓗᓇᐃᕐᑯᑕᕆᓪᓗᒍ ᓯᓚᒧᑦ ᐊᕐᕌᒍᒧᑦ ᐊᓯᔾᔨᖅᐸᓪᓕᐊᔪᒧᑦ ᖃᐅᔨᒪᔾᔪᑎᒋᓪᓗᒍ.</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igiarniq"/>
              </a:rPr>
              <a:t>	</a:t>
            </a:r>
            <a:r>
              <a:rPr b="0" lang="id-ID" sz="1800" spc="-1" strike="noStrike">
                <a:solidFill>
                  <a:srgbClr val="000000"/>
                </a:solidFill>
                <a:latin typeface="Pigiarniq"/>
              </a:rPr>
              <a:t>ᐆᒃᑑᑎᒋᓗᒍ</a:t>
            </a:r>
            <a:r>
              <a:rPr b="0" lang="en-US" sz="1800" spc="-1" strike="noStrike">
                <a:solidFill>
                  <a:srgbClr val="000000"/>
                </a:solidFill>
                <a:latin typeface="Pigiarniq"/>
              </a:rPr>
              <a:t>;</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Pigiarniq"/>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igiarniq"/>
              </a:rPr>
              <a:t> “…</a:t>
            </a:r>
            <a:r>
              <a:rPr b="0" lang="id-ID" sz="1600" spc="-1" strike="noStrike">
                <a:solidFill>
                  <a:srgbClr val="000000"/>
                </a:solidFill>
                <a:latin typeface="Pigiarniq"/>
              </a:rPr>
              <a:t>ᐊᕗᓐᓂᕕᖕᒥ (ᒫᔾᔨᒥ), ᑐᒃᑐᐃᑦ ᐃᕐᓂᐊᕐᓗᖃᑦᑕᕐᒪᑕ, ᓯᓚᐅᑉ ᐃᔾᔭᓂᖓᓄᑦ ᓂᒡᓚᓱᓗᐊᒧᑦ, ᐊᒻᒪ ᓂᒡᓚᓱᓗᐊᒧᑦ, ᖃᒧᑏᑦ ᐱᐊᖏᑦᑐᐊᓘᕙᒡᖢᑎᒃ ᐅᓪᓛᒃᑯᑦ, ᑭᓯᐊᓂ ᐅᓪᓗᕈᖅᐸᓪᓕᐊᓪᓗᓂ ᐱᐊᒃᓯᕙᓪᓕᐊᓪᓗᑎᒃ.</a:t>
            </a:r>
            <a:r>
              <a:rPr b="0" lang="en-US" sz="1600" spc="-1" strike="noStrike">
                <a:solidFill>
                  <a:srgbClr val="000000"/>
                </a:solidFill>
                <a:latin typeface="Pigiarniq"/>
              </a:rPr>
              <a:t>” *</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00"/>
              </a:spcBef>
              <a:buClr>
                <a:srgbClr val="000000"/>
              </a:buClr>
              <a:buFont typeface="Pigiarniq"/>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Pigiarniq"/>
              </a:rPr>
              <a:t>ᐅᑭᐅᕐᒥ (ᔮᓐᓄᐊᕆ, ᕖᕝᕗᐊᕆ) ᑐᕙᖃᓕᖃᑦᑕᖅᑐᖅ, ᑕᐅᕕᒡᔪᐊᖑᓪᓗᓂᓗ ᐊᕐᕌᒍᒥ, ᐅᑭᐅᒃᑯᑦ ᓯᕿᓂᖃᖅᑎᓐᓇᒍ, </a:t>
            </a:r>
            <a:r>
              <a:rPr b="0" i="1" lang="id-ID" sz="1600" spc="-1" strike="noStrike">
                <a:solidFill>
                  <a:srgbClr val="000000"/>
                </a:solidFill>
                <a:latin typeface="Pigiarniq"/>
              </a:rPr>
              <a:t>ᑎᕙᔪᑦ</a:t>
            </a:r>
            <a:r>
              <a:rPr b="0" lang="id-ID" sz="1600" spc="-1" strike="noStrike">
                <a:solidFill>
                  <a:srgbClr val="000000"/>
                </a:solidFill>
                <a:latin typeface="Pigiarniq"/>
              </a:rPr>
              <a:t>, ᓄᓇᖃᖅᑐᑦ ᑐᕙᒥ, ᐊᓯᖏᓪᓗ. </a:t>
            </a:r>
            <a:r>
              <a:rPr b="0" lang="en-US" sz="1600" spc="-1" strike="noStrike">
                <a:solidFill>
                  <a:srgbClr val="000000"/>
                </a:solidFill>
                <a:latin typeface="Pigiarniq"/>
              </a:rPr>
              <a:t> *</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t>
            </a:r>
            <a:r>
              <a:rPr b="0" lang="id-ID" sz="1000" spc="-1" strike="noStrike">
                <a:solidFill>
                  <a:srgbClr val="000000"/>
                </a:solidFill>
                <a:latin typeface="Pigiarniq"/>
              </a:rPr>
              <a:t>ᐱᔭᐅᔪᑦ: ᐱᐊᓇᑦ, ᔮᓐ ᐊᒻᒪ ᕋᐅᓕ, ᓱᓴᓐ.  “ᐅᓂᒃᑳᖅᑐᐊᑦ ᓄᓇᕗᒥ” ᒪᑭᐅᓪ- ᑯᐃᓐ ᓯᓚᑦᑐᓴᕐᕕᒡᔪᐊᖓᓂ ᑐᓴᒐᒃᓴᑦ </a:t>
            </a:r>
            <a:r>
              <a:rPr b="0" lang="en-US" sz="1000" spc="-1" strike="noStrike">
                <a:solidFill>
                  <a:srgbClr val="000000"/>
                </a:solidFill>
                <a:latin typeface="Pigiarniq"/>
              </a:rPr>
              <a:t>2004.</a:t>
            </a:r>
            <a:endParaRPr b="0" lang="en-US" sz="10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990360" y="380520"/>
            <a:ext cx="70866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4000" spc="-1" strike="noStrike">
                <a:solidFill>
                  <a:srgbClr val="000000"/>
                </a:solidFill>
                <a:latin typeface="Pigiarniq"/>
              </a:rPr>
              <a:t>ᐊᕙᑎᓕᕆᓂᕐᒧᑦ ᒪᓕᒐᓕᕆᓂᖅ</a:t>
            </a:r>
            <a:endParaRPr b="0" lang="en-US" sz="4000" spc="-1" strike="noStrike">
              <a:solidFill>
                <a:srgbClr val="000000"/>
              </a:solidFill>
              <a:latin typeface="Arial"/>
            </a:endParaRPr>
          </a:p>
        </p:txBody>
      </p:sp>
      <p:sp>
        <p:nvSpPr>
          <p:cNvPr id="53" name=""/>
          <p:cNvSpPr/>
          <p:nvPr/>
        </p:nvSpPr>
        <p:spPr>
          <a:xfrm>
            <a:off x="838080" y="1295280"/>
            <a:ext cx="73152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igiarniq"/>
              </a:rPr>
              <a:t>‘</a:t>
            </a:r>
            <a:r>
              <a:rPr b="0" lang="id-ID" sz="4000" spc="-1" strike="noStrike">
                <a:solidFill>
                  <a:srgbClr val="000000"/>
                </a:solidFill>
                <a:latin typeface="Pigiarniq"/>
              </a:rPr>
              <a:t>ᐱᔭᕇᖅᐳᖓ</a:t>
            </a:r>
            <a:r>
              <a:rPr b="0" lang="en-US" sz="4000" spc="-1" strike="noStrike">
                <a:solidFill>
                  <a:srgbClr val="000000"/>
                </a:solidFill>
                <a:latin typeface="Pigiarniq"/>
              </a:rPr>
              <a:t>*</a:t>
            </a:r>
            <a:r>
              <a:rPr b="0" lang="en-US" sz="4000" spc="-1" strike="noStrike">
                <a:solidFill>
                  <a:srgbClr val="000000"/>
                </a:solidFill>
                <a:latin typeface="Arial"/>
              </a:rPr>
              <a:t>’</a:t>
            </a:r>
            <a:endParaRPr b="0" lang="en-US" sz="4000" spc="-1" strike="noStrike">
              <a:solidFill>
                <a:srgbClr val="000000"/>
              </a:solidFill>
              <a:latin typeface="Arial"/>
            </a:endParaRPr>
          </a:p>
        </p:txBody>
      </p:sp>
      <p:sp>
        <p:nvSpPr>
          <p:cNvPr id="54" name="PlaceHolder 2"/>
          <p:cNvSpPr>
            <a:spLocks noGrp="1"/>
          </p:cNvSpPr>
          <p:nvPr>
            <p:ph type="subTitle"/>
          </p:nvPr>
        </p:nvSpPr>
        <p:spPr>
          <a:xfrm>
            <a:off x="457200" y="2057040"/>
            <a:ext cx="8305920" cy="685800"/>
          </a:xfrm>
          <a:prstGeom prst="rect">
            <a:avLst/>
          </a:prstGeom>
          <a:noFill/>
          <a:ln w="0">
            <a:noFill/>
          </a:ln>
        </p:spPr>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Pigiarniq"/>
              </a:rPr>
              <a:t>ᐃᓄᐃᑦ ᐃᓕᖅᑯᓯᖓᓐᓂ, ᐊᑐᓂ ᐃᓱᒪᖃᖅᑐᐃᓐᓇᐅᖕᒪᑕ, ᑖᒃᑯᐊᓗ ᐃᓱᒪᖏᑦ ᐊᓪᓕᕐᓇᖅᑐᐃᓐᓇᐅᓪᓗᑎᒃ.</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Pigiarniq"/>
              </a:rPr>
              <a:t>ᐅᖃᓪᓚᒃᑐᖃᖅᑎᓪᓗᒍ ᓂᓪᓕᕆᐊᖃᖏᑦᑐᑦ ᑭᓯᐊᓂ ᑖᓐᓇ ᐅᖃᓪᒪᒃᑐᖅ ᐅᖃᕈᒪᔭᒥᓂᒃ ᐱᔭᕇᒃᓯᒃᐸᑦ ᐃᑲᔪᕈᑎᒋᓂᐊᖅᑕᒥᓂᒃ. ᑖᓐᓇᓘᓐᓃᖅ ᓂᐱᖃᖏᓪᓗᓂ ᐃᓱᒪᒃᓴᕐᓯᐅᕈᑎᖃᕈᒪᒃᐸᑦ, ᐃᓘᓐᓇᖏᑦ ᓈᓚᒋᐊᖃᖅᑐᑦ, ᐅᑕᖅᑭᑦᓯᐊᕐᓗᑎᒃ ᓂᓪᓕᕐᕕᒋᓂᐊᖅᑕᒥᓂᒃ.</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Pigiarniq"/>
              </a:rPr>
              <a:t>ᐅᖃᓪᓚᒃᑎᐅᔪᖅ ᑭᓯᐊᓂ “ᐱᔭᕇᕐᓂᕋᖅᐸᑦ” ᐊᓯᐊᓂᒃ ᐃᓱᒪᒋᔭᒥᓂᒃ ᓂᓪᓕᖅᑐᖃᓕᕋᔭᕐᓗᓂ.</a:t>
            </a:r>
            <a:r>
              <a:rPr b="0" lang="en-US" sz="2000" spc="-1" strike="noStrike">
                <a:solidFill>
                  <a:srgbClr val="000000"/>
                </a:solidFill>
                <a:latin typeface="Pigiarniq"/>
              </a:rPr>
              <a:t> *</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Pigiarniq"/>
              </a:rPr>
              <a:t>	</a:t>
            </a:r>
            <a:r>
              <a:rPr b="0" lang="id-ID" sz="2000" spc="-1" strike="noStrike">
                <a:solidFill>
                  <a:srgbClr val="000000"/>
                </a:solidFill>
                <a:latin typeface="Pigiarniq"/>
              </a:rPr>
              <a:t>	</a:t>
            </a:r>
            <a:r>
              <a:rPr b="0" lang="id-ID" sz="2000" spc="-1" strike="noStrike">
                <a:solidFill>
                  <a:srgbClr val="000000"/>
                </a:solidFill>
                <a:latin typeface="Pigiarniq"/>
              </a:rPr>
              <a:t>	</a:t>
            </a:r>
            <a:r>
              <a:rPr b="0" lang="id-ID" sz="2000" spc="-1" strike="noStrike">
                <a:solidFill>
                  <a:srgbClr val="000000"/>
                </a:solidFill>
                <a:latin typeface="Pigiarniq"/>
              </a:rPr>
              <a:t>	</a:t>
            </a:r>
            <a:r>
              <a:rPr b="0" lang="id-ID" sz="2000" spc="-1" strike="noStrike">
                <a:solidFill>
                  <a:srgbClr val="000000"/>
                </a:solidFill>
                <a:latin typeface="Pigiarniq"/>
              </a:rPr>
              <a:t>- ᕋᐃᑦᓱ ᐊᑎᑦᑐᖅ ᕿᑦᓱᐊᓕᒃ</a:t>
            </a:r>
            <a:endParaRPr b="0" lang="en-US" sz="2000" spc="-1" strike="noStrike">
              <a:solidFill>
                <a:srgbClr val="000000"/>
              </a:solidFill>
              <a:latin typeface="Arial"/>
            </a:endParaRPr>
          </a:p>
        </p:txBody>
      </p:sp>
      <p:sp>
        <p:nvSpPr>
          <p:cNvPr id="55" name=""/>
          <p:cNvSpPr/>
          <p:nvPr/>
        </p:nvSpPr>
        <p:spPr>
          <a:xfrm>
            <a:off x="2590920" y="3886200"/>
            <a:ext cx="36576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895480" y="6019920"/>
            <a:ext cx="6248520" cy="5814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id-ID" sz="1400" spc="-1" strike="noStrike">
                <a:solidFill>
                  <a:srgbClr val="000000"/>
                </a:solidFill>
                <a:latin typeface="Pigiarniq"/>
              </a:rPr>
              <a:t>ᓄᓇᕗᑦ</a:t>
            </a:r>
            <a:r>
              <a:rPr b="0" lang="en-US" sz="1400" spc="-1" strike="noStrike">
                <a:solidFill>
                  <a:srgbClr val="000000"/>
                </a:solidFill>
                <a:latin typeface="Pigiarniq"/>
              </a:rPr>
              <a:t> ’99. </a:t>
            </a:r>
            <a:r>
              <a:rPr b="0" i="1" lang="id-ID" sz="1400" spc="-1" strike="noStrike">
                <a:solidFill>
                  <a:srgbClr val="000000"/>
                </a:solidFill>
                <a:latin typeface="Pigiarniq"/>
              </a:rPr>
              <a:t>ᐃᓅᓂᖅ ᐊᓯᔾᔨᖅᐸᓪᓕᐊᔪᒥ</a:t>
            </a:r>
            <a:r>
              <a:rPr b="0" lang="en-US" sz="1400" spc="-1" strike="noStrike">
                <a:solidFill>
                  <a:srgbClr val="000000"/>
                </a:solidFill>
                <a:latin typeface="Pigiarniq"/>
              </a:rPr>
              <a:t>. 10 </a:t>
            </a:r>
            <a:r>
              <a:rPr b="0" lang="id-ID" sz="1400" spc="-1" strike="noStrike">
                <a:solidFill>
                  <a:srgbClr val="000000"/>
                </a:solidFill>
                <a:latin typeface="Pigiarniq"/>
              </a:rPr>
              <a:t>ᕖᕝᕗᐊᕆ</a:t>
            </a:r>
            <a:r>
              <a:rPr b="0" lang="en-US" sz="1400" spc="-1" strike="noStrike">
                <a:solidFill>
                  <a:srgbClr val="000000"/>
                </a:solidFill>
                <a:latin typeface="Pigiarniq"/>
              </a:rPr>
              <a:t> 2007. </a:t>
            </a:r>
            <a:r>
              <a:rPr b="0" lang="id-ID" sz="1400" spc="-1" strike="noStrike">
                <a:solidFill>
                  <a:srgbClr val="000000"/>
                </a:solidFill>
                <a:latin typeface="Pigiarniq"/>
              </a:rPr>
              <a:t>ᐱᔭᐅᔪᑦ</a:t>
            </a:r>
            <a:r>
              <a:rPr b="0" lang="en-US" sz="1400" spc="-1" strike="noStrike">
                <a:solidFill>
                  <a:srgbClr val="000000"/>
                </a:solidFill>
                <a:latin typeface="Pigiarniq"/>
              </a:rPr>
              <a:t>:  &lt;http://www.nunavut.com/nunavut99/english/change.html&g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533520" y="3805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4000" spc="-1" strike="noStrike">
                <a:solidFill>
                  <a:srgbClr val="000000"/>
                </a:solidFill>
                <a:latin typeface="Pigiarniq"/>
              </a:rPr>
              <a:t>ᐊᒃᑐᐃᓂᖓ ᓯᓚᐅᑉ ᐊᓯᔾᔨᖅᐸᓪᓕᐊᓂᖓᑕ</a:t>
            </a:r>
            <a:endParaRPr b="0" lang="en-US" sz="4000" spc="-1" strike="noStrike">
              <a:solidFill>
                <a:srgbClr val="000000"/>
              </a:solidFill>
              <a:latin typeface="Arial"/>
            </a:endParaRPr>
          </a:p>
        </p:txBody>
      </p:sp>
      <p:sp>
        <p:nvSpPr>
          <p:cNvPr id="58" name="PlaceHolder 2"/>
          <p:cNvSpPr>
            <a:spLocks noGrp="1"/>
          </p:cNvSpPr>
          <p:nvPr>
            <p:ph/>
          </p:nvPr>
        </p:nvSpPr>
        <p:spPr>
          <a:xfrm>
            <a:off x="380880" y="1981080"/>
            <a:ext cx="8382240" cy="502920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Pigiarniq"/>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Pigiarniq"/>
              </a:rPr>
              <a:t>ᐅᓕᓐᓂᖅ ᐊᖏᓕᕙᓪᓕᐊᑎᓪᓗᒍ ᓯᒡᔭᖓᓂᒃ ᓄᖑᑎᕆᕙᓪᓕᐊᕗᖅ ᐊᒻᒪ ᐃᒪᕈᔾᔭᐅᕙᒃᑐᑦ ᐅᓄᕐᓂᖅᓴᐅᓕᕐᖢᑎᒃ</a:t>
            </a:r>
            <a:endParaRPr b="0" lang="en-US" sz="2000" spc="-1" strike="noStrike">
              <a:solidFill>
                <a:srgbClr val="000000"/>
              </a:solidFill>
              <a:latin typeface="Arial"/>
            </a:endParaRPr>
          </a:p>
          <a:p>
            <a:pPr marL="343080" indent="-343080">
              <a:lnSpc>
                <a:spcPct val="100000"/>
              </a:lnSpc>
              <a:spcBef>
                <a:spcPts val="499"/>
              </a:spcBef>
              <a:buClr>
                <a:srgbClr val="000000"/>
              </a:buClr>
              <a:buFont typeface="Pigiarniq"/>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Pigiarniq"/>
              </a:rPr>
              <a:t>ᐊᖑᓇᓱᒃᑎᐅᔪᑦ ᓯᑯᒥᒃ ᐊᑐᕆᐊᖃᖅᐸᓚᐅᖅᑐᑦ, ᐊᐅᓪᓚᖅᑎᓪᓗᒋᑦ, ᐃᖃᓪᓕᐊᖅᑎᓪᓗᒋᓪᓗ, ᑖᒃᑯᐊᓗ ᐅᓗᕆᐊᓇᖅᑐᒦᑐᐃᓐᓇᕆᐊᖃᖅᑐᑦ ᑕᐃᒪᐃᖃᑦᑕᕈᓐᓃᕐᓗᑎᒃ</a:t>
            </a:r>
            <a:endParaRPr b="0" lang="en-US" sz="2000" spc="-1" strike="noStrike">
              <a:solidFill>
                <a:srgbClr val="000000"/>
              </a:solidFill>
              <a:latin typeface="Arial"/>
            </a:endParaRPr>
          </a:p>
          <a:p>
            <a:pPr marL="343080" indent="-343080">
              <a:lnSpc>
                <a:spcPct val="100000"/>
              </a:lnSpc>
              <a:spcBef>
                <a:spcPts val="499"/>
              </a:spcBef>
              <a:buClr>
                <a:srgbClr val="000000"/>
              </a:buClr>
              <a:buFont typeface="Pigiarniq"/>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Pigiarniq"/>
              </a:rPr>
              <a:t>ᓱᒃᑲᔪᒻᒪᕆᖕᒥᒃ ᐊᓯᕈᖅᐸᓪᓕᐊᓂᖓ ᓯᓚᐅᑉ, ᓯᓚᒥᒃ ᓇᓚᐅᑦᑖᕐᓯᔭᕆᐊᒃᓴᖅ ᓇᓕᖅᑯᑦᑕᐃᓇᕈᓐᓃᕐᒪᑦ, ᓯᓚᐅᑉ ᐊᓯᔾᔨᖅᓴᕋᐃᓐᓂᖓᓄᑦ ᐅᕝᕙᓘᓐᓃᑦ ᐃᓕᖅᑯᓯᕐᓱᖏᓐᓂᖓᓄᑦ</a:t>
            </a:r>
            <a:endParaRPr b="0" lang="en-US" sz="2000" spc="-1" strike="noStrike">
              <a:solidFill>
                <a:srgbClr val="000000"/>
              </a:solidFill>
              <a:latin typeface="Arial"/>
            </a:endParaRPr>
          </a:p>
          <a:p>
            <a:pPr marL="343080" indent="-343080">
              <a:lnSpc>
                <a:spcPct val="100000"/>
              </a:lnSpc>
              <a:spcBef>
                <a:spcPts val="499"/>
              </a:spcBef>
              <a:buClr>
                <a:srgbClr val="000000"/>
              </a:buClr>
              <a:buFont typeface="Pigiarniq"/>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Pigiarniq"/>
              </a:rPr>
              <a:t>ᓄᓇᓕᐅᔪᑦ ᐃᓚᖏᑦ ᓄᓇᒥᖕᓂᒃ ᕿᒪᐃᔭᕆᐊᖃᓕᕐᒪᑕ.</a:t>
            </a:r>
            <a:endParaRPr b="0" lang="en-US" sz="2000" spc="-1" strike="noStrike">
              <a:solidFill>
                <a:srgbClr val="000000"/>
              </a:solidFill>
              <a:latin typeface="Arial"/>
            </a:endParaRPr>
          </a:p>
        </p:txBody>
      </p:sp>
      <p:sp>
        <p:nvSpPr>
          <p:cNvPr id="59" name=""/>
          <p:cNvSpPr/>
          <p:nvPr/>
        </p:nvSpPr>
        <p:spPr>
          <a:xfrm>
            <a:off x="838080" y="6095880"/>
            <a:ext cx="80773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Pigiarniq"/>
              </a:rPr>
              <a:t>ᓄᓇᒥᐅᑕᓕᕆᔨᒃᑯᑦ ᑲᓇᑕᒥ</a:t>
            </a:r>
            <a:r>
              <a:rPr b="0" lang="en-US" sz="1200" spc="-1" strike="noStrike">
                <a:solidFill>
                  <a:srgbClr val="000000"/>
                </a:solidFill>
                <a:latin typeface="Pigiarniq"/>
              </a:rPr>
              <a:t>. </a:t>
            </a:r>
            <a:r>
              <a:rPr b="0" i="1" lang="id-ID" sz="1200" spc="-1" strike="noStrike">
                <a:solidFill>
                  <a:srgbClr val="000000"/>
                </a:solidFill>
                <a:latin typeface="Pigiarniq"/>
              </a:rPr>
              <a:t>ᓯᓚᐅᑉ ᐊᓯᔾᔨᖅᐸᓪᓕᐊᓂᖓ ᑲᓇᑕᒥ: ᐊᒡᒍᖅᑐᕐᓯᒪᓂᕐᒥ ᓯᓚᐅᑉ ᐊᓯᔾᔨᖅᐸᓪᓕᐊᓂᖏᑦ - ᓄᓇᕗᑦ</a:t>
            </a:r>
            <a:r>
              <a:rPr b="0" lang="en-US" sz="1200" spc="-1" strike="noStrike">
                <a:solidFill>
                  <a:srgbClr val="000000"/>
                </a:solidFill>
                <a:latin typeface="Pigiarniq"/>
              </a:rPr>
              <a:t>. 10 </a:t>
            </a:r>
            <a:r>
              <a:rPr b="0" lang="id-ID" sz="1200" spc="-1" strike="noStrike">
                <a:solidFill>
                  <a:srgbClr val="000000"/>
                </a:solidFill>
                <a:latin typeface="Pigiarniq"/>
              </a:rPr>
              <a:t>ᕖᕝᕗᐊᕆ</a:t>
            </a:r>
            <a:r>
              <a:rPr b="0" lang="en-US" sz="1200" spc="-1" strike="noStrike">
                <a:solidFill>
                  <a:srgbClr val="000000"/>
                </a:solidFill>
                <a:latin typeface="Pigiarniq"/>
              </a:rPr>
              <a:t> 2007. &lt;http://www.adaptation.nrcan.gc.ca/posters/guides/nunavut_e.php&g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6091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4000" spc="-1" strike="noStrike">
                <a:solidFill>
                  <a:srgbClr val="000000"/>
                </a:solidFill>
                <a:latin typeface="Pigiarniq"/>
              </a:rPr>
              <a:t>ᐱᕙᓪᓕᐊᓂᖅ ᐅᓪᓗᒥᒧᑦ ᑎᑭᓪᓗᒍ</a:t>
            </a:r>
            <a:endParaRPr b="0" lang="en-US" sz="4000" spc="-1" strike="noStrike">
              <a:solidFill>
                <a:srgbClr val="000000"/>
              </a:solidFill>
              <a:latin typeface="Arial"/>
            </a:endParaRPr>
          </a:p>
        </p:txBody>
      </p:sp>
      <p:sp>
        <p:nvSpPr>
          <p:cNvPr id="61" name="PlaceHolder 2"/>
          <p:cNvSpPr>
            <a:spLocks noGrp="1"/>
          </p:cNvSpPr>
          <p:nvPr>
            <p:ph/>
          </p:nvPr>
        </p:nvSpPr>
        <p:spPr>
          <a:xfrm>
            <a:off x="685800" y="2209680"/>
            <a:ext cx="7848720" cy="32004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Pigiarniq"/>
              </a:rPr>
              <a:t>	</a:t>
            </a:r>
            <a:r>
              <a:rPr b="0" lang="id-ID" sz="2400" spc="-1" strike="noStrike">
                <a:solidFill>
                  <a:srgbClr val="000000"/>
                </a:solidFill>
                <a:latin typeface="Pigiarniq"/>
              </a:rPr>
              <a:t>ᓯᓚᐅᑉ ᐊᓯᔾᔨᖅᐸᓪᓕᐊᓂᖓᓄᑦ ᑐᑭᓯᒪᖃᑎᒌᖕᓂᕐᒧᑦ ᐊᖏᖃᑎᒌᒍᑎᐅᔪᑦ ᐊᑎᓕᐅᖅᑕᐅᓚᐅᕐᓯᒪᔪᑦ ᓄᓇᕗᒥ ᐊᒻᒪ ᑲᓇᑕᐅᑉ ᒐᕙᒪᒃᑯᖏᓐᓄᑦ ᐊᒃᑑᕙ 31, 2003-ᖑᑎᓪᓗᒍ, ᐊᒻᒪ ᓇᓗᓇᐃᕐᓯᓯᒪᔪᖅ ᐊᖏᕈᑎᓂᒃ ᐃᖅᑲᓇᐃᔭᖃᑎᒌᒍᒪᓪᓗᑎᒃ ᐃᑯᓪᓚᐅᒥᑎᖁᓪᓗᒍ ᐃᓯᐊᕿᑎᑦᑎᓂᖅ ᐅᕐᓱᐊᓗᖕᓂᓐᖔᖅᑐᓂᑦ ᐊᒻᒪ ᐊᔾᔨᒌᖏᑦᑐᑦ ᑎᒥᐅᔪᑦ, ᓲᕐᓗ ᐋᑎᒃᓂᐊᑦᑯᑦ, ᓴᖅᑭᑕᐅᓯᒪᓕᖅᑐᑦ ᖃᐅᔨᓴᐃᖁᓪᓗᒋᑦ ᐅᑭᐅᖅᑕᖅᑐᕐᒥᐅᑦ ᓯᓚᖓᓂᒃ.</a:t>
            </a:r>
            <a:endParaRPr b="0" lang="en-US" sz="2400" spc="-1" strike="noStrike">
              <a:solidFill>
                <a:srgbClr val="000000"/>
              </a:solidFill>
              <a:latin typeface="Arial"/>
            </a:endParaRPr>
          </a:p>
        </p:txBody>
      </p:sp>
      <p:sp>
        <p:nvSpPr>
          <p:cNvPr id="62" name=""/>
          <p:cNvSpPr/>
          <p:nvPr/>
        </p:nvSpPr>
        <p:spPr>
          <a:xfrm>
            <a:off x="1295280" y="6095880"/>
            <a:ext cx="7620120" cy="48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Pigiarniq"/>
              </a:rPr>
              <a:t>ᐃᓄᐃᑦ ᑕᐱᕇᑦ ᑲᓇᑕᒥ. ᓯᓚᐅᑉ ᐊᓯᔾᔨᖅᐸᓪᓕᐊᓂᖓ. ᑲᔪᓯᔪᒃᑯᑦ ᖃᐅᔨᓴᖅᑕᐅᓂᖓ ᓯᓚᐅᑉ ᐊᓯᕈᖅᐸᓪᓕᐊᓂᖓ</a:t>
            </a:r>
            <a:r>
              <a:rPr b="0" lang="en-US" sz="1200" spc="-1" strike="noStrike">
                <a:solidFill>
                  <a:srgbClr val="000000"/>
                </a:solidFill>
                <a:latin typeface="Pigiarniq"/>
              </a:rPr>
              <a:t> 10 </a:t>
            </a:r>
            <a:r>
              <a:rPr b="0" lang="id-ID" sz="1200" spc="-1" strike="noStrike">
                <a:solidFill>
                  <a:srgbClr val="000000"/>
                </a:solidFill>
                <a:latin typeface="Pigiarniq"/>
              </a:rPr>
              <a:t>ᕖᕝᕗᐊᕆ </a:t>
            </a:r>
            <a:r>
              <a:rPr b="0" lang="en-US" sz="1200" spc="-1" strike="noStrike">
                <a:solidFill>
                  <a:srgbClr val="000000"/>
                </a:solidFill>
                <a:latin typeface="Pigiarniq"/>
              </a:rPr>
              <a:t>2007.</a:t>
            </a:r>
            <a:r>
              <a:rPr b="0" lang="en-US" sz="1400" spc="-1" strike="noStrike">
                <a:solidFill>
                  <a:srgbClr val="000000"/>
                </a:solidFill>
                <a:latin typeface="Arial"/>
              </a:rPr>
              <a:t> &lt;http://www.itk.ca/environment/climate-change-index.php&g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07T17:29:03Z</dcterms:created>
  <dc:creator>Melissa</dc:creator>
  <dc:description/>
  <dc:language>en-US</dc:language>
  <cp:lastModifiedBy> </cp:lastModifiedBy>
  <dcterms:modified xsi:type="dcterms:W3CDTF">2007-03-19T21:45:47Z</dcterms:modified>
  <cp:revision>34</cp:revision>
  <dc:subject/>
  <dc:title>Environmental Stewardship</dc:title>
</cp:coreProperties>
</file>