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632-D7CF-407E-AB3E-E02BF96C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2CD-F9CB-436F-A902-4E18BE1E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C0A-2354-4A13-96FD-EBCFA260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D53-F7B8-4FDE-818E-E0087886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6AB-EE91-4104-B134-5B28AF9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C30-BD91-4C47-A5F5-469B49DF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496-76A2-4B90-8B1E-A7EA403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19C-C1E7-4B59-ADED-EB18E322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6A4-A15D-4E22-8F7F-6922C3E2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D8A-8799-45EC-82F6-1124B134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DB2-939C-4294-A7E4-71A4D9F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590-7007-41C3-9B0C-473D9E0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92B-AB88-4C00-8E1A-BCF462D5F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v.nu.ca/cley/home/english/department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v.nu.ca/Nunavut/English/about/cg.pdf" TargetMode="External"/><Relationship Id="rId2" Type="http://schemas.openxmlformats.org/officeDocument/2006/relationships/hyperlink" Target="http://www.gov.nu.ca/Nunavut/English/about/cg.pdf" TargetMode="External"/><Relationship Id="rId3" Type="http://schemas.openxmlformats.org/officeDocument/2006/relationships/hyperlink" Target="http://www.gov.nu.ca/Nunavut/English/about/cg.pdf" TargetMode="External"/><Relationship Id="rId4" Type="http://schemas.openxmlformats.org/officeDocument/2006/relationships/hyperlink" Target="http://www.gov.nu.ca/Nunavut/English/about/cg.pdf" TargetMode="External"/><Relationship Id="rId5" Type="http://schemas.openxmlformats.org/officeDocument/2006/relationships/hyperlink" Target="http://www.gov.nu.ca/Nunavut/English/about/cg.pdf" TargetMode="External"/><Relationship Id="rId6" Type="http://schemas.openxmlformats.org/officeDocument/2006/relationships/hyperlink" Target="http://www.gov.nu.ca/Nunavut/English/about/cg.pdf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v.nu.ca/Nunavut/English/about/cg.pdf" TargetMode="External"/><Relationship Id="rId2" Type="http://schemas.openxmlformats.org/officeDocument/2006/relationships/hyperlink" Target="http://www.gov.nu.ca/Nunavut/English/about/cg.pdf" TargetMode="External"/><Relationship Id="rId3" Type="http://schemas.openxmlformats.org/officeDocument/2006/relationships/hyperlink" Target="http://www.gov.nu.ca/Nunavut/English/about/cg.pdf" TargetMode="External"/><Relationship Id="rId4" Type="http://schemas.openxmlformats.org/officeDocument/2006/relationships/hyperlink" Target="http://www.gov.nu.ca/Nunavut/English/about/cg.pdf" TargetMode="External"/><Relationship Id="rId5" Type="http://schemas.openxmlformats.org/officeDocument/2006/relationships/hyperlink" Target="http://www.gov.nu.ca/Nunavut/English/about/cg.pdf" TargetMode="External"/><Relationship Id="rId6" Type="http://schemas.openxmlformats.org/officeDocument/2006/relationships/hyperlink" Target="http://www.gov.nu.ca/Nunavut/English/about/cg.pdf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c.nu.ca/publication/vol1/introduction.html" TargetMode="External"/><Relationship Id="rId2" Type="http://schemas.openxmlformats.org/officeDocument/2006/relationships/hyperlink" Target="http://www.nac.nu.ca/publication/vol1/introduction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v.nu.ca/Nunavut/pinasuaqtavut/engcover.pdf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ᑦ ᐃᓱᒪᓕᐅᕐᓂᖅ ᐊᒻᒪ ᒪᓕᒐᖏᑦ</a:t>
            </a:r>
            <a:br>
              <a:rPr sz="4000"/>
            </a:br>
            <a:r>
              <a:rPr b="1" i="1" lang="id-ID" sz="4400" spc="-1" strike="noStrike">
                <a:solidFill>
                  <a:srgbClr val="000000"/>
                </a:solidFill>
                <a:latin typeface="Pigiarniq"/>
              </a:rPr>
              <a:t>ᐋᔩᖃᑎᒌᖕᓂᐅᑉ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ᒪᓕᒐᖏᑦ ᐊᒻᒪ ᐱᐅᓯᖏᑦ ᐃᓕᖅᑯᓯᓕᕆᔨᒃᑯᑦ ᐅᖃᐅᓯᓕᕆᔨᒃᑯᑦ, ᐃᓐᓇᑐᖃᓕᕆᔨᒃᑯᑦ ᒪᒃᑯᒃᑐᓕᕆᔨᒃᑯᑦ ᐱᓕᕆᕕᐅᓪᓗ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ᐱᖃᓯᐅᔾᔨᓯᒪᔪᑦ ᐃᓄᐃᑦ ᐃᓕᖅᑯᓯᖏᑦᑕ ᐱᐅᓯᖏᓐᓂᒃ ᐊᖅᑯᑎᒋᓪᓗᒋ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ᔪᖏᖅᓴᐅᑎᖃᖅᑐ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ᓱᒪᓕᐅᕐᓂᕐᒥ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ᖅᑯᑎᖃᕐᓗᑎᒃ ᑐᓴᕋᓱᐊᕐᓂᒃᑯᑦ ᐊᒻᒪ ᐊᖏᕐᓯᓯᒪᓂᒃᑯ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ᐊᖏᖃᑎᒌᖕᓂᒃᑯᑦ ᓴᓇᖃᑦᑕᕐᓗᑎᒃ</a:t>
            </a: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ᒪᑐᐃᖓᓗᑎ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ᓚᐅᓂᕐᒧᑦ ᐊᒻᒪ ᑐᓴᕋᓱᐊᕐᓂᕐᒧᑦ,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ᐊᒻᒪᓗ ᐊᓯᖏᑕ ᐃᓱᒪᒋᔭᖏᓐᓂᒃ ᐅᐱᒍᓱᒡᓗᑎ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ᑲᔪᖏᖅᓴᐃᔾᔪᑎᖃᕐᓗᑎᒃ ᐃᓅᓯᓕᒫᕐᒧ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ᓕᓐᓂᐊᕐᓂᕐᒥᒃ</a:t>
            </a:r>
            <a:r>
              <a:rPr b="1" i="1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v.nu.ca/cley/home/english/department.htm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4,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ᑦ ᐃᓱᒪᓕᐅᕐᓂᖅ</a:t>
            </a:r>
            <a:r>
              <a:rPr b="0" lang="en-US" sz="40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ᐋᔩᖃᑎᒌᖕᓂ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ᐊᔪᕐᓴᖏᓪᓗᓂ ᐃᓅᑦᑎᐊᕐᓂᐊᕐᓗᓂ ᐅᑭᐅᖅᑕᖅᑐᕐᒥ ᐊᑕᓂᖃᓚᐅᖅᑐᖅ ᖃᐅᔨᒪᑦᑎᐊᕐᓗᓂ ᑭᓯᐊᓂ, ᓂᕿᒃᓴᕐᓯᐅᕐᓂᕐᒧᑦ, ᐊᓐᓄᕌᒃᓴᒃᓯᐅᕐᓂᕐᒧᑦ ᐊᒻᒪ ᐊᖏᕐᕋᒃᓴᕐᓯᕐᓂᒧ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ᒪᓐᓇ ᑭᓯᐊᓂ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1" i="1" lang="id-ID" sz="2400" spc="-1" strike="noStrike">
                <a:solidFill>
                  <a:srgbClr val="000000"/>
                </a:solidFill>
                <a:latin typeface="Pigiarniq"/>
              </a:rPr>
              <a:t>ᐅᖃᐅᓯᖃᕐᖢᑎᒃ ᐊᑐᓚᐅᕐᓯᒪᔭᒥᖕᓂᒃ ᖃᐅᔨᒪᓂᕆᔭᖕᒥᓂᒃ ᐃᒻᒥᖕᓂᒃ ᑕᑎᒌᖃᑦᑕᐅᑎᓂᒃᑯᑦ ᐊᒻᒪ ᒪᓕᖕᓂᒃᑯᑦ ᖃᐅᔨᒪᓂᖏᓐᓂᒃ ᐃᓐᓇᐅᔪᑦ ᐊᖏᖃᑎᒌᖕᓂᒃᑯᑦ ᐊᖅᑯᑎᖃᕐᖢᑎᒃ, ᑭᓇᒃᑯᓕᒫᓄᑦ ᐊᑲᐅᓂᖅᐹᖑᔪᓂᒃ ᐱᐅᓯᖃᕈᓐᓇᓚᐅᖅᐳ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i="1" lang="id-ID" sz="900" spc="-1" strike="noStrike">
                <a:solidFill>
                  <a:srgbClr val="000000"/>
                </a:solidFill>
                <a:latin typeface="Pigiarniq"/>
              </a:rPr>
              <a:t>ᐅᖃᓗᕋᐃᑦ</a:t>
            </a:r>
            <a:r>
              <a:rPr b="0" i="1" lang="en-US" sz="900" spc="-1" strike="noStrike">
                <a:solidFill>
                  <a:srgbClr val="000000"/>
                </a:solidFill>
                <a:latin typeface="Pigiarniq"/>
              </a:rPr>
              <a:t>,</a:t>
            </a:r>
            <a:r>
              <a:rPr b="0" i="1" lang="id-ID" sz="9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900" spc="-1" strike="noStrike">
                <a:solidFill>
                  <a:srgbClr val="000000"/>
                </a:solidFill>
                <a:latin typeface="Pigiarniq"/>
              </a:rPr>
              <a:t>ᐅᓂᒃᑳᖅᑐᐊᑦ ᓄᓇᕗᒥ. ᓄᐊᑕᐅᓯᒪᔪᑦ ᑎᑎᕋᖅᑕᐅᓪᓗᑎᒡᓗ ᔮᓐ ᐱᐊᓇᓐᒧᑦ ᐊᒻᒪ ᓱᓴᓐ ᕋᐅᓕᒧᑦ (ᒪᑭᐅᓪ- ᑯᐃᓐ ᓯᓚᑦᑐᓴᕐᕕᒡᔪᐊᖓᓐᓂ ᑐᓴᒐᒃᓴᑦ</a:t>
            </a:r>
            <a:r>
              <a:rPr b="0" lang="en-US" sz="900" spc="-1" strike="noStrike">
                <a:solidFill>
                  <a:srgbClr val="000000"/>
                </a:solidFill>
                <a:latin typeface="Pigiarniq"/>
              </a:rPr>
              <a:t>, 2004)9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ᖃᓄᐃᒻᒪᑦ ᐊᖏᖃᑎᒌᖕᓂᖅ ᐱᒻᒪᕆᐊᓘᕙ</a:t>
            </a:r>
            <a:r>
              <a:rPr b="0" lang="en-US" sz="4000" spc="-1" strike="noStrike">
                <a:solidFill>
                  <a:srgbClr val="000000"/>
                </a:solidFill>
                <a:latin typeface="Pigiarniq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ᑕᐃᒪᓕ ᑭᓇᒃᑯᑐᐃᓐᓇᐃᑦ ᐊᒃᑐᖅᑕᐅᓂᐊᖅᐸᑕ ᓴᖅᑭᑦᑐᒧᑦ, ᐱᒻᒪᕆᐅᕗᖅ ᐃᒪᐃᑦᑑᒃᐸ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800" spc="-1" strike="noStrike">
                <a:solidFill>
                  <a:srgbClr val="000000"/>
                </a:solidFill>
                <a:latin typeface="Pigiarniq"/>
              </a:rPr>
              <a:t>ᑭᓇᒃᑯᓕᒫᑦ ᐃᓚᐅᑎᑕᐅᓗᑎᒃ ᐃᓱᒪᓕᐅᖅᑎᓪᓗᒋᑦ ᐱᓪᓗᒍ ᑕᐃᑦᓱᒪᓂᑐᖃᖅ ᖃᐅᔨᒪᓂᕆᔭᐅᓚᐅᖅᑐᑦ ᐃᓄᖕᓄᑦ ᓇᓗᓇᐃᕐᓯᖕᒪᑦ ᐊᑑᑎᖃᕐᒪᑕ ᑭᓇᒃᑯᓕᒫᑦᑎᐊᑦ ᐱᔪᓐᓇᕐᓂᕆᔭᖏᑦ ᐊᒻᒪ ᐱᓕᕆᔪᒪᓂᕆᔭᖏᑦ ᑲᑐᔾᔭᐅᓪᓗᑎᒃ ᐋᖅᑭᒡᓯᔾᔪᑕᐅᔪᓐᓇᕐᒪᑕ ᐊᑲᐅᓐᖏᓕᐅᕈᑕᐅᔪᒥᒃ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in 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ᐋᖅᑭᒡᓯᔾᔪᑕᐅᓗᓂ ᐅᓄᖅᑐᓂᒃ ᐊᔾᔨᒌᖏᑦᑐᓂᒃ ᐃᓱᒫᓗᒍᑕᐅᔪᓂ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ᐱᖃᓯᐅᔾᔨᓗᓂ ᑭᓯᐊᓂ </a:t>
            </a: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ᐃᓄᐃᑦ ᖃᐅᔨᒪᓂᕆᔭᖏᓐᓂᒃ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 ᓄᐊᑕᐅᓯᒪᔪᓂᒃ ᐊᕐᕌᒍᒐᓴᒡᔪᐊᓄᑦ ᓯᕗᓕᑦᑎᓐᓂᑦ, ᐅᓪᓗᒥᓂᓴᕐᓄᑦ ᐱᔾᔪᑕᐅᔪᓄᑦ ᐊᑐᖅᑕᐅᓗᑎᒃ, ᐊᐅᓚᑦᓯᑦᓯᐊᕈᓐᓇᕋᔭᖅᑐᑦ ᒪᓕᒐᖅᑎᒍᑦ ᐃᓄᖁᑎᒥᖕᓂᒃ ᑭᒡᒐᖅᑐᖅᑎᐅᔪᑦ ᓂᕈᐊᖅᑕᐅᓯᒪᔪ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Pigiarniq"/>
              </a:rPr>
              <a:t>ᑕᑯᒋᐊᕐᓂᖅ ᐃᓄᐃᑦ ᓯᕗᓕᕕᓂᖏᓐᓄ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ᐆᒪᓂᐊᕐᓗ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ᑎᖃᕆᐊᖃᕐᓇᕐᒪᑦ ᖃᐅᔨᒪᓂᕆᔭᖏᓐᓂᒃ ᐃᓐᓇᑐᖃᐃᑦ ᓄᓇᑦᑎᓐᓃᑦᑐᑦ, ᑕᐃᒪᓐᓇ ᐊᖏᕐᓯᓗᑕ ᐊᒻᒪ ᒪᓕᒃᓯᓗᑕ ᓯᕗᓕᖅᑎᒋᔭᑦᑎᓐᓂ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ᓯᕗᓕᖅᑎᐅᔪᑦ ᐃᓐᓇᐅᒐᔪᓚᐅᖅᑐᑦ, ᑖᒃᑯᐊ ᖃᐅᔨᒪᓂᖅᓴᐅᒐᒥᒃ ᐊᕙᑎᒋᔭᑦᑎᓐᓂᒃ ᖃᐅᔨᒪᓂᖅᓴᐅᒐᒥᒃ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ᔨᒥ ᕿᓚᕝᕙᖅ, ᐅᖅᑯᕐᒥᐅᑦ, ᓄᑭᕈᐊ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ᐅᖅᑯᕐᒥᐅᑦ, ᐅᓂᒃᑳᖏᑦ ᓯᕗᓕᕕᓂᖏᑦ ᓄᓇᕗᒥᐅᑦ.  ᓄᐊᑕᐅᓯᒪᔪᑦ ᑎᑎᕋᖅᑕᐅᓪᓗᑎᒡᓗ ᔭᓐ ᐱᐊᓇᑦᒧᑦ ᐊᒻᒪ ᓱᓴᓐ ᕋᐅᓕᒧᑦ (ᒪᒋᐅᓪ-ᑯᐃᓐ ᓯᓚᑦᑐᓴᕐᕕᖓᓐᓂ ᑐᓴᒐᒃᓴ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2004)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44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(IQ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1" i="1" lang="id-ID" sz="3600" spc="-1" strike="noStrike">
                <a:solidFill>
                  <a:srgbClr val="000000"/>
                </a:solidFill>
                <a:latin typeface="Pigiarniq"/>
              </a:rPr>
              <a:t>ᐃᓄᐃᑦ ᖃᐅᔨᒪᔭᑐᖃᖏᑦ</a:t>
            </a:r>
            <a:r>
              <a:rPr b="0" lang="en-US" sz="36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ᑐᑭᒧᐊᒍᑕᐅᓪᓗᑎᒃ ᒪᓕᒐᕆᔭᐅᔪᑦ ᒐᕙᒪᐅᔪᓄᑦ</a:t>
            </a:r>
            <a:r>
              <a:rPr b="1" i="1" lang="en-US" sz="3200" spc="-1" strike="noStrike">
                <a:solidFill>
                  <a:srgbClr val="000000"/>
                </a:solidFill>
                <a:latin typeface="Pigiarniq"/>
              </a:rPr>
              <a:t>.</a:t>
            </a:r>
            <a:r>
              <a:rPr b="1" i="1" lang="id-ID" sz="32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ᓄᐃᑦ ᖃᐅᔨᒪᔭᑐᖃᖏᑦ ᐱᖃᓯᐅᔾᔨᓯᕗᖅ ᐃᓄᐃᑦ ᐱᖅᑯᓯᑐᖃᖏᓐᓄᑦ ᖃᐅᔨᒪᓂᕆᔭᐅᔪᓂᒃ ᐊᒻᒪ ᐱᖅᑯᓯᖓᓐᓂᒃ, ᐊᒻᒪ ᑐᑭᒧᐊᒍᑕᐅᓪᓗᑎᒃ ᒐᕙᒪᒃᑯᓐᓄᑦ ᐃᓱᒪᓕᐅᕈᑕᐅᔪᓄᑦ ᐋᖅᑭᒡᓱᐃᔾᔪᑕᐅᓪᓗᑎᒃ, ᐊᑐᐊᒐᕐᓄᑦ ᐊᒻᒪ ᒪᓕᒐᕐᓄᑦ ᐱᖃᐅᓯᔾᔨᓯᒪᔪᓂᒃ ᐃᓱᒪᒋᔭᐅᔪᓂᒃ, ᐃᓕᖅᑯᕆᔭᐅᔪᓂᒃ ᓄᓇᕗᒥᐅᑦ ᐃᓄᖏᓐᓄᑦ ᐅᓄᕐᓂᖅᓴᐅᔪᓄᑦ.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”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ᓄᓇᕗᑦ ᒐᕙᒪᖓᑦ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gov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3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4"/>
              </a:rPr>
              <a:t>nu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5"/>
              </a:rPr>
              <a:t>.ca/Nunavut/English/about/cg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igiarniq"/>
                <a:hlinkClick r:id="rId6"/>
              </a:rPr>
              <a:t>pdf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4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400" spc="-1" strike="noStrike">
                <a:solidFill>
                  <a:srgbClr val="000000"/>
                </a:solidFill>
                <a:latin typeface="Pigiarniq"/>
              </a:rPr>
              <a:t> 14,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ᖏᖃᑎᒌᖕᓂᒃᑯᖓᔪᑦ ᒐᕙᒪᐅᔪ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3929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ᐊᖏᖃᑎᒌᖕᓂᒃᑯᑦ ᒐᕙᒪᖃᕐᓂᖅ ᐊᐅᓚᓂᐅᕗᖅ ᐱᖃᓯᐅᔾᔨᓯᒪᓪᓗᓂ ᒪᓕᒐᖏᓐᓂ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ᐱᖁᔭᓕᐅᖅᑎᕐᔪᐊᑦ ᓂᕈᐊᖅᑕᐅᕙᒃᑐᑦ ᒪᓕᒐᖏᓐᓂ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ᐱᖃᓯᐅᔾᔨᓪᓗᑎ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ᓄᓇᖃᖅᑳᕐᓯᒪᔪᑦ ᐱᖅᑯᓯᖏᓐᓂᒃ.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ᐊᖏᖃᑎᒌᖕᓂᒃᑯᑦ ᐊᐅᓚᓂᖃᖅᑐᑦ ᒐᕙᒪᐅᔪᑦ ᐅᓄᕐᓂᖅᓴᐅᔪᑦ ᐃᑲᔪᖅᑐᐃᓗᑎᒃ ᐊᓂᒍᖅᑎᑦᓯᔪᓐᓇᖅᐳᑦ ᐱᖁᔭᕐᒥ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gov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4"/>
              </a:rPr>
              <a:t>nu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5"/>
              </a:rPr>
              <a:t>.ca/Nunavut/English/about/cg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Pigiarniq"/>
                <a:hlinkClick r:id="rId6"/>
              </a:rPr>
              <a:t>pdf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14,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ᒐᕙᒪᒃᑯᑦ ᐋᖅᑭᒡᓯᒪᓂᖓ ᓄᓇᕗ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ᓄᓇᕗᑦ ᒐᕙᒪᒃᑯᖏᑦ ᓇᖕᒥᓂᖅ ᒐᕙᒪᕆᔭᐅᖏᑦᑐᖅ, ᑭᓇᒃᑯᓕᒫᓄᑦ ᒐᕙᒪᕆᔭᐅᔪ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(46%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 ᖏᑦ ᐃᓄᖏᑕ ᐃᖅᑲᓇᐃᔭᖅᑐᑦ ᒐᕙᒪᒃᑯᓐᓄᑦ</a:t>
            </a:r>
            <a:r>
              <a:rPr b="0" lang="en-US" sz="2800" spc="-1" strike="noStrike">
                <a:solidFill>
                  <a:srgbClr val="000000"/>
                </a:solidFill>
                <a:latin typeface="Pigiarniq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19-ᖑᔪᑦ ᒪᓕᒐᓕᐅᖅᑎᑦ ᑲᑎᒪᔨᖏᑦ ᓂᕈᐊᖅᑕᐅᖃᑦᑕᖅᑐᑦ ᓄᓇᕗ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ᒪᓕᒐᓕᐅᖅᑎᑦ ᑲᑎᒪᔨᖏᑦ ᓂᕈᐊᖃᑦᑕᖅᑐᑦ 8-ᓂᒃ ᒥᓂᔅᑕᐅᓂᐊᖅᑐᓂᒃ ᑲᑎᒪᔨᐅᖃᑎᒥᖕᓂᑦ ᐊᒻᒪ ᓯᕗᓕᖅᑎᐅᔪᖅ ᑎᒃᑯᐊᕐᓯᖃᑦᑕᖅᑐᑦ ᓇᓕᐊᖕᓄᑦ ᒥᓂᔅᑕᐅᓂᐊᕐᒪᖔ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ᑲᒥᓴᓇᖃᐅᕐᒥᔪᖅ ᐊᑐᓂ ᒥᓂᔅᑕᐅᑉ ᐱᓕᕆᕕᖁᑎᖏᓐ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ᐅᓄᑲᓪᓚᒃᑐᑦ ᐃᓐᓇᐅᔪᑦ ᐱᖁᔭᓕᐅᕐᕕᖓᓐᓂ ᐅᖃᐅᔾᔨᒋᐊᖅᑎᐅᔪᑦ ᒐᕙᒪᒃᑯᖏᓐᓂ ᓄᓇᕗᑦ ᐊᒃᑐᐊᓂᖃᖅᑐᓂᒃ ᐃᓄᐃᑦ ᖃᐅᔨᒪᓂᖏᓐᓄᑦ ᐱᓕᕆᐊᖃᖅᑎᓪᓗᒋ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ᐱᓕᕆᖃᑕᐅᓂᖏᑦ ᐃᓐᓇᐃᑦ ᒐᕙᒪᒃᑯᑦ ᐃᓗᐊ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ᑕᐃᒪᓐᖓᑦ ᐃᓅᓯᕆᔭᑦᑎᓐᓂ ᐅᐱᒋᔭᐅᖏᓐᓇᐅᔭᕐᒪᑕ, ᐱᔾᔪᑎᒋᓪᓗᒋᑦ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ᖃᐅᔨᒪᓂᕆᔭᖏᑦ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ᐊᒻᒪ </a:t>
            </a:r>
            <a:r>
              <a:rPr b="1" i="1" lang="id-ID" sz="2000" spc="-1" strike="noStrike">
                <a:solidFill>
                  <a:srgbClr val="000000"/>
                </a:solidFill>
                <a:latin typeface="Pigiarniq"/>
              </a:rPr>
              <a:t>ᐊᑐᕐᓯᒪᓂᕆᔭᖏᑦ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ᑐᑭᒧᐊᒍᑕᐅᕙᓚᐅᕐᒪᑕ ᓄᖃᕐᖠᐅᔪᓄᑦ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ᐃᓐᓇᐃᑦ ᐅᖃᐅᔾᔨᒋᐊᖅᑎᐅᓪᓗᑎᒃ ᐱᖅᑯᓯᑐᖃᕐᒧᑦ ᐊᖏᕈᑎᐅᔪᓄᑦ ᒪᓕᒐᓕᐊᓄᑦ ᒐᕙᒪᒃᑯᑦ ᒪᓕᒃᓯᒪᑦᑎᐊᖁᓪᓗᒋᑦ ᑎᓕᔭᐅᓯᒪᔾᔪᑎᒋᔭᒥᖕᓂᒃ ᐱᖅᑯᓯᑐᖃᕐᓂᒃ ᐊᓐᓂᕆᔭᐅᔪᓂᒃ ᐃᓱᒪᖃᓯᐅᔾᔨᖃᑦᑕᖁᓪᓗᒋᑦ ᐃᓘᓐᓇᖏᓐᓂ ᐱᖁᔭᓕᐊᖏᓐ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1600" spc="-1" strike="noStrike">
                <a:solidFill>
                  <a:srgbClr val="000000"/>
                </a:solidFill>
                <a:latin typeface="Pigiarniq"/>
              </a:rPr>
              <a:t>ᐅᓪᓗᒥᐅᓕᖅᑐᑦ ᖃᓪᓗᓈᑦ ᐱᖁᔭᖏᑦ ᓴᓐᖏᔪᒃᑯᑦ ᐊᒃᑐᐃᓯᒪᖕᒪᑕ ᐃᓄᐃᑦ ᐃᓕᖅᑯᓯᖓᓐᓄᑦ ᐊᒻᒪ ᐃᓄᐃᑦ ᐃᓐᓇᖁᑎᖏᑦ ᐅᐱᒍᓱᓗᐊᖏᒻᒪᑕ ᓱᒃᑲᐃᓐᓂᖏᓐᓄᑦ.  ᐃᒃᐱᒍᓱᒃᑐᑦ ᐅᓄᖅᑐᑦ ᐃᓅᓯᕐᒧᑦ ᐊᑲᐅᓐᖏᓕᐅᕈᑎᐅᔪᑦ ᐅᓪᓗᒥᐅᔪᖅ ᐃᓄᐃᑦ ᐃᓅᓯᖏᓐᓄᑦ ᑲᒪᒋᔭᐅᔭᕆᐊᖃᕐᓂᖏᓐᓂᒃ ᓄᓇᓕᐅᔪᑦ ᐃᓗᐊᓂᒍᑦ ᓇᖕᒥᓂᖅ.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”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nac.nu.ca/publication/vol1/introduction.html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Feb. 22,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2"/>
              </a:rPr>
              <a:t>http://www.nac.nu.ca/publication/vol2/introduction.html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Feb. 22,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ᑐᑭᒧᐊᒍᑎᑦ ᒪᓕᒐᖏᑦ ᐃᓐᓇᐃ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ᐃᓅᖃᑎᒌᑦᓯᐊ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ᓯᒥᓂᒃ ᐅᐱᒍᓱᑦᓯᐊᕐᓂᖅ, ᐱᓕᕆᖃᑎᖃᕐᓂᖅ ᐊᒻᒪ ᐸᖅᑭᒡᓯᕐᓂᖅ ᐃᓅᖃᑎᒥᖕ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ᑐᓐᖓᓇ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ᐊᑐᕐᓗᑎᒃ ᐱᐅᔪᒥᒃ ᒪᑐᐃᖓᑦᓯᐊᕐᓗᓂ, ᑐᓐᖓᓇᕐᓗᓂ ᐊᒻᒪ ᐱᖃᓯᐅᔾᔨᓯᒪᓗ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ᐱᔨᑦᓯᕐ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ᐱᔨᑦᓯᕐᓂᖅ ᐊᒻᒪ ᐃᓚᒥᓂᒃ ᓂᕿᖃᖅᑎᑦᓯᓂᖅ ᐊᒻᒪ/ᐅᕝᕙᓘᓐᓃᑦ ᓄᓇᖅᑲᑎᒥᓂ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Pigiarniq"/>
              </a:rPr>
              <a:t>ᐋᔩᖃᑎᒌᖕᓂᖅ</a:t>
            </a:r>
            <a:r>
              <a:rPr b="1" lang="en-US" sz="2800" spc="-1" strike="noStrike">
                <a:solidFill>
                  <a:srgbClr val="000000"/>
                </a:solidFill>
                <a:latin typeface="Pigiarniq"/>
              </a:rPr>
              <a:t>: </a:t>
            </a:r>
            <a:r>
              <a:rPr b="0" lang="id-ID" sz="2800" spc="-1" strike="noStrike">
                <a:solidFill>
                  <a:srgbClr val="000000"/>
                </a:solidFill>
                <a:latin typeface="Pigiarniq"/>
              </a:rPr>
              <a:t>ᐃᓱᒪᓕᐅᕐᓂᖅ ᐅᖃᖃᑎᒌᖕᓂᒃᑯᑦ ᐊᒻᒪ ᐋᔩᖃᑎᒌᖕᓂᒃᑯ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Pigiarniq"/>
                <a:hlinkClick r:id="rId1"/>
              </a:rPr>
              <a:t>http://www.gov.nu.ca/Nunavut/pinasuaqtavut/engcover.pdf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- </a:t>
            </a:r>
            <a:r>
              <a:rPr b="0" lang="id-ID" sz="1000" spc="-1" strike="noStrike">
                <a:solidFill>
                  <a:srgbClr val="000000"/>
                </a:solidFill>
                <a:latin typeface="Pigiarniq"/>
              </a:rPr>
              <a:t>ᕖᕝᕗᐊᕆ</a:t>
            </a:r>
            <a:r>
              <a:rPr b="0" lang="en-US" sz="1000" spc="-1" strike="noStrike">
                <a:solidFill>
                  <a:srgbClr val="000000"/>
                </a:solidFill>
                <a:latin typeface="Pigiarniq"/>
              </a:rPr>
              <a:t> 20,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ᖅᑯᓯᓕᕆᔨᒃᑯᑦ, ᐅᖃᐅᓯᓕᕆᔨᒃᑯᑦ, ᐃᓐᓇᑐᖃᓕᕆᔨᒃᑯᑦ ᐊᒻᒪ ᒪᒃᑯᒃᑐᓕᕆᔨᒃᑯ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ᐃᓱᒪᒐᔪᖕᓂ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igiarniq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Pigiarniq"/>
              </a:rPr>
              <a:t>ᐱᓕᕆᕕᖓ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Pigiarniq"/>
              </a:rPr>
              <a:t>ᓄᓇᕗᑦ ᒐᕙᒪᒃᑯᖏᑕ ᓴᓇᔭᐅᓚᐅᕐᓯᒪᔪᖅ ᓴᖅᑭᑦᑎᖁᓪᓗᒋᑦ ᓂᕈᐊᖅᑕᐅᓯᒪᔪᑦ ᐱᐅᓯᖓᑎᒍᑦ ᐊᒻᒪ ᐸᐃᑉᐹᓕᕆᔾᔪᑎᖏᑦ ᐊᒃᑐᐊᓂᖅᓴᐅᓗᑎᒃ ᐃᓄᐃᑦ ᐃᓕᖅᑯᓯᖏᓐᓄᑦ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igiarniq"/>
              </a:rPr>
              <a:t>*</a:t>
            </a:r>
            <a:r>
              <a:rPr b="0" i="1" lang="id-ID" sz="1200" spc="-1" strike="noStrike">
                <a:solidFill>
                  <a:srgbClr val="000000"/>
                </a:solidFill>
                <a:latin typeface="Pigiarniq"/>
              </a:rPr>
              <a:t> ᑲᓇᑕ </a:t>
            </a:r>
            <a:r>
              <a:rPr b="0" lang="id-ID" sz="1200" spc="-1" strike="noStrike">
                <a:solidFill>
                  <a:srgbClr val="000000"/>
                </a:solidFill>
                <a:latin typeface="Pigiarniq"/>
              </a:rPr>
              <a:t>ᖃᓄᐃᓐᓂᕆᔭᖓ ᒐᕙᒪᐅᔪᑦ 2003 ᐋᖅᑭᒡᓱᖅᑕᐅᒃᑲᓐᓂᕐᓂᖓ ᓄᓇᖃᖅᑳᕐᓯᒪᔪᑦ ᒐᕙᒪᖏᑦ ᑎᑎᕋᖅᑕᐅᔪᑦ ᒪᐃᒃ ᒧᕕᒧᑦ</a:t>
            </a: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igiarniq"/>
              </a:rPr>
              <a:t>(McGill-Queen's University Press, 2005)2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20:25Z</dcterms:created>
  <dc:creator>simon jr hall</dc:creator>
  <dc:description/>
  <dc:language>en-US</dc:language>
  <cp:lastModifiedBy> </cp:lastModifiedBy>
  <dcterms:modified xsi:type="dcterms:W3CDTF">2007-03-19T23:26:17Z</dcterms:modified>
  <cp:revision>69</cp:revision>
  <dc:subject/>
  <dc:title>     Consensus government</dc:title>
</cp:coreProperties>
</file>